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999212629424"/>
          <c:y val="0.0199460107978404"/>
          <c:w val="0.696941065312389"/>
          <c:h val="0.9397870425914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PhD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861</c:v>
                </c:pt>
                <c:pt idx="1">
                  <c:v>585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Master's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2"/>
                <c:pt idx="0">
                  <c:v>14529</c:v>
                </c:pt>
                <c:pt idx="1">
                  <c:v>632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Bachelor's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2"/>
                <c:pt idx="0">
                  <c:v>37388</c:v>
                </c:pt>
                <c:pt idx="1">
                  <c:v>64904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Projected Job Openings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2"/>
                <c:pt idx="0">
                  <c:v>Computer science</c:v>
                </c:pt>
                <c:pt idx="1">
                  <c:v>Biological science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2"/>
                <c:pt idx="0">
                  <c:v>142900</c:v>
                </c:pt>
                <c:pt idx="1">
                  <c:v>6000</c:v>
                </c:pt>
              </c:numCache>
            </c:numRef>
          </c:val>
        </c:ser>
        <c:gapWidth val="100"/>
        <c:overlap val="0"/>
        <c:axId val="2317179"/>
        <c:axId val="6630940"/>
      </c:barChart>
      <c:catAx>
        <c:axId val="2317179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0940"/>
        <c:crossesAt val="0"/>
        <c:auto val="1"/>
        <c:lblAlgn val="ctr"/>
        <c:lblOffset val="100"/>
        <c:noMultiLvlLbl val="0"/>
      </c:catAx>
      <c:valAx>
        <c:axId val="66309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#,##0\ ;&quot; (&quot;#,##0\);\-#\ ;@\ 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2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7179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6978859100036"/>
          <c:y val="0.306988602279544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5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3DD1-9C06-4491-B30C-A0A2D2787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1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32320" y="129528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519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1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32320" y="400176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9200" y="400176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9200" y="129528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1920" y="400176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3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203480" indent="-1731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1596960" indent="-22068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Slide Number Placeholder 3"/>
          <p:cNvSpPr/>
          <p:nvPr/>
        </p:nvSpPr>
        <p:spPr>
          <a:xfrm>
            <a:off x="822960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8C53-8E91-4668-8B7A-E90B417FB5F2}" type="slidenum">
              <a:rPr b="0" lang="en-US" sz="1200" spc="-1" strike="noStrike">
                <a:solidFill>
                  <a:srgbClr val="424242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AutoShape 3"/>
          <p:cNvSpPr/>
          <p:nvPr/>
        </p:nvSpPr>
        <p:spPr>
          <a:xfrm>
            <a:off x="0" y="0"/>
            <a:ext cx="9144000" cy="1390680"/>
          </a:xfrm>
          <a:prstGeom prst="roundRect">
            <a:avLst>
              <a:gd name="adj" fmla="val 111"/>
            </a:avLst>
          </a:prstGeom>
          <a:gradFill rotWithShape="0">
            <a:gsLst>
              <a:gs pos="0">
                <a:srgbClr val="244e72"/>
              </a:gs>
              <a:gs pos="100000">
                <a:srgbClr val="5a9fd4"/>
              </a:gs>
            </a:gsLst>
            <a:lin ang="4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596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739800" algn="ctr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030320" algn="ctr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376280" algn="ctr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37628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uilding Java Progra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oduction to Java Programm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ructure of 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ry executable Java program consists of a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las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at contains a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method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name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at contains the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statement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commands) to be execut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8640" y="1146240"/>
            <a:ext cx="3529800" cy="398880"/>
            <a:chOff x="3068640" y="1146240"/>
            <a:chExt cx="3529800" cy="398880"/>
          </a:xfrm>
        </p:grpSpPr>
        <p:sp>
          <p:nvSpPr>
            <p:cNvPr id="129" name=""/>
            <p:cNvSpPr/>
            <p:nvPr/>
          </p:nvSpPr>
          <p:spPr>
            <a:xfrm>
              <a:off x="3834720" y="1146240"/>
              <a:ext cx="276372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progr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3068640" y="1247760"/>
              <a:ext cx="93024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743200" y="3316320"/>
            <a:ext cx="5852520" cy="779760"/>
            <a:chOff x="2743200" y="3316320"/>
            <a:chExt cx="5852520" cy="779760"/>
          </a:xfrm>
        </p:grpSpPr>
        <p:sp>
          <p:nvSpPr>
            <p:cNvPr id="132" name=""/>
            <p:cNvSpPr/>
            <p:nvPr/>
          </p:nvSpPr>
          <p:spPr>
            <a:xfrm>
              <a:off x="3136320" y="3697200"/>
              <a:ext cx="545940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2600" indent="-2826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command to be execu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2743200" y="33163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68600" y="2028960"/>
            <a:ext cx="5783040" cy="1084680"/>
            <a:chOff x="3468600" y="2028960"/>
            <a:chExt cx="5783040" cy="1084680"/>
          </a:xfrm>
        </p:grpSpPr>
        <p:sp>
          <p:nvSpPr>
            <p:cNvPr id="135" name=""/>
            <p:cNvSpPr/>
            <p:nvPr/>
          </p:nvSpPr>
          <p:spPr>
            <a:xfrm>
              <a:off x="3468600" y="2409840"/>
              <a:ext cx="5783040" cy="70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314360" indent="-131436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metho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: a named group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of statem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4190760" y="2028960"/>
              <a:ext cx="4568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urier New"/>
              </a:rPr>
              <a:t>System.out.printl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 statement that prints a line of output on the conso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onounced "print-linn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metimes called a "println statement" for sh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wo ways to use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ystem.out.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tex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the given message as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rints a blank line of outpu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ames and identifi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You must give your program a nam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</a:t>
            </a:r>
            <a:r>
              <a:rPr b="1" lang="en-GB" sz="2200" spc="-1" strike="noStrike">
                <a:solidFill>
                  <a:srgbClr val="003399"/>
                </a:solidFill>
                <a:latin typeface="Courier New"/>
              </a:rPr>
              <a:t>GangstaRap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aming convention: capitalize each word (e.g.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yClassNam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r program's file must match exactly (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GangstaRap.java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cludes capitalization (Java is "case-sensitiv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-2246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identifie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 given to an item in your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st start with a letter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ubsequent characters can be any of those or a numb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00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legal:</a:t>
            </a: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urier New"/>
              </a:rPr>
              <a:t>_myName   TheCure   ANSWER_IS_42   $bling$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-169200">
              <a:spcBef>
                <a:spcPts val="451"/>
              </a:spcBef>
              <a:buClr>
                <a:srgbClr val="8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illegal:</a:t>
            </a: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me+u      49ers     side-swipe     Ph.D'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Keywor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keywor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n identifier that you cannot use because it already has a reserved meaning in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abstract    default    if           private      thi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oolean     do         implements   protected    thr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reak       double     import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thr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yte        else       instanceof   return       transi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se        extends    int          short        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atch       final      interface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har        finally    long         strictfp     volat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float      native       super        wh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st       for        new          swi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continue    goto       package      synchron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set of legal structures and commands that can be used in a particular languag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very basic Java statement ends with a semicolon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ntents of a class or method occur between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yntax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piler error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): A problem in the structure of a program that causes the compiler to fai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issing semicol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o many or too few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bra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Illegal identifier for class nam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lass and file names do not matc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yntax error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public class Hello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p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o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System.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owt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.println("Hello, world!")_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Courier New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iler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&lt;identifier&gt;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oo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ello.java:</a:t>
            </a:r>
            <a:r>
              <a:rPr b="1" lang="en-GB" sz="1800" spc="-1" strike="noStrike">
                <a:solidFill>
                  <a:srgbClr val="003399"/>
                </a:solidFill>
                <a:latin typeface="Courier New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: ';' exp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^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2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compiler shows the line number where it found the err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error messages can be tough to understan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ing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-2271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ing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quence of characters to be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tarts and ends with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quote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6040" indent="-1710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quotes do not appear in the outpu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s:</a:t>
            </a:r>
            <a:br>
              <a:rPr sz="2200"/>
            </a:br>
            <a:br>
              <a:rPr sz="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hello"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This is a string.  It's very long!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tric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span multiple lines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</a:t>
            </a:r>
            <a:br>
              <a:rPr sz="20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a legal String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-273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y not contain a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character.</a:t>
            </a:r>
            <a:br>
              <a:rPr sz="2200"/>
            </a:br>
            <a:br>
              <a:rPr sz="800"/>
            </a:br>
            <a:r>
              <a:rPr b="0" lang="en-GB" sz="2000" spc="-1" strike="noStrike">
                <a:solidFill>
                  <a:srgbClr val="800000"/>
                </a:solidFill>
                <a:latin typeface="Courier New"/>
              </a:rPr>
              <a:t>"This is not a "legal" String either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Escape sequenc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escape sequenc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pecial sequence of characters used to represent certain special characters in a string.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t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ab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n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new line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"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quotation mark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ckslash charact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2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System.out.println("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ello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n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t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re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you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"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?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\\\\</a:t>
            </a: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);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hello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ow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re "you"?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is the output of the following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ta\tb\tc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'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\"\"\"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C:\nin\the downward spiral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e a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i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/ \ // \\ /// \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utput of each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a       b       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\\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""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C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     he downward spir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 to produce the line of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/ \\ // \\\\ /// \\\\\\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computer science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udy of theoretical foundations of information and computation and their implementation and application in computer systems.  -- Wikiped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ny subfiel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aphics, Computer 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ientific Compu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bases, Data M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-165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ational Linguistics, Natural Language Processing  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19960" indent="-219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94000" indent="-26532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verlap with CS and EE; emphasizes hardwa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Questio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program prints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quote from the Gettysburg Addre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"Four score and seven years ago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our 'fore fathers' brought forth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is continent a new nation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at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will generate this outpu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 "quoted" String 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much' better if you lea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the rules of "escape sequences.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Also, "" represents an empty Str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Don't forget: use \" instead of "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urier New"/>
              </a:rPr>
              <a:t>'' is not the same as 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program prints 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quote from the Gettysburg Address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\"Four score and seven years ago,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our 'fore fathers' brought forth on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continent a new nation.\"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statements to generate the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 \"quoted\" String is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much' better if you learn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the rules of \"escape sequences.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Also, \"\" represents an empty String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't forget: use \\\" instead of \" !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'' is not the same as \"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mment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ote written in source code by the programmer to describe or clarify the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mments are not executed when your program ru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/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, on one line</a:t>
            </a:r>
            <a:br>
              <a:rPr sz="2200"/>
            </a:br>
            <a:r>
              <a:rPr b="1" i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,</a:t>
            </a:r>
            <a:br>
              <a:rPr sz="2200"/>
            </a:b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/*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ment text; may span multiple lines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200" spc="-1" strike="noStrike">
                <a:solidFill>
                  <a:srgbClr val="00808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/ This is a one-line com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/* This is a very lo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2200" spc="-1" strike="noStrike">
                <a:solidFill>
                  <a:srgbClr val="006666"/>
                </a:solidFill>
                <a:latin typeface="Courier New"/>
              </a:rPr>
              <a:t>multi-line comment. */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Using comment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re to place commen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top of each file (a "comment header"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t the start of every method (seen later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o explain complex pieces of cod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ments are useful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Understanding larger, more complex program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ultiple programmers working together, who must understand each other's cod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mments exampl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* Suzy Student, CS 101, Fall 20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This program prints lyrics about ... something. */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BaWitDaBa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first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Bawitdaba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a bang a dang diggy dig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6666"/>
                </a:solidFill>
                <a:latin typeface="Courier New"/>
              </a:rPr>
              <a:t>// second ver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iggy said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said up jump the boogy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Static methods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rcRect l="1923" t="2389" r="3037" b="1964"/>
          <a:stretch/>
        </p:blipFill>
        <p:spPr>
          <a:xfrm>
            <a:off x="6477120" y="2876400"/>
            <a:ext cx="2365200" cy="238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list of steps for solving a proble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 algorithm: "Bake sugar cookie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s with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ack of struct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any tiny steps; tough to rememb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onsider making a double batch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Place the first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Place the second batch of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000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ingredients for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-2624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ructured algorithm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5280" indent="-21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ructured algorith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Split into coherent task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Make the cookie bat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Cream the butter and sug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Beat in the egg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tir in the dry ingredien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2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Bake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Place the cookies into the o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Allow the cookies to bak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50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Tahoma"/>
              </a:rPr>
              <a:t>Add frosting and sprinkl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Mix the ingredients for the frost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-25956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Spread frosting and sprinkles onto the cook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81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Removing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well-structured algorithm can describe repeated tasks with less redundanc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1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Make the cookie batt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Mix the dry ingredi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a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first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oven temper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Set the tim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86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2b</a:t>
            </a:r>
            <a:r>
              <a:rPr b="0" lang="en-GB" sz="2200" spc="-1" strike="noStrike" u="sng">
                <a:solidFill>
                  <a:srgbClr val="003399"/>
                </a:solidFill>
                <a:uFillTx/>
                <a:latin typeface="Tahoma"/>
              </a:rPr>
              <a:t> Bake the cookies (second batch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0" lang="en-GB" sz="2200" spc="-1" strike="noStrike" u="sng">
                <a:solidFill>
                  <a:srgbClr val="000000"/>
                </a:solidFill>
                <a:uFillTx/>
                <a:latin typeface="Tahoma"/>
              </a:rPr>
              <a:t> Decorate the cooki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451"/>
              </a:spcBef>
              <a:buClr>
                <a:srgbClr val="40404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CS job marke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Object 2"/>
          <p:cNvGraphicFramePr/>
          <p:nvPr/>
        </p:nvGraphicFramePr>
        <p:xfrm>
          <a:off x="766800" y="1523880"/>
          <a:ext cx="8300880" cy="43214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92" name="Text Box 3"/>
          <p:cNvSpPr/>
          <p:nvPr/>
        </p:nvSpPr>
        <p:spPr>
          <a:xfrm>
            <a:off x="642960" y="6086520"/>
            <a:ext cx="7880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Verdana"/>
                <a:ea typeface="Times New Roman"/>
              </a:rPr>
              <a:t>SOURCES: Tabulated by National Science Foundation/Division of Science Resources Statistics; data from Department of Education/National Center for Education Statistics:  Integrated Postsecondary Education Data System Completions Survey; and NSF/SRS: Su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A program with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Static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atic method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named group of stat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notes the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tructur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of 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iminates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by code re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procedural decompositio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ividing a problem into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riting a static method is lik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dding a new command to Jav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943600" y="1928880"/>
            <a:ext cx="3048120" cy="4572000"/>
            <a:chOff x="5943600" y="1928880"/>
            <a:chExt cx="3048120" cy="4572000"/>
          </a:xfrm>
        </p:grpSpPr>
        <p:sp>
          <p:nvSpPr>
            <p:cNvPr id="181" name=""/>
            <p:cNvSpPr/>
            <p:nvPr/>
          </p:nvSpPr>
          <p:spPr>
            <a:xfrm>
              <a:off x="5943600" y="1928880"/>
              <a:ext cx="3048120" cy="4572000"/>
            </a:xfrm>
            <a:prstGeom prst="rect">
              <a:avLst/>
            </a:prstGeom>
            <a:solidFill>
              <a:srgbClr val="f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clas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5880" y="233028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095880" y="3833640"/>
              <a:ext cx="2743200" cy="108216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95880" y="4997520"/>
              <a:ext cx="2743200" cy="14238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2600" indent="-2826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Verdana"/>
                  <a:ea typeface="Times New Roman"/>
                </a:rPr>
                <a:t>metho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28560" indent="-231840">
                <a:lnSpc>
                  <a:spcPct val="60000"/>
                </a:lnSpc>
                <a:spcBef>
                  <a:spcPts val="1250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stat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Using static method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Design the algorith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ook at the structure, and which command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Decide what are the important overall task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eclar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write dow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rrange statements into groups and give each group a na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28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al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(run) the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720" indent="-24588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e program's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method executes the other methods to perform the overall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sign of an algorith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a: Bake cookies (first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3399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b: Bake cookies (second batch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8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52280" y="1294920"/>
            <a:ext cx="899496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Gives your method a name so it can be exec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br>
              <a:rPr sz="2400"/>
            </a:br>
            <a:br>
              <a:rPr sz="8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 {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...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statemen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150"/>
              </a:spcBef>
              <a:buClr>
                <a:srgbClr val="000000"/>
              </a:buClr>
              <a:buFont typeface="Tahoma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br>
              <a:rPr sz="2400"/>
            </a:br>
            <a:br>
              <a:rPr sz="8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printWarning() {</a:t>
            </a:r>
            <a:br>
              <a:rPr sz="22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This product causes cancer");</a:t>
            </a:r>
            <a:br>
              <a:rPr sz="1900"/>
            </a:br>
            <a:r>
              <a:rPr b="0" lang="en-GB" sz="1900" spc="-1" strike="noStrike">
                <a:solidFill>
                  <a:srgbClr val="000000"/>
                </a:solidFill>
                <a:latin typeface="Courier New"/>
              </a:rPr>
              <a:t>    System.out.println("in lab rats and humans.");</a:t>
            </a:r>
            <a:br>
              <a:rPr sz="1900"/>
            </a:b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Declar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alling a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Executes the method's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name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You can call the same method many times if you lik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rintWarning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duct causes canc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in lab rats and huma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with static method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FreshPrince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(running) the rap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ap();          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Calling the rap method ag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method prints the lyrics to my favorite song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ra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Now this is the story all about how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y life got flipped turned upside-down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Now this is the story all about h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y life got flipped turned upside-dow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Final cookie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This program displays a delicious recipe for baking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class BakeCooki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akeBatter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1st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ke();   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2nd batc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decorat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1: Make the cake batt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makeBatter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Cream the butter and suga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Beat in the egg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tir in the dry ingredient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2: Bake a batch of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bak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oven temperatur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et the timer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Place a batch of cookies into the oven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Allow the cookies to bake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8080"/>
                </a:solidFill>
                <a:latin typeface="Courier New"/>
              </a:rPr>
              <a:t>// Step 3: Decorate the cooki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static void decorat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Mix ingredients for frosting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System.out.println("Spread frosting and sprinkles.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9320" indent="0">
              <a:lnSpc>
                <a:spcPct val="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Methods calling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1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1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public static void message2() {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This is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ystem.out.println("Done with message2."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7160" indent="-22716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utpu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is is message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essage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ne with mai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4640" indent="-2246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en a method is called, the program's exec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into that method, executing its statement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6240" indent="-270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"jumps" back to the point where the method was ca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class MethodsExample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1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700" spc="-1" strike="noStrike">
                <a:solidFill>
                  <a:srgbClr val="000000"/>
                </a:solidFill>
                <a:latin typeface="Courier New"/>
              </a:rPr>
              <a:t>message2(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System.out.println("Done with main.");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4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43200" y="3244680"/>
            <a:ext cx="6324480" cy="719280"/>
            <a:chOff x="2743200" y="3244680"/>
            <a:chExt cx="6324480" cy="719280"/>
          </a:xfrm>
        </p:grpSpPr>
        <p:sp>
          <p:nvSpPr>
            <p:cNvPr id="201" name=""/>
            <p:cNvSpPr/>
            <p:nvPr/>
          </p:nvSpPr>
          <p:spPr>
            <a:xfrm>
              <a:off x="3978000" y="3244680"/>
              <a:ext cx="508968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3512880"/>
              <a:ext cx="1752480" cy="3636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2743200" y="3664800"/>
              <a:ext cx="1295280" cy="1126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514240" y="4160880"/>
            <a:ext cx="6553440" cy="1401840"/>
            <a:chOff x="2514240" y="4160880"/>
            <a:chExt cx="6553440" cy="1401840"/>
          </a:xfrm>
        </p:grpSpPr>
        <p:sp>
          <p:nvSpPr>
            <p:cNvPr id="205" name=""/>
            <p:cNvSpPr/>
            <p:nvPr/>
          </p:nvSpPr>
          <p:spPr>
            <a:xfrm>
              <a:off x="3965400" y="4160880"/>
              <a:ext cx="5102280" cy="140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2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essage1(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Done with message2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90560" y="4237200"/>
              <a:ext cx="1828800" cy="2286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2514240" y="4313160"/>
              <a:ext cx="1523880" cy="106704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962520" y="4827600"/>
            <a:ext cx="5105160" cy="1594080"/>
            <a:chOff x="3962520" y="4827600"/>
            <a:chExt cx="5105160" cy="1594080"/>
          </a:xfrm>
        </p:grpSpPr>
        <p:sp>
          <p:nvSpPr>
            <p:cNvPr id="209" name=""/>
            <p:cNvSpPr/>
            <p:nvPr/>
          </p:nvSpPr>
          <p:spPr>
            <a:xfrm>
              <a:off x="3962520" y="5702400"/>
              <a:ext cx="51051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ublic static void message1()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ystem.out.println("This is message1.");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489200" y="4827600"/>
              <a:ext cx="380880" cy="114300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4108320" y="4827600"/>
              <a:ext cx="533160" cy="1447920"/>
            </a:xfrm>
            <a:prstGeom prst="line">
              <a:avLst/>
            </a:prstGeom>
            <a:ln w="9360">
              <a:solidFill>
                <a:srgbClr val="00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Control flow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at is programming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et of instruct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o be carried out by a comput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 execu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he act of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arrying out the instruction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ntained in a progr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gramming languag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A systematic set of rules used to describe computations in a format that is editable by huma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This textbook teaches programming in a language named Jav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1327" t="810" r="0" b="0"/>
          <a:stretch/>
        </p:blipFill>
        <p:spPr>
          <a:xfrm>
            <a:off x="6477120" y="1523880"/>
            <a:ext cx="212076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to use method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ce statements into a static method i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lated structurally, and/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atements are repea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should not create static methods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individual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me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ly blank lines. (Put blank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 in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related or weakly related statements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Consider splitting them into two smaller methods.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rawing complex figures with static method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tatic methods questio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a program to print these figures using method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88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1905120"/>
            <a:ext cx="647676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First version (unstructure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reate an empty program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py the expected output into it, surrounding each line with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ystem.out.printl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un it to verify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1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1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7160" indent="0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econd version (structured, with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the structure of the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 th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method into static methods based on this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5638680"/>
            <a:ext cx="1218960" cy="762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4114800"/>
            <a:ext cx="1218960" cy="1219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2995560"/>
            <a:ext cx="12189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828800"/>
            <a:ext cx="12189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structur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001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1905120"/>
            <a:ext cx="647676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structure of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itial "egg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cond "teacup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rd "stop sign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ourth "hat" f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structure can be represent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aC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op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2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2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Development strategy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1905120"/>
            <a:ext cx="6476760" cy="19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Third version (structured, without redundanc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redundancy in the output, and create methods to eliminate as much as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d comments to th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ming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-231840">
              <a:lnSpc>
                <a:spcPct val="112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influential on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0">
              <a:lnSpc>
                <a:spcPct val="112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FORTR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cience /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COBO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siness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LIS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ogic and A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5320" indent="-279360">
              <a:lnSpc>
                <a:spcPct val="112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74600">
              <a:lnSpc>
                <a:spcPct val="112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 simple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710240" y="1295280"/>
            <a:ext cx="3824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6275520"/>
            <a:ext cx="10670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3473280"/>
            <a:ext cx="10670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487692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301608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2368440"/>
            <a:ext cx="106704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038480"/>
            <a:ext cx="1067040" cy="60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5675400"/>
            <a:ext cx="1067040" cy="590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1758960"/>
            <a:ext cx="1067040" cy="609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Output redundancy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2286000"/>
            <a:ext cx="6400800" cy="35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redundancy in the outpu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top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stop sign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gg bottom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reused on teacup, stop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ivider lin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used on teacup, 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his redundancy can be fixed by metho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ggBot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55000"/>
              <a:buFont typeface="Wingdings" charset="2"/>
              <a:buChar char=""/>
              <a:tabLst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7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|  STOP  |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        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\______/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______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/        \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61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+--------+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Suzy Student, CSE 138, Spring 209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Prints several figures, with methods for structure and redundanc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class Figures3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aCu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opSig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t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top half of an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To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 ______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/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/        \\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the bottom half of an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eggBottom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\\        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 \\______/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complete egg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egg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2248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gram version 3, cont'd.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teacup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teaCup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stop sign figur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stopSign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|  STOP  |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Bottom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figure that looks sort of like a hat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blic static void hat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ggTop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ine(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8080"/>
                </a:solidFill>
                <a:latin typeface="Courier New"/>
              </a:rPr>
              <a:t>// Draws a line of dash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static void line() 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stem.out.println("+--------+"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1840" indent="0">
              <a:lnSpc>
                <a:spcPct val="5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ome modern language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procedural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are a series of com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sc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0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du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2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-level operating systems and device 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functional programm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functions map inputs to outpu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s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8) /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che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5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73),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ske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0">
              <a:lnSpc>
                <a:spcPct val="114000"/>
              </a:lnSpc>
              <a:spcBef>
                <a:spcPts val="176"/>
              </a:spcBef>
              <a:buNone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216720" indent="-216720">
              <a:lnSpc>
                <a:spcPct val="114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object-oriented languag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programs use interacting "objects"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malltal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0): first major object-oriented langu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+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8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"object-oriented" improvements to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cessful in industry; used to build major OSes such as Window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41880" indent="-216720">
              <a:lnSpc>
                <a:spcPct val="114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95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ed for embedded systems, web apps/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uns on many platforms (Windows, Mac, Linux, cell phones..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08360" indent="-157680">
              <a:lnSpc>
                <a:spcPct val="114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2627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anguage taught in this textboo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Basic Java programs with </a:t>
            </a:r>
            <a:r>
              <a:rPr b="1" lang="en-US" sz="4400" spc="-1" strike="noStrike">
                <a:solidFill>
                  <a:srgbClr val="000000"/>
                </a:solidFill>
                <a:latin typeface="Courier New"/>
              </a:rPr>
              <a:t>println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statement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ompile/run 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Writ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de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 sourc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set of instructions in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compil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ranslate a program from one language to anoth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Java compiler converts your code into a format named </a:t>
            </a:r>
            <a:r>
              <a:rPr b="0" i="1" lang="en-GB" sz="2200" spc="-1" strike="noStrike">
                <a:solidFill>
                  <a:srgbClr val="000000"/>
                </a:solidFill>
                <a:latin typeface="Tahoma"/>
              </a:rPr>
              <a:t>byte code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hat runs on many computer typ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u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ecute) i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65000" indent="-41904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</a:rPr>
              <a:t>output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: The messages printed to the user by a progra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5" name="Group 12"/>
          <p:cNvGrpSpPr/>
          <p:nvPr/>
        </p:nvGrpSpPr>
        <p:grpSpPr>
          <a:xfrm>
            <a:off x="458640" y="5059440"/>
            <a:ext cx="1646280" cy="1646280"/>
            <a:chOff x="458640" y="5059440"/>
            <a:chExt cx="1646280" cy="1646280"/>
          </a:xfrm>
        </p:grpSpPr>
        <p:sp>
          <p:nvSpPr>
            <p:cNvPr id="106" name="Rectangle 13"/>
            <p:cNvSpPr/>
            <p:nvPr/>
          </p:nvSpPr>
          <p:spPr>
            <a:xfrm>
              <a:off x="458640" y="5059440"/>
              <a:ext cx="1646280" cy="1646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buClr>
                  <a:srgbClr val="800080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4"/>
            <p:cNvSpPr/>
            <p:nvPr/>
          </p:nvSpPr>
          <p:spPr>
            <a:xfrm>
              <a:off x="482760" y="5106960"/>
              <a:ext cx="1600200" cy="6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1447920"/>
                  <a:tab algn="l" pos="21718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ource c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15" descr=""/>
            <p:cNvPicPr/>
            <p:nvPr/>
          </p:nvPicPr>
          <p:blipFill>
            <a:blip r:embed="rId1"/>
            <a:stretch/>
          </p:blipFill>
          <p:spPr>
            <a:xfrm>
              <a:off x="838080" y="5592600"/>
              <a:ext cx="889200" cy="962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2104560" y="5057640"/>
            <a:ext cx="3151800" cy="1646280"/>
            <a:chOff x="2104560" y="5057640"/>
            <a:chExt cx="3151800" cy="1646280"/>
          </a:xfrm>
        </p:grpSpPr>
        <p:pic>
          <p:nvPicPr>
            <p:cNvPr id="110" name="Picture 6" descr=""/>
            <p:cNvPicPr/>
            <p:nvPr/>
          </p:nvPicPr>
          <p:blipFill>
            <a:blip r:embed="rId2"/>
            <a:stretch/>
          </p:blipFill>
          <p:spPr>
            <a:xfrm>
              <a:off x="2695680" y="5980320"/>
              <a:ext cx="3427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8"/>
            <p:cNvSpPr/>
            <p:nvPr/>
          </p:nvSpPr>
          <p:spPr>
            <a:xfrm>
              <a:off x="2318040" y="5446800"/>
              <a:ext cx="10677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mpi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Group 16"/>
            <p:cNvGrpSpPr/>
            <p:nvPr/>
          </p:nvGrpSpPr>
          <p:grpSpPr>
            <a:xfrm>
              <a:off x="3610080" y="5057640"/>
              <a:ext cx="1646280" cy="1646280"/>
              <a:chOff x="3610080" y="5057640"/>
              <a:chExt cx="1646280" cy="1646280"/>
            </a:xfrm>
          </p:grpSpPr>
          <p:pic>
            <p:nvPicPr>
              <p:cNvPr id="113" name="Picture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7200" y="5597280"/>
                <a:ext cx="93024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Rectangle 18"/>
              <p:cNvSpPr/>
              <p:nvPr/>
            </p:nvSpPr>
            <p:spPr>
              <a:xfrm>
                <a:off x="3610080" y="5057640"/>
                <a:ext cx="1646280" cy="1646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buClr>
                    <a:srgbClr val="800080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9"/>
              <p:cNvSpPr/>
              <p:nvPr/>
            </p:nvSpPr>
            <p:spPr>
              <a:xfrm>
                <a:off x="3787920" y="5105160"/>
                <a:ext cx="1288800" cy="10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8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ahoma"/>
                    <a:ea typeface="Times New Roman"/>
                  </a:rPr>
                  <a:t>byte cod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3000"/>
                  </a:lnSpc>
                  <a:spcBef>
                    <a:spcPts val="499"/>
                  </a:spcBef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6" name="Straight Arrow Connector 37"/>
            <p:cNvCxnSpPr/>
            <p:nvPr/>
          </p:nvCxnSpPr>
          <p:spPr>
            <a:xfrm>
              <a:off x="2104560" y="5879880"/>
              <a:ext cx="150588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  <p:grpSp>
        <p:nvGrpSpPr>
          <p:cNvPr id="117" name=""/>
          <p:cNvGrpSpPr/>
          <p:nvPr/>
        </p:nvGrpSpPr>
        <p:grpSpPr>
          <a:xfrm>
            <a:off x="5257800" y="5051520"/>
            <a:ext cx="3886200" cy="1235160"/>
            <a:chOff x="5257800" y="5051520"/>
            <a:chExt cx="3886200" cy="1235160"/>
          </a:xfrm>
        </p:grpSpPr>
        <p:pic>
          <p:nvPicPr>
            <p:cNvPr id="118" name="Picture 7" descr=""/>
            <p:cNvPicPr/>
            <p:nvPr/>
          </p:nvPicPr>
          <p:blipFill>
            <a:blip r:embed="rId4"/>
            <a:stretch/>
          </p:blipFill>
          <p:spPr>
            <a:xfrm>
              <a:off x="5819760" y="5982120"/>
              <a:ext cx="257040" cy="2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9"/>
            <p:cNvSpPr/>
            <p:nvPr/>
          </p:nvSpPr>
          <p:spPr>
            <a:xfrm>
              <a:off x="5428080" y="5448600"/>
              <a:ext cx="57708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u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0"/>
            <p:cNvSpPr/>
            <p:nvPr/>
          </p:nvSpPr>
          <p:spPr>
            <a:xfrm>
              <a:off x="7452000" y="5051520"/>
              <a:ext cx="988560" cy="39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8000"/>
                </a:lnSpc>
                <a:spcBef>
                  <a:spcPts val="499"/>
                </a:spcBef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35" descr="hello.PNG"/>
            <p:cNvPicPr/>
            <p:nvPr/>
          </p:nvPicPr>
          <p:blipFill>
            <a:blip r:embed="rId5"/>
            <a:srcRect l="0" t="0" r="13648" b="0"/>
            <a:stretch/>
          </p:blipFill>
          <p:spPr>
            <a:xfrm>
              <a:off x="6734160" y="5448600"/>
              <a:ext cx="2409840" cy="838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22" name="Straight Arrow Connector 39"/>
            <p:cNvCxnSpPr/>
            <p:nvPr/>
          </p:nvCxnSpPr>
          <p:spPr>
            <a:xfrm>
              <a:off x="5257800" y="5881680"/>
              <a:ext cx="1505520" cy="3960"/>
            </a:xfrm>
            <a:prstGeom prst="straightConnector1">
              <a:avLst/>
            </a:prstGeom>
            <a:ln w="9360">
              <a:solidFill>
                <a:srgbClr val="1d778d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 Java program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class Hello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Hello, world!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This program produces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System.out.println("four lines of output"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ts outpu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Hello, world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This program produ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8752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</a:rPr>
              <a:t>four lines of outpu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17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7800" indent="-217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conso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 Text box into which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 program's output is print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775040"/>
            <a:ext cx="327672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8T20:57:21Z</dcterms:created>
  <dc:creator>Marty Stepp</dc:creator>
  <dc:description>Slides used in the University of Washington's CSE 142 Python sessions.</dc:description>
  <cp:keywords>Python</cp:keywords>
  <dc:language>en-US</dc:language>
  <cp:lastModifiedBy>Marty Stepp</cp:lastModifiedBy>
  <dcterms:modified xsi:type="dcterms:W3CDTF">2010-04-04T19:58:25Z</dcterms:modified>
  <cp:revision>116</cp:revision>
  <dc:subject/>
  <dc:title>CSE 142 Python Slides</dc:title>
</cp:coreProperties>
</file>