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4F2B-A5E3-4372-9792-AA72F528D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and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's also useful to write a program that prompts for multiple values, both on the same line or each on its ow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ve already called System.out.println and passed parameter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4435-7013-4756-AB53-48166DD43D3E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and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How parameters are passe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the method is call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is stored into the parameter variabl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's code executes using that valu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nt(7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int time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651040" y="3328920"/>
            <a:ext cx="3200040" cy="1066680"/>
            <a:chOff x="2651040" y="3328920"/>
            <a:chExt cx="3200040" cy="1066680"/>
          </a:xfrm>
        </p:grpSpPr>
        <p:sp>
          <p:nvSpPr>
            <p:cNvPr id="121" name=""/>
            <p:cNvSpPr/>
            <p:nvPr/>
          </p:nvSpPr>
          <p:spPr>
            <a:xfrm>
              <a:off x="2651040" y="3328920"/>
              <a:ext cx="255276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67520" y="3739320"/>
              <a:ext cx="583560" cy="6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651040" y="3657600"/>
            <a:ext cx="3210120" cy="738000"/>
            <a:chOff x="2651040" y="3657600"/>
            <a:chExt cx="3210120" cy="738000"/>
          </a:xfrm>
        </p:grpSpPr>
        <p:sp>
          <p:nvSpPr>
            <p:cNvPr id="124" name=""/>
            <p:cNvSpPr/>
            <p:nvPr/>
          </p:nvSpPr>
          <p:spPr>
            <a:xfrm>
              <a:off x="5277600" y="3739680"/>
              <a:ext cx="583560" cy="65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651040" y="3657600"/>
              <a:ext cx="2553480" cy="32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 method accepts a parameter, it is illegal to call it without passing any value for that parame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);   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parameter value requir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value passed to a method must be of the correct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chant(3.7);   </a:t>
            </a:r>
            <a:r>
              <a:rPr b="1" lang="en-US" sz="2200" spc="-1" strike="noStrike">
                <a:solidFill>
                  <a:srgbClr val="a50021"/>
                </a:solidFill>
                <a:latin typeface="Courier New"/>
              </a:rPr>
              <a:t>// ERROR: must be of type i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rcise: Chang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a parameterized method for drawing lines of sta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Uses a parameterized method to remove redundanc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2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ethod can accept multiple parameters. (separate by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calling it, you must pass values for each parame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lar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ultiple param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4, 9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17, 6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8, 0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ntNumber(0, 8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printNumber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44444444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7171717171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draw boxes with parame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Third version with multiple parameterized method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3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i = 1; i &lt;= count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space = 1; space &lt;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- 2; spac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Value semantic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semantic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When primitive variables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are passed as parameters, their values are copi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difying the parameter will not affect the variable passed i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strange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x + 1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1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23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ange(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2. x = 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7162920" y="5033880"/>
            <a:ext cx="1590480" cy="11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 x =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. x = 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"Parameter Mystery" problem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class ParameterMystery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x = 9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y = 2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z = 5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z, y, x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stery(y, x, z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void mystery(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" and " +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5486400" y="4572000"/>
            <a:ext cx="2590920" cy="609480"/>
            <a:chOff x="5486400" y="4572000"/>
            <a:chExt cx="2590920" cy="609480"/>
          </a:xfrm>
        </p:grpSpPr>
        <p:sp>
          <p:nvSpPr>
            <p:cNvPr id="144" name=""/>
            <p:cNvSpPr/>
            <p:nvPr/>
          </p:nvSpPr>
          <p:spPr>
            <a:xfrm>
              <a:off x="548640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77120" y="4572000"/>
              <a:ext cx="6094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67480" y="4572000"/>
              <a:ext cx="60984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point = 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recip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4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ound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</a:t>
            </a:r>
            <a:r>
              <a:rPr b="0" lang="en-US" sz="2200" spc="-1" strike="noStrike">
                <a:solidFill>
                  <a:srgbClr val="003399"/>
                </a:solidFill>
                <a:latin typeface="Tahoma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paramet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class StringParameters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"Marty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teacher = "Bictolia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Hello(teacher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Hello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Welcome, " + name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Mar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Welcome, Bictol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rogram to use string parameters. Use a method nam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pea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prints a string many tim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several lines and boxes made of sta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Fourth version with String parameter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tars4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1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35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10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5, 4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x(20, 7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number of stars plus a line break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line(int coun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*", coun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rs solution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a box of stars of the given siz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box(int width, int height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nt line = 1; line &lt;= height - 2; line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peat(" ", width - 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*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ne(width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Prints the given String the given number of tim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static void repeat(String s, int time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nt i = 1; i &lt;= times; i++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stem.out.print(s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Return valu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Java's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las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219320"/>
          <a:ext cx="6643800" cy="5235480"/>
        </p:xfrm>
        <a:graphic>
          <a:graphicData uri="http://schemas.openxmlformats.org/drawingml/2006/table">
            <a:tbl>
              <a:tblPr/>
              <a:tblGrid>
                <a:gridCol w="3083040"/>
                <a:gridCol w="3560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ab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bsolut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eil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floor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unds d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log10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arithm, base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ax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rg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m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maller of two val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ow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,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s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to the 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ndom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etween 0 and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round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arest whole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qrt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quare roo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si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co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an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ne/cosine/tangent of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 angle in rad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Degree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toRadians(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u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vert degrees to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dians and 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172200" y="5243400"/>
          <a:ext cx="2771640" cy="1005120"/>
        </p:xfrm>
        <a:graphic>
          <a:graphicData uri="http://schemas.openxmlformats.org/drawingml/2006/table">
            <a:tbl>
              <a:tblPr/>
              <a:tblGrid>
                <a:gridCol w="1219320"/>
                <a:gridCol w="1552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ta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7182818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th.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1415926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alling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squareRoot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sqrt(121.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squareRoot);  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1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bsoluteValue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abs(-5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absoluteValue);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th.min(3, 7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+ 2);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do not print to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produces ("returns") a numeric resul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sults are used as expressions (printed, stored, etc.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To send out a value as the result of a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posite of a paramet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meter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the caller to the metho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turn values send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u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a method to its call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call to the method can be used as part of an expressio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144880" y="3581280"/>
            <a:ext cx="4904640" cy="2431080"/>
            <a:chOff x="2144880" y="3581280"/>
            <a:chExt cx="4904640" cy="2431080"/>
          </a:xfrm>
        </p:grpSpPr>
        <p:sp>
          <p:nvSpPr>
            <p:cNvPr id="165" name=""/>
            <p:cNvSpPr/>
            <p:nvPr/>
          </p:nvSpPr>
          <p:spPr>
            <a:xfrm>
              <a:off x="2144880" y="44578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966760" y="3660480"/>
              <a:ext cx="14475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30520" y="3581280"/>
              <a:ext cx="2161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abs(-4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36400" y="3645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-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39760" y="4856040"/>
              <a:ext cx="1474560" cy="70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0520" y="5613480"/>
              <a:ext cx="2619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th.round(2.7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2890800" y="4952880"/>
              <a:ext cx="15235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673080" y="48798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2.7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19040" y="3965400"/>
              <a:ext cx="1294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0440" y="417816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4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409560" y="5397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99"/>
                  </a:solidFill>
                  <a:latin typeface="Courier New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Math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3120" indent="-2131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the following expres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-1.2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3, 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pow(10, -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sqrt(121.0) - Math.sqrt(256.0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round(Math.PI) + Math.round(Math.E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ceil(6.022) + Math.floor(15.9994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abs(Math.min(-3, -5)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3120" indent="-213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a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th.m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used to bound numb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riable nam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replace negative ages with 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75280" indent="-2566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statement would cap the maximum age to 40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irks of real numb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-2224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at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s retur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r other non-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yp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int x = Math.pow(10, 3);  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// ERROR: incompat. typ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alues print poorly (too many digits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ouble result = 1.0 / 3.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result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0.33333333333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2480" indent="-222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mputer represen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 in an imprecise wa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0.1 + 0.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-26784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0.3, the output is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.30000000000000004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e ca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conversion from one type to ano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promote a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o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get exact division from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truncate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a real number to an integ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resul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9 / 5;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.8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result2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result;   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int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Math.pow(10, 3)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00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ed recip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20</a:t>
            </a: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cup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e for baking </a:t>
            </a: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ok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x the following ingredients in a bowl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cups flo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but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ups sug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N/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eg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05040" indent="-172800">
              <a:lnSpc>
                <a:spcPct val="6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ahoma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ags chocolate chips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-276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lace on sheet and Bake for about 10 minut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that distinguishes similar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re about type cast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casting has high precedence and only casts the item immediately next to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x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+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y = 1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1 / 2;    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1.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use parentheses to force evaluation ord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double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nversion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an be achieved in other wa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ouble average = 1.0 * (a + b + c) / 3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ing a valu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return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turns the slope of the line between the given poin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lope(int x1, int y1, int x2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lope(1, 3, 5, 11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turn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nverts degrees Fahrenheit to Celsiu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egreesC = 5.0 / 9.0 * (degreesF - 32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degrees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Computes triangle hypotenuse length given its side length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hypotenuse(int a, int b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c = Math.sqrt(a * a + b * b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can shorten the examples by returning an express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double fToC(double degreesF) {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5.0 / 9.0 * (degreesF - 32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8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8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mon error: Not storing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y students incorrectly think that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ment sends a variable's name back to the calling metho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ERROR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                                 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result not def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resul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ixing the common erro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returning sends the variable'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alu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turned value must be stored into a variable or used in an expression to be useful to the call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double s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ope(0, 0, 6, 3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slope is " +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double slope(int x1, int x2, int y1, int y2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y = y2 - y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dx = x2 - x1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result = dy / dx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resul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Objects and Classes; String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asses and 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program entity that represents eith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program / module,  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550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ype of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326"/>
              </a:spcBef>
              <a:buNone/>
              <a:tabLst>
                <a:tab algn="l" pos="0"/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 is a blueprint or template for constructing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0">
              <a:spcBef>
                <a:spcPts val="224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 Th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 (type) is a template for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eating many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DrawingPan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bjects (window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-16992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va has 1000s of classes.  Later (Ch.8) we will write our ow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4320" indent="0">
              <a:spcBef>
                <a:spcPts val="649"/>
              </a:spcBef>
              <a:buNone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33280" indent="-2332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entity that combine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480" indent="-2332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141560"/>
                <a:tab algn="l" pos="2173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-oriented programming (OOP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rograms that perform their behavior as interactions between objec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bjec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bjec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 entity that contains data and behav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le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behavi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thods inside the objec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22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246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interact with the methods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data is hidden in the objec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spcBef>
                <a:spcPts val="499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374"/>
              </a:spcBef>
              <a:buNone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(creating) an obj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ing an object's metho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spcBef>
                <a:spcPts val="550"/>
              </a:spcBef>
              <a:buNone/>
              <a:tabLst>
                <a:tab algn="l" pos="0"/>
                <a:tab algn="l" pos="1996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bject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method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arameter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172200" y="2133720"/>
            <a:ext cx="28195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Blueprint analo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1600200" y="1359000"/>
            <a:ext cx="4876920" cy="217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Pod blueprint/fac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tate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current 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battery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behavi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ower on/of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station/so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ange volu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 choose random so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04920" y="4387680"/>
            <a:ext cx="8076960" cy="2019240"/>
            <a:chOff x="304920" y="4387680"/>
            <a:chExt cx="8076960" cy="2019240"/>
          </a:xfrm>
        </p:grpSpPr>
        <p:sp>
          <p:nvSpPr>
            <p:cNvPr id="202" name=""/>
            <p:cNvSpPr/>
            <p:nvPr/>
          </p:nvSpPr>
          <p:spPr>
            <a:xfrm>
              <a:off x="3049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</a:t>
              </a:r>
              <a:r>
                <a:rPr b="0" lang="en-US" sz="12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1,000,000 Miles</a:t>
              </a: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17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2.5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200400" y="4387680"/>
              <a:ext cx="213372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Letting You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9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3.41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48520" y="4387680"/>
              <a:ext cx="2133360" cy="2019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iPod 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state: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song = "Discipline"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volume = 24</a:t>
              </a:r>
              <a:br>
                <a:rPr sz="1400"/>
              </a:br>
              <a:r>
                <a:rPr b="0" lang="en-US" sz="1400" spc="-1" strike="noStrike">
                  <a:solidFill>
                    <a:srgbClr val="003399"/>
                  </a:solidFill>
                  <a:latin typeface="Tahoma"/>
                  <a:ea typeface="Times New Roman"/>
                </a:rPr>
                <a:t>  battery life = 1.8 h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ahoma"/>
                  <a:ea typeface="Times New Roman"/>
                </a:rPr>
                <a:t>behavior: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power on/off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station/so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ange volum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 choose random so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286000" y="3564000"/>
            <a:ext cx="4419720" cy="823680"/>
            <a:chOff x="2286000" y="3564000"/>
            <a:chExt cx="4419720" cy="823680"/>
          </a:xfrm>
        </p:grpSpPr>
        <p:grpSp>
          <p:nvGrpSpPr>
            <p:cNvPr id="206" name=""/>
            <p:cNvGrpSpPr/>
            <p:nvPr/>
          </p:nvGrpSpPr>
          <p:grpSpPr>
            <a:xfrm>
              <a:off x="2286000" y="3564000"/>
              <a:ext cx="4191120" cy="823680"/>
              <a:chOff x="2286000" y="3564000"/>
              <a:chExt cx="4191120" cy="823680"/>
            </a:xfrm>
          </p:grpSpPr>
          <p:sp>
            <p:nvSpPr>
              <p:cNvPr id="207" name=""/>
              <p:cNvSpPr/>
              <p:nvPr/>
            </p:nvSpPr>
            <p:spPr>
              <a:xfrm flipH="1">
                <a:off x="2286000" y="3564000"/>
                <a:ext cx="182880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114800" y="3564000"/>
                <a:ext cx="15228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114800" y="3564000"/>
                <a:ext cx="2362320" cy="82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699160" y="3625920"/>
              <a:ext cx="10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705720" y="1492200"/>
            <a:ext cx="2209680" cy="1684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rcRect l="5751" t="5926" r="10795" b="3210"/>
          <a:stretch/>
        </p:blipFill>
        <p:spPr>
          <a:xfrm>
            <a:off x="22096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751" t="5926" r="10795" b="3210"/>
          <a:stretch/>
        </p:blipFill>
        <p:spPr>
          <a:xfrm>
            <a:off x="5181480" y="5378400"/>
            <a:ext cx="623880" cy="9907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rcRect l="5751" t="5926" r="10795" b="3210"/>
          <a:stretch/>
        </p:blipFill>
        <p:spPr>
          <a:xfrm>
            <a:off x="8229600" y="5378400"/>
            <a:ext cx="62388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storing a sequence of text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like most other objects, a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created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"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ring name = "Marla Singer";</a:t>
            </a:r>
            <a:br>
              <a:rPr sz="2200"/>
            </a:br>
            <a:br>
              <a:rPr sz="9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x = 3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nt y = 5;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point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(" + x + ", " + y + ")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dundant figur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the task of printing the following lines/box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***************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  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   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*****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dex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racters of a string are numbered with 0-bas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dex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name = "R. Kelly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character's index : 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character's index : 1 less than the string's leng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dividual characters are values of typ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397160" y="2446200"/>
          <a:ext cx="6535440" cy="830520"/>
        </p:xfrm>
        <a:graphic>
          <a:graphicData uri="http://schemas.openxmlformats.org/drawingml/2006/table">
            <a:tbl>
              <a:tblPr/>
              <a:tblGrid>
                <a:gridCol w="1379520"/>
                <a:gridCol w="644400"/>
                <a:gridCol w="646200"/>
                <a:gridCol w="642960"/>
                <a:gridCol w="644400"/>
                <a:gridCol w="644400"/>
                <a:gridCol w="644760"/>
                <a:gridCol w="644400"/>
                <a:gridCol w="644400"/>
              </a:tblGrid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nde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harac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56320" indent="-2563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se methods are called using the dot no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gangsta = "Dr. Dre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1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gangsta.length(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52280" y="1371600"/>
          <a:ext cx="8839440" cy="3071880"/>
        </p:xfrm>
        <a:graphic>
          <a:graphicData uri="http://schemas.openxmlformats.org/drawingml/2006/table">
            <a:tbl>
              <a:tblPr/>
              <a:tblGrid>
                <a:gridCol w="3695760"/>
                <a:gridCol w="5143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hod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dexOf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t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 where the start of the given string appears in this string (-1 if not fou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ength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umber of characters in this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ubstring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he characters in this string from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inclusive) to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  <a:ea typeface="Times New Roman"/>
                        </a:rPr>
                        <a:t>exclusiv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f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ex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is omitted, grabs till end of st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Low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low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oUpperCa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 new string with all uppercase 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tring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 exampl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1 = "Stuart Rege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2 = "Marty Stepp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length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1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indexOf("e"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.substring(7, 1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Reg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s3 =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2.substring(1, 7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3.toLowerCase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  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"arty s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the following str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index       012345678901234567890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ring book = "Building Java Programs"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would you extract the wor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"Java"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2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2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Modifying 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hods lik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b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oLowerCa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uild and return a new string, rather than modifying the current str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a50021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dify a variable's value, you must reassign i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tring s = "lil bow wow"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s = 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s.toUpperCase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s)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LIL BOW WOW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Interactive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Scanner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and </a:t>
            </a: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ystem.i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active progr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Reads input from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ile the program runs, it asks the user to type in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put typed by the user is stored in variables in the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be tricky; users are unpredictable and misbehav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ut interactive programs have more interesting behavi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n object that can read input from many 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municates with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(the opposite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n also read from files (Ch. 6), web sites, databases, 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lass is found in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ava.ut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ack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import java.util.*;   </a:t>
            </a:r>
            <a:r>
              <a:rPr b="1" lang="en-US" sz="2200" spc="-1" strike="noStrike">
                <a:solidFill>
                  <a:srgbClr val="008080"/>
                </a:solidFill>
                <a:latin typeface="Courier New"/>
              </a:rPr>
              <a:t>// so you can use Scann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ucting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bject to read console in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method waits until the user presses En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-2430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 typed by the user is retur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How old are you? ");  </a:t>
            </a:r>
            <a:r>
              <a:rPr b="1" lang="en-US" sz="2000" spc="-1" strike="noStrike">
                <a:solidFill>
                  <a:srgbClr val="008080"/>
                </a:solidFill>
                <a:latin typeface="Courier New"/>
              </a:rPr>
              <a:t>// prom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You typed " + age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795240" indent="-151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p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message telling the user what input to ty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4396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69880" y="1339920"/>
          <a:ext cx="8001000" cy="1976400"/>
        </p:xfrm>
        <a:graphic>
          <a:graphicData uri="http://schemas.openxmlformats.org/drawingml/2006/table">
            <a:tbl>
              <a:tblPr/>
              <a:tblGrid>
                <a:gridCol w="2133360"/>
                <a:gridCol w="586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cri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In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n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 and returns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Doub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ext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ads a one-word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nextLin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eads a one-</a:t>
                      </a:r>
                      <a:r>
                        <a:rPr b="0" i="1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ine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 from the u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UserInput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How old are you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console.nextIn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years = 65 - age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years + " years to retirement!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9320" indent="-2293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ole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ow old are you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36 years until retirement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1407960" y="29718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7960" y="322416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7960" y="3886200"/>
            <a:ext cx="228600" cy="0"/>
          </a:xfrm>
          <a:prstGeom prst="line">
            <a:avLst/>
          </a:prstGeom>
          <a:ln w="255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38000" y="5765760"/>
            <a:ext cx="10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276720" y="5867280"/>
            <a:ext cx="2367000" cy="961920"/>
            <a:chOff x="3276720" y="5867280"/>
            <a:chExt cx="2367000" cy="961920"/>
          </a:xfrm>
        </p:grpSpPr>
        <p:pic>
          <p:nvPicPr>
            <p:cNvPr id="243" name="" descr=""/>
            <p:cNvPicPr/>
            <p:nvPr/>
          </p:nvPicPr>
          <p:blipFill>
            <a:blip r:embed="rId1"/>
            <a:srcRect l="0" t="0" r="5017" b="0"/>
            <a:stretch/>
          </p:blipFill>
          <p:spPr>
            <a:xfrm>
              <a:off x="4648320" y="5867280"/>
              <a:ext cx="9954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flipH="1" flipV="1">
              <a:off x="3276720" y="5927040"/>
              <a:ext cx="137160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V="1">
            <a:off x="3076560" y="3352680"/>
            <a:ext cx="961920" cy="2362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672160" y="3200400"/>
            <a:ext cx="576000" cy="474840"/>
            <a:chOff x="5672160" y="3200400"/>
            <a:chExt cx="576000" cy="4748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5672160" y="3200400"/>
              <a:ext cx="392760" cy="47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064920" y="3338280"/>
              <a:ext cx="1832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7543800" y="2743200"/>
          <a:ext cx="1295280" cy="395280"/>
        </p:xfrm>
        <a:graphic>
          <a:graphicData uri="http://schemas.openxmlformats.org/drawingml/2006/table">
            <a:tbl>
              <a:tblPr/>
              <a:tblGrid>
                <a:gridCol w="64764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7238880" y="3262320"/>
          <a:ext cx="1593720" cy="395280"/>
        </p:xfrm>
        <a:graphic>
          <a:graphicData uri="http://schemas.openxmlformats.org/drawingml/2006/table">
            <a:tbl>
              <a:tblPr/>
              <a:tblGrid>
                <a:gridCol w="946080"/>
                <a:gridCol w="647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237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9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237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urier New"/>
              </a:rPr>
              <a:t>Scanne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example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8080"/>
                </a:solidFill>
                <a:latin typeface="Courier New"/>
              </a:rPr>
              <a:t>// so that I can use Scann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class ScannerMultiply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Please type two numbers: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1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num2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In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product = num1 * num2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"The product is " + product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 (user input underlined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lease type two numbers: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8 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 product is 4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an read multiple values from one l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redundant solu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class Stars1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1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7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lineOf35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10x3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box5x4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13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13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7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7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public static void lineOf35(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1500" spc="-1" strike="noStrike">
                <a:solidFill>
                  <a:srgbClr val="a50021"/>
                </a:solidFill>
                <a:latin typeface="Courier New"/>
              </a:rPr>
              <a:t>35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("*"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5181480" y="1600200"/>
            <a:ext cx="3810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code is redund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variables help?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ould constants help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Tahoma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a better solutio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3429000"/>
            <a:ext cx="4191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line of any number of st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o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 A method to draw a box of any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nput toke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k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unit of user input, as read by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kens are separated by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white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spaces, tabs, new line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ow many tokens appear on the following line of input?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3  John Smith   42.0  "Hello world"  $2.50  "  19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oken is not the type you ask for, it crash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("What is your age? "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ag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console.nextInt(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at is your age?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Tim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java.util.InputMismatchExcep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800000"/>
                </a:solidFill>
                <a:latin typeface="Courier New"/>
              </a:rPr>
              <a:t>at java.util.Scanner.nextInt(Unknown Sour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5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5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s user inpu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an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'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word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name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ring name = console.next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 = name.toUpperCas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ln(name + " has " + name.length() +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 letters and starts with " + name.substring(0, 1)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at is your name?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hamillionai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millionaire has 14 letters and starts with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extLin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ethod reads a line of input a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tem.out.print("What is your address? 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address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ole.nextLine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hat outputs a person's "gangsta name.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initi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Did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ast name (all cap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rst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-izz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ype your name, playa: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urier New"/>
              </a:rPr>
              <a:t>Marge Simps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Your gangsta name is "M. Diddy SIMPSON Marge-izzle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ings answ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This program prints your "gangsta" nam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mport java.util.*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GangstaNam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canner console = new Scanner(System.in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("Type your name, playa: 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name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sole.nextLin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plit name into first/last name and init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r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0, name.indexOf(" ")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.substring(name.indexOf(" ") +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ast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.toUpperCase(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ring fInitial =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.substring(0, 1)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Your gangsta name is \"" + fInitial 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. Diddy " + last + " " + first + "-izzle\"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iza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A value passed to a method by its call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7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Of1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rite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l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draw any length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claring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method, we will state that it requires a parameter for the number of st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al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 method, we will specify how many stars to draw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154160" y="4419720"/>
            <a:ext cx="6916680" cy="1310040"/>
            <a:chOff x="1154160" y="4419720"/>
            <a:chExt cx="6916680" cy="1310040"/>
          </a:xfrm>
        </p:grpSpPr>
        <p:sp>
          <p:nvSpPr>
            <p:cNvPr id="101" name=""/>
            <p:cNvSpPr/>
            <p:nvPr/>
          </p:nvSpPr>
          <p:spPr>
            <a:xfrm>
              <a:off x="1154160" y="462276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6400" y="481644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40160" y="461628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267440" y="48164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09040" y="46288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475000" y="441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49400" y="5021280"/>
              <a:ext cx="1474920" cy="49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440160" y="5317920"/>
              <a:ext cx="7902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l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67440" y="5518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9040" y="5330880"/>
              <a:ext cx="216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*************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98680" y="523872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clar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ting that a method requires a parameter in order to r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type</a:t>
            </a:r>
            <a:r>
              <a:rPr b="0" lang="en-US" sz="22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tatement(s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sayPassword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The password is: " +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ayPasswor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alled, the caller must specif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integer code to pri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ssing a paramete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ing a method and specifying values for its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express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42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ayPassword(12345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4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The password is 1234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arameters and loop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arameter can guide the number of repetitions of a lo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nt(3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ublic static void chant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for (int i = 1; i &lt;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; i++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System.out.println("Just a salad...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Just a salad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20:11:39Z</dcterms:modified>
  <cp:revision>119</cp:revision>
  <dc:subject/>
  <dc:title>CSE 142 Python Slides</dc:title>
</cp:coreProperties>
</file>