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4863-E36C-408D-B3D7-1CE6901CED53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Supplement 3G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lined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a colored shape with an outline, firs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il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raw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ame shape in the outline co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java.awt.*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so I can use Graph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OutlineExample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150, 7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ner red fi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fill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black out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.drawRect(20, 10, 100, 5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58000" y="4597560"/>
            <a:ext cx="1981080" cy="172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uperimposing sha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≥ 2 shapes occupy the same pixels, the last drawn "wins.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Car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LIGHT_GRAY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ACK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2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Oval(80, 70, 2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80, 40, 30, 2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64480" y="4621320"/>
            <a:ext cx="2050920" cy="170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rawing with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228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pressions can use the loop counter variab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panel.setBackground(Color.YELLOW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setColor(Color.RED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             x           y        w   h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fillOval(100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 +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50, 5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sted loops can be used with graphic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x = 1; x &lt;= 4; x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y = 1; y &lt;= 9; y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Java", x * 40, y * 2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15200" y="2049480"/>
            <a:ext cx="1676520" cy="1531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316640" y="4419720"/>
            <a:ext cx="167976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Zero-base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ning at 0 and using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make coordinates easi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DrawingPanel panel = new DrawingPanel(150, 14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horizontal line of 5 20x20 rectangles start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80"/>
                </a:solidFill>
                <a:latin typeface="Courier New"/>
              </a:rPr>
              <a:t>// at (11, 18); x increases by 20 each tim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; i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&lt;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18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Write a variation of the abo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that draws the output at righ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ottom-left rectangle is at (11, 98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for (int i = 0; i &lt; 5; i++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g.drawRect(11 + 20 * i, </a:t>
            </a:r>
            <a:r>
              <a:rPr b="1" lang="en-US" sz="1700" spc="-1" strike="noStrike">
                <a:solidFill>
                  <a:srgbClr val="003399"/>
                </a:solidFill>
                <a:latin typeface="Courier New"/>
              </a:rPr>
              <a:t>98 - 20 * i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, 20, 20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91520" y="1828800"/>
            <a:ext cx="1542960" cy="19810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54296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fig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draws the following fig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 is size 200x15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is at (20, 35), size 100x1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yan backgrou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te "BJP" text at position (70, 55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in color (red=191, green=118, blue=7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stair is 9px t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st stair is 10px w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nd stair is 20px wide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irs are 10px apart (1 blank pixel betwee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201924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book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uilding Java Programs textbook with DrawingPane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200, 15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70, 5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20, 35 + 10 * i, 10 + 10 * i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top/left positions: (20, 35), (150, 70), (300, 1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450x18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14760" y="4038480"/>
            <a:ext cx="44006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raw in a method, you must pa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 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8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, 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50, 7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300, 1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books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JP textbook at the given x/y position.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drawBook(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raphics 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int x, int y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100, 10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+ 5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 * i, 10 * (i + 1)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Java book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Java book program so that it can draw books at differen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iz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s shown bel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ook sizes: 100x100,  60x60,  200x2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rawing panel's new size: 520x24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86200" y="3505320"/>
            <a:ext cx="506736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Graphical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will draw graphics in Java using 3 kinds of obj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window on the scre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 part of Java; provided by the authors.  See class web sit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"pen" to draw shap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lines on a window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lors in which to draw sha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233856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book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many sized BJP textbooks us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Book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ingPanel panel = new DrawingPanel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2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4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nel.setBackground(Color.WHITE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 three books at different locations/siz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 20, 3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1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150, 7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 6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rawBook(g, 300, 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20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sizable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Draws a book of the given size at the given posit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drawBook(Graphics g, int x, int y,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t siz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CYAN);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yan backgrou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y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Color.WHITE);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hite "bjp" tex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drawString("BJP", x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2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5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setColor(new Color(191, 118, 73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0; i &lt; 10; i++) {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orange "bricks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.fillRect(x,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+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i,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* (i + 1),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wid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ze/10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1);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he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Polyg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bjects that represent arbitrary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points to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olyg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ing i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Poin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 p = new DrawingPanel(100, 10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Color.GREE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gon poly = new Polygo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1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50, 1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oly.addPoint(90, 9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.fillPolygon(poly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315200" y="4005360"/>
            <a:ext cx="13352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clear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ases any shapes that are drawn on the drawing pan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Width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Height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etSiz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the drawing panel's size to the given value(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ave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lenam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the image on the panel to the given file (String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ne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sleep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uses the drawing for the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imation with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leep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pauses your program for a given number of millisecon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create simple animat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25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setColor(Color.BLU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(int i = 1; i &lt;= 10; i++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.fillOval(15 * i, 15 * i, 30, 3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nel.sleep(5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 add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leep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mands to loops in past exercises in this chapter and watch the panel draw itself piece by pie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DrawingPanel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Canvas" objects that represents windows/drawing su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reate a window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= new DrawingPanel(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igh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awingPanel panel = new DrawingPanel(300, 200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window has nothing on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draw shapes / lines on it with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other object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37520" y="36360"/>
            <a:ext cx="84600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"Pen" or "paint brush" objects to draw lines and sha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ss it by calling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et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your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 g = panel.getGraphics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aw shapes by calling metho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60, 3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80, 40, 5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91320" y="3960720"/>
            <a:ext cx="2925720" cy="2592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275680" y="31680"/>
            <a:ext cx="81576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 class libraries, impor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ava class librar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lasses included with Java's JD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ganized into groups named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ackag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a package, put an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import declar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your program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put this at the very top of your progra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ckage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elongs to a package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aw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awt.*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us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you must place the above line at the very top of your program, before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ead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ordinate syste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(x, y) position i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ix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("picture element"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on (0, 0) is at the window's top-left corn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x increases rightward and the y increase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downwa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tangle from (0, 0) to (200, 100) looks like th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0, 0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200, 1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451"/>
              </a:spcBef>
              <a:buNone/>
              <a:tabLst>
                <a:tab algn="l" pos="0"/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+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95280" y="4419720"/>
            <a:ext cx="1371600" cy="914400"/>
            <a:chOff x="1295280" y="4419720"/>
            <a:chExt cx="1371600" cy="914400"/>
          </a:xfrm>
        </p:grpSpPr>
        <p:sp>
          <p:nvSpPr>
            <p:cNvPr id="97" name=""/>
            <p:cNvSpPr/>
            <p:nvPr/>
          </p:nvSpPr>
          <p:spPr>
            <a:xfrm>
              <a:off x="1371600" y="4496040"/>
              <a:ext cx="1295280" cy="83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71600" y="4419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95280" y="449604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Graphic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7240" y="1511280"/>
          <a:ext cx="9029520" cy="4599000"/>
        </p:xfrm>
        <a:graphic>
          <a:graphicData uri="http://schemas.openxmlformats.org/drawingml/2006/table">
            <a:tbl>
              <a:tblPr/>
              <a:tblGrid>
                <a:gridCol w="4351320"/>
                <a:gridCol w="4678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Line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ne between points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,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largest oval that fits in a box of size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tline of rectangle of size</a:t>
                      </a:r>
                      <a:br>
                        <a:rPr sz="1800"/>
                      </a:b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draw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xt with bottom-left at 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x, y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Oval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largest oval that fits in a box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fillRect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l rectangle of size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*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igh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with top-left at (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.setColor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o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t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Graphic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paint any following shapes in the given col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Col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d as predefin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consta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TANT_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ne 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AC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LU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Y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RK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E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IGHT_G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GENT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RANG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N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EL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409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5092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create one u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en-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e (RGB) values of 0-25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Color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ree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8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230560"/>
                <a:tab algn="l" pos="4118040"/>
                <a:tab algn="l" pos="5545080"/>
                <a:tab algn="l" pos="743256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76320"/>
            <a:ext cx="914400" cy="90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Using col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Col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sequent shapes will be drawn in the new col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BLACK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Rect(10, 30, 100, 5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drawLine(20, 0, 10, 3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setColor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lor.RED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g.fillOval(60, 40, 40, 70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6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ss a color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Backgrou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verall window background color will chang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olor brown = new Color(192, 128, 64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anel.setBackgroun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row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620120" y="2133720"/>
            <a:ext cx="1326960" cy="16682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0120" y="4863960"/>
            <a:ext cx="130788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4:49Z</dcterms:modified>
  <cp:revision>120</cp:revision>
  <dc:subject/>
  <dc:title>CSE 142 Python Slides</dc:title>
</cp:coreProperties>
</file>