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B1FD-F3AF-43D4-8B7D-30FE50677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This program computes two people's body mass index (BMI)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compares them.  The code uses parameters, returns, and Scan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java.util.*;  // so that I can use Sca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class BMI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 static void main(String[] args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This program reads in data for two people and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"computes their body mass index (BMI)"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out.printl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/ finish 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we round the BMI numb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427F-94F6-470B-B010-741872BE0F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== tests equality, not = .  The = is used for the assignment opera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4824-38EA-408A-AAC2-270E5BE1EEEB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al Exec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ula for body mass index (BMI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produces output like the follow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is program reads data for two people 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mputes their body mass index (BMI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70.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94.2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er next person's information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ight (in inche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62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eight (in pounds)?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ourier New"/>
              </a:rPr>
              <a:t>130.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1 BMI = 27.86892857142857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verweigh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erson 2 BMI = 23.48582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orma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fference = 4.383104571428571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888840" y="1884240"/>
                <a:ext cx="24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M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eight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eigh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703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3" name=""/>
          <p:cNvGraphicFramePr/>
          <p:nvPr/>
        </p:nvGraphicFramePr>
        <p:xfrm>
          <a:off x="5867280" y="1295280"/>
          <a:ext cx="3054600" cy="1505160"/>
        </p:xfrm>
        <a:graphic>
          <a:graphicData uri="http://schemas.openxmlformats.org/drawingml/2006/table">
            <a:tbl>
              <a:tblPr/>
              <a:tblGrid>
                <a:gridCol w="1420920"/>
                <a:gridCol w="1633680"/>
              </a:tblGrid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ight cla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low 1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d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.5 - 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.0 - 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we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.0 and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e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This program computes two people's body mass index (BMI) and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compares them.  The code uses </a:t>
            </a: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Scanner for input, and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parameters/return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mport java.util.*;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BMI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troductio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1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ouble bmi2 = person(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report overall result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1, bmi1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report(2, bmi2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Difference = " + Math.abs(bmi1 - bmi2)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008080"/>
                </a:solidFill>
                <a:latin typeface="Courier New"/>
              </a:rPr>
              <a:t>// prints a welcome message explaining the progra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introduction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This program reads data for two people and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"computes their body mass index (BMI).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reads information for one person, computes their BMI, and returns it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person(Scanner console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Enter next person's information: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height (in inche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h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("weight (in pounds)? 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weight = console.nextDouble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double bodyMass = bmi(height, w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bodyMass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Computes/returns a person's BMI based on their height and weigh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double bmi(double height, double weight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return (weight * 703 / height / height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8080"/>
                </a:solidFill>
                <a:latin typeface="Courier New"/>
              </a:rPr>
              <a:t>// Outputs information about a person's BMI and weight statu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public static void report(int number, double bmi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System.out.println("Person " + number + " BMI = " + bmi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f (bmi &lt; 18.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und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25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normal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if (bmi &lt; 30)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verweight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ystem.out.println("obese");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canner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any methods need to read input, declare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pass it to the other methods as a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sum = readSum3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s for 3 numbers and returns their su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readSum3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canner conso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Type 3 numbers: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1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2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num3 = console.nextIn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um1 + num2 + num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operat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can be combined us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gic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Truth tables" for each, used with logical valu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03400" y="1905120"/>
          <a:ext cx="6897600" cy="1460520"/>
        </p:xfrm>
        <a:graphic>
          <a:graphicData uri="http://schemas.openxmlformats.org/drawingml/2006/table">
            <a:tbl>
              <a:tblPr/>
              <a:tblGrid>
                <a:gridCol w="1333440"/>
                <a:gridCol w="1652400"/>
                <a:gridCol w="2914920"/>
                <a:gridCol w="9968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u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&amp;&amp; (-1 &lt; 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2 == 3) || (-1 &lt; 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(2 ==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104840" y="4422600"/>
          <a:ext cx="3721320" cy="1825560"/>
        </p:xfrm>
        <a:graphic>
          <a:graphicData uri="http://schemas.openxmlformats.org/drawingml/2006/table">
            <a:tbl>
              <a:tblPr/>
              <a:tblGrid>
                <a:gridCol w="866880"/>
                <a:gridCol w="866880"/>
                <a:gridCol w="1054080"/>
                <a:gridCol w="933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amp;&amp;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||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226200" y="4422600"/>
          <a:ext cx="1774800" cy="1095480"/>
        </p:xfrm>
        <a:graphic>
          <a:graphicData uri="http://schemas.openxmlformats.org/drawingml/2006/table">
            <a:tbl>
              <a:tblPr/>
              <a:tblGrid>
                <a:gridCol w="866880"/>
                <a:gridCol w="907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valuating logic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have lower precedence than ma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 * 7 &gt;= 3 + 5 *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7 - 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gt;= 3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 * 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5    &gt;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 + 3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5    &gt;= 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cannot be "chained" as in algebr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true   &lt;= 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ssume th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error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, combine multiple test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 &lt;=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&amp;&amp;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&lt;= 1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ue   &amp;&amp; 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Logical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the result of each of the following expres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42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17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z = 25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 &lt; x &amp;&amp; y &lt;=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% 2 == y % 2 || x % 2 == z % 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x &lt;= y + z &amp;&amp; x &gt;= y + z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!(x &lt; y &amp;&amp; x &lt; z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x + y) % 2 == 0 || !((z - y) % 2 == 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77680" indent="-1674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swer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program that prompts for information about a person and uses it to decide whether to date th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2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acto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o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to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xtracting common/redundant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reduce or eliminate redundancy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== 1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a == 2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6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 = y + 1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a ==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 = b + x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419720" y="2895480"/>
            <a:ext cx="4647600" cy="3276720"/>
            <a:chOff x="4419720" y="2895480"/>
            <a:chExt cx="4647600" cy="3276720"/>
          </a:xfrm>
        </p:grpSpPr>
        <p:sp>
          <p:nvSpPr>
            <p:cNvPr id="132" name=""/>
            <p:cNvSpPr/>
            <p:nvPr/>
          </p:nvSpPr>
          <p:spPr>
            <a:xfrm>
              <a:off x="5790960" y="3657600"/>
              <a:ext cx="3276360" cy="1739880"/>
            </a:xfrm>
            <a:prstGeom prst="rect">
              <a:avLst/>
            </a:prstGeom>
            <a:noFill/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a)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x = 3 * a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f (a == 2) {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y = y + 10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 = b + x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4419720" y="2895480"/>
              <a:ext cx="1301040" cy="3276720"/>
              <a:chOff x="4419720" y="2895480"/>
              <a:chExt cx="1301040" cy="3276720"/>
            </a:xfrm>
          </p:grpSpPr>
          <p:sp>
            <p:nvSpPr>
              <p:cNvPr id="134" name=""/>
              <p:cNvSpPr/>
              <p:nvPr/>
            </p:nvSpPr>
            <p:spPr>
              <a:xfrm>
                <a:off x="5033880" y="4535640"/>
                <a:ext cx="68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9720" y="2895480"/>
                <a:ext cx="609480" cy="3276720"/>
              </a:xfrm>
              <a:custGeom>
                <a:avLst/>
                <a:gdLst>
                  <a:gd name="textAreaLeft" fmla="*/ 0 w 609480"/>
                  <a:gd name="textAreaRight" fmla="*/ 219960 w 609480"/>
                  <a:gd name="textAreaTop" fmla="*/ 85320 h 3276720"/>
                  <a:gd name="textAreaBottom" fmla="*/ 3191400 h 32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Returns the larger of the two given integ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can return different values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/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chever path the code enters, it will return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turning a value causes a method to immediately ex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paths through the code must reach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ll paths must 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// Error: not all paths return a val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following also does not compi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int max(int a, int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a &gt; b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a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if (b &gt;= a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return b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mpiler think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/else/i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de might skip all paths, even though mathematically it must choose one or the 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a block of statements only if a test is tr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ystem.out.println("Application accepted.")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629400" y="2019240"/>
            <a:ext cx="2239920" cy="20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uadra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accepts a pair of real number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returns the quadrant for that point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quadrant(-4.2, 17.3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point falls directly on either axis, retur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510080" y="2617920"/>
            <a:ext cx="0" cy="220968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714840"/>
            <a:ext cx="281916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98080" y="3524400"/>
            <a:ext cx="9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68720" y="35193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x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2680" y="2236680"/>
            <a:ext cx="9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4440" y="47656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y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36440" y="28670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1280" y="28814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1280" y="410040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36440" y="408636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Verdana"/>
                <a:ea typeface="Times New Roman"/>
              </a:rPr>
              <a:t>quadran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public static int quadrant(double x, double y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if (x &g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1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l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if (x &gt; 0 &amp;&amp; y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4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 else {      </a:t>
            </a:r>
            <a:r>
              <a:rPr b="1" lang="en-US" sz="1900" spc="-1" strike="noStrike">
                <a:solidFill>
                  <a:srgbClr val="008080"/>
                </a:solidFill>
                <a:latin typeface="Courier New"/>
              </a:rPr>
              <a:t>// at least one coordinate equals 0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umulative algorithm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dding many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would you find the sum of all integers from 1-1000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his may require a lot of typ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1 + 2 + 3 + 4 + ... 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f we want the sum from 1 - 1,000,000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the sum up to any maximu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can we generalize the above cod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loo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 = sum + i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mulative s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riable that keeps a sum in progress and is updated repeatedly until summing is fin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the above code is an attempt at a cumulative s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mulative sum variables must be declar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ut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loops that update them, so that they will still exist after the loop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produc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cumulative idea can be used with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product =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2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 = product *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 ^ 20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duc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we make the base and exponent adjustable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d cumul. su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do a cumulative sum of user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sum = 0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100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"Type a number: 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um = sum + console.nextIn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sum is " + sum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from Ch. 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mpt for how many people, and each person's dinner c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static methods to structure the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30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ubtotal: $75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ax: $6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ip: $11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tal: $92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sum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enhances our Receipt program using a cumulative su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Receipt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subtotal = meals(console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sults(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ompts for number of people and returns total meal subtotal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double meals(Scanner console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How many people ate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peopl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Int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uble subtotal = 0.0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umulative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int i = 1; i &lt;= people; i++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Person #" + i +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: How much did your dinner cost?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personCo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Doubl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btotal = subtotal + personCos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add to su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ubtotal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umulative answer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Subtotal: $" + sub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ax: $" + tax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ip: $" + tip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Total: $" + total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ateme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xecutes one block if a test is true, another if fa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ouble gpa = console.nextDouble(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gpa &gt;= 2.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Welcome to Mars University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Application denied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638680" y="2003400"/>
            <a:ext cx="3254400" cy="21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return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metho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untF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retur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umber of factors of an integ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untFactors(2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caus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, 2, 3, 4, 6, 8, 12, and 24 are factors of 2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Returns how many factors the given number has.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public static int countFactors(int number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int count = 0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for (int i = 1; i &lt;= number; i++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if (number % i == 0) {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unt++;  </a:t>
            </a:r>
            <a:r>
              <a:rPr b="1" lang="en-US" sz="2100" spc="-1" strike="noStrike">
                <a:solidFill>
                  <a:srgbClr val="008080"/>
                </a:solidFill>
                <a:latin typeface="Courier New"/>
              </a:rPr>
              <a:t>// i is a factor of numb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return count;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ext Process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9280" y="3016080"/>
            <a:ext cx="7905960" cy="18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: A primitive type representing single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stored internally as an array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Ali G.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legal to have variables, parameters, return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rrounded with apostrophes: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4'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n'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or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\''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letter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'P'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);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letter + " Diddy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 Did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191120" y="2562120"/>
          <a:ext cx="4722840" cy="942840"/>
        </p:xfrm>
        <a:graphic>
          <a:graphicData uri="http://schemas.openxmlformats.org/drawingml/2006/table">
            <a:tbl>
              <a:tblPr/>
              <a:tblGrid>
                <a:gridCol w="874440"/>
                <a:gridCol w="641520"/>
                <a:gridCol w="641160"/>
                <a:gridCol w="641520"/>
                <a:gridCol w="641520"/>
                <a:gridCol w="641160"/>
                <a:gridCol w="641520"/>
              </a:tblGrid>
              <a:tr h="4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A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l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i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 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G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.'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At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accessed using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A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pts 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ex parameter and returns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that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food = "cooki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firstLetter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od.charAt(0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'c'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firstLetter + " is for " + foo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You can us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oop to print or examine each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major = "CSE"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major.length(); i++) {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c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jor.charAt(i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c);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alu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compar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wit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nd other operato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word = console.next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 last = word.charAt(word.length() - 1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last == 's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word + " is plural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rints the alphab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char c = 'a';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 &lt;= 'z'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c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(c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n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mapped to an integer value intern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lled an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SCII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66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 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3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b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98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*'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uses automatic conversion t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10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07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A' + 'A'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1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convert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the equivalent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ype-cas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3200400"/>
                <a:tab algn="l" pos="4402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char) ('a' + 2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is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'c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cha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  <a:ea typeface="Courier New"/>
              </a:rPr>
              <a:t>St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964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h"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bu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'h'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they are differe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n object; it contains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s = "h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s.toUpperCase();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"H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len = s.length(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first = s.charAt(0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  <a:ea typeface="Courier New"/>
              </a:rPr>
              <a:t>// 'H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59640" indent="-274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primitive; you can't call methods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c = 'h'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c.toUpperCase();          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 = </a:t>
            </a:r>
            <a:r>
              <a:rPr b="1" lang="en-US" sz="2200" spc="-1" strike="noStrike">
                <a:solidFill>
                  <a:srgbClr val="800000"/>
                </a:solidFill>
                <a:latin typeface="Courier New"/>
                <a:ea typeface="Courier New"/>
              </a:rPr>
              <a:t>s.charAt(0).toUpperCase();   //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 + 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  Wha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 + 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ormatting text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92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rmat stri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6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240" indent="-2192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format string can contai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laceholder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insert parameter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se placeholders are used instead of + concate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0">
              <a:spcBef>
                <a:spcPts val="499"/>
              </a:spcBef>
              <a:buNone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-2192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-17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x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nd y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!\n", x, y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x is 3 and y is -17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8720" indent="0">
              <a:spcBef>
                <a:spcPts val="201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1019160" indent="-15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nt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oes not drop to the next line unless you writ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width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g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acters wide, right-align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-2383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3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j = 1; j &lt;= 10; j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f("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4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, (i * j)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to end the l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  2   3   4   5   6   7   8   9  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2   4   6   8  10  12  14  16  18  2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02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3   6   9  12  15  18  21  24  27  3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precis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rounded to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hars wide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gits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%-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al number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de (left-align)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fter decim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gpa = 3.253764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your GPA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.1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f("more precisely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8.3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\n", gpa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your GPA is 3.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ore precisely:    3.25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657600" y="5186520"/>
            <a:ext cx="1218960" cy="682560"/>
            <a:chOff x="3657600" y="5186520"/>
            <a:chExt cx="1218960" cy="682560"/>
          </a:xfrm>
        </p:grpSpPr>
        <p:sp>
          <p:nvSpPr>
            <p:cNvPr id="192" name=""/>
            <p:cNvSpPr/>
            <p:nvPr/>
          </p:nvSpPr>
          <p:spPr>
            <a:xfrm>
              <a:off x="3817440" y="550080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6200000">
              <a:off x="4114800" y="4729320"/>
              <a:ext cx="304560" cy="1218960"/>
            </a:xfrm>
            <a:custGeom>
              <a:avLst/>
              <a:gdLst>
                <a:gd name="textAreaLeft" fmla="*/ 194760 w 304560"/>
                <a:gd name="textAreaRight" fmla="*/ 304920 w 304560"/>
                <a:gd name="textAreaTop" fmla="*/ 31680 h 1218960"/>
                <a:gd name="textAreaBottom" fmla="*/ 1187280 h 121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205160" y="4294080"/>
            <a:ext cx="876960" cy="582480"/>
            <a:chOff x="4205160" y="4294080"/>
            <a:chExt cx="876960" cy="582480"/>
          </a:xfrm>
        </p:grpSpPr>
        <p:sp>
          <p:nvSpPr>
            <p:cNvPr id="195" name=""/>
            <p:cNvSpPr/>
            <p:nvPr/>
          </p:nvSpPr>
          <p:spPr>
            <a:xfrm rot="5400000">
              <a:off x="4533840" y="4533480"/>
              <a:ext cx="228600" cy="45720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05160" y="4294080"/>
              <a:ext cx="87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lational express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statements and </a:t>
            </a:r>
            <a:r>
              <a:rPr b="0" lang="en-US" sz="25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loops both use logical test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i &lt;= 1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ar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xpressions, seen in Ch. 5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s 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lational opera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19320" y="3921120"/>
          <a:ext cx="6735600" cy="2556000"/>
        </p:xfrm>
        <a:graphic>
          <a:graphicData uri="http://schemas.openxmlformats.org/drawingml/2006/table">
            <a:tbl>
              <a:tblPr/>
              <a:tblGrid>
                <a:gridCol w="1333440"/>
                <a:gridCol w="2948040"/>
                <a:gridCol w="1549440"/>
                <a:gridCol w="90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+ 1 ==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!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es not equ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.2 != 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l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 &gt;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ss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6 &lt;=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eater than or equal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.0 &gt;= 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ou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ei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better format its outpu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play results in the format below,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$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2 digits afte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log of execu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many people at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1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2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3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25.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erson #4: How much did your dinner cost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1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total:  $70.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ax:       $5.6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ip:       $10.5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otal:     $86.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rint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answer (partial)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alculates total owed, assuming 8% tax and 15% ti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results(double subtotal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ax = subtotal * .08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ip = subtotal * .15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total = subtotal + tax + tip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Subtotal: $" +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ax: $" +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ip: $" +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</a:rPr>
              <a:t>// System.out.println("Total: $" +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Subtotal: $%.2f\n", sub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ax:      $%.2f\n", tax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ip:      $%.2f\n", tip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f("Total:    $%.2f\n", total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ar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onal operators such a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ail on objec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name == "Barney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will compile, but it will not print the son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==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ares objects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referenc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, so it often give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ven when two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have the same let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equal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s are compared using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ame.equals("Barney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I love you, you love me,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We're a happy family!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cally this is a method that returns a value of typ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ype used in logical tes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test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676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startsWith("Prof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When are your office hours?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.equalsIgnoreCase("STUART"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System.out.println("Let's talk about meta!")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38160" y="1219320"/>
          <a:ext cx="9067680" cy="2690640"/>
        </p:xfrm>
        <a:graphic>
          <a:graphicData uri="http://schemas.openxmlformats.org/drawingml/2006/table">
            <a:tbl>
              <a:tblPr/>
              <a:tblGrid>
                <a:gridCol w="3038400"/>
                <a:gridCol w="6029280"/>
              </a:tblGrid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qualsIgnoreCas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wo strings contain the same characters, ignoring upper vs. lower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tart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st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sWith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one contains other's characters at 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ains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whether the given string is found within this 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470720" y="1969920"/>
            <a:ext cx="1563840" cy="4572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isuse of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's wrong with the following co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percentage did you earn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ercent = 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9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A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8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B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7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C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gt;=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 D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(percent &lt; 60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You got an F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hooses between outcomes using many t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x &g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Posi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x &lt; 0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Negative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Zero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950080" y="1969920"/>
            <a:ext cx="3117600" cy="243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/if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exactly one path must be tak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t ends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the code might not execute any pat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if 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els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if 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est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0960" indent="-210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if (place == 1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Gold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2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Silver medal!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 else if (place == 3) {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ystem.out.println("Bronze medal.");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5688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91320" y="2013120"/>
            <a:ext cx="3276360" cy="28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truct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1295280"/>
          <a:ext cx="9144000" cy="51246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246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actly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808080"/>
                      </a:solidFill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90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 or 1 path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utually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else 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90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80808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824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 1, or many paths  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independent tests; not exclusiv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743200">
                        <a:lnSpc>
                          <a:spcPct val="8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f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{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ement(s)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117880" indent="-289080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}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ich neste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if/els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1) if/if/if   (2) nested if/else   (3) nested if/else/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user is lower, middle, or upper-class based on inco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you made the dean's list (GPA ≥ 3.8) or honor roll (3.5-3.8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3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ther a number is divisible by 2, 3, and/or 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quenti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if / i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ing a grade of A, B, C, D, or F based on a percent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(2)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st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/ else if / else if / else if / el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20:14Z</dcterms:modified>
  <cp:revision>121</cp:revision>
  <dc:subject/>
  <dc:title>CSE 142 Python Slides</dc:title>
</cp:coreProperties>
</file>