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93B-90D7-4930-AC61-66AD0A053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D55F-EBE2-45DC-BC3F-2E46702E20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: You can base your knowledge of variable B on variable A if B's value is related to A'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slide, we know things about next, so we also know things about prev at certain p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7380-FF11-4557-A783-9679A60CE6C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Logic and Indefinite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tegories of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ecutes a known number of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s we have seen are definite loo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"hello" 10 tim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d all the prime numbers up to an integ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each odd number between 5 and 12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efinite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ne where the number of times its body repeats is not known in adv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mpt the user until they type a non-negative numb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t random numbers until a prime number is prin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until the user has types "q" to qu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peatedly executes i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dy as long as a logical test is tru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 = 1;      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um &lt;= 200) {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 = num * 2;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upd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output:  1 2 4 8 16 32 64 1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Picture 4" descr="while"/>
          <p:cNvPicPr/>
          <p:nvPr/>
        </p:nvPicPr>
        <p:blipFill>
          <a:blip r:embed="rId1"/>
          <a:stretch/>
        </p:blipFill>
        <p:spPr>
          <a:xfrm>
            <a:off x="6553080" y="1471680"/>
            <a:ext cx="2459160" cy="23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xampl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finds the first factor of 91, other than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9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factor = 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while (n % factor !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ctor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First factor is " + facto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output:  First factor is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better th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we don't know how many times we will need to increment to find the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value that signals the end of user inpu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entinel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Repeats until a sentinel value is se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Write a program that prompts the user for numbers until the user types 0, then outputs their su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n this case, 0 is the sentinel value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0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sum is 6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entinel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is 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0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program to use a sentinel value of -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Enter a number (-1 to quit)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total is 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hanging the sentinel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see the problem, change the sentinel's value to -1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1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dummy value", anything but 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the solution produces the wrong output.  Why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 total was 79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problem with our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code uses a pattern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add input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last pass, the sentinel -1 is added to the su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 (-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a50021"/>
                </a:solidFill>
                <a:latin typeface="Tahoma"/>
              </a:rPr>
              <a:t>add input (-1) to th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s a fencepost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rea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s, but only sum the firs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1 of the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fencepos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um = 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le (input is not the sentinel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add input to the sum.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wire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mpt for input; read input.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8080"/>
                </a:solidFill>
                <a:latin typeface="Tahoma"/>
              </a:rPr>
              <a:t>// place a "post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inel loops often utilize a fencepost "loop-and-a-half" style solution by pulling some code out of the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rrect sentinel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-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um = sum + number;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-1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deceptive problem..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each number from 1 to a given maximum, separated by comma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e 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pri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entinel as a consta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public static final int SENTINEL = -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ull one prompt/read ("post") out of the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ile (number !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number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moved to top of lo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Enter a number (" +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ENTINEL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 to quit)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total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andom number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generates pseudo-random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found in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Number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10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0-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2666880"/>
          <a:ext cx="8809200" cy="1792440"/>
        </p:xfrm>
        <a:graphic>
          <a:graphicData uri="http://schemas.openxmlformats.org/drawingml/2006/table">
            <a:tbl>
              <a:tblPr/>
              <a:tblGrid>
                <a:gridCol w="1959120"/>
                <a:gridCol w="6850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In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integer in the range [0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 other words, 0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a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1 inclus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Doubl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turns a random real number in the range [0.0, 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enerating random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usage: to get a random number from 1 to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20) +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-20 inclusi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600" indent="-26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get a number in arbitrary range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 inclusiv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nextInt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+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re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ze of ra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A random integer between 4 and 10 inclusiv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n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.nextInt(7) + 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declaration, how would you ge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1 and 47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1 = rand.nextInt(47) + 1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number between 23 and 30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2 = rand.nextInt(8) + 2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random even number between 4 and 12 inclusiv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andom3 = rand.nextInt(5) * 2 + 4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other ty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tween 0.0 - 1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Get a random GPA value between 1.5 and 4.0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andomGpa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.nextDoubl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* 2.5 + 1.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set of possible values can be mapped to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de to randomly play Rock-Paper-Scisso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 = rand.nextI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r ==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Rock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if (r == 1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Paper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r =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Scissor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8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8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simulates rolling of two 6-sided dice until their combined result comes up as 7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sum !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oll the dice o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1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lays an adding g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k user to solve random adding problems with 2-5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ser gets 1 point for a correct answer, 0 for incorrec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gram stops after 3 incorrect answ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10 + 3 + 10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 + 6 + 7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1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9 + 9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 + 1 + 7 + 2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 + 2 + 10 + 9 + 7 =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rong! The answer was 3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 earned 4 total poi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sks the user to do adding problems and scores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AddingG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until user gets 3 wro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oint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wrong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wrong &lt; 3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esult = play(console, rand)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lay one g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result &gt;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int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ong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earned " + points + " total poi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 + ", 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max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", " + i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o end the line of out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 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Numbers(5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, 2, 3, 4,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andom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Builds one addition problem and presents it to the us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1 point if you get it right, 0 if wr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play(Scanner console, Random rand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 the operands being added, and sum th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operands = rand.nextInt(4) + 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2; i &lt;= operands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 = rand.nextInt(10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+= n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+ " + 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 =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ad user's guess and report whether it was correc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guess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guess == sum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Wrong! The answer was 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48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loo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forms its test at the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each repeti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uarantees that the loop'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{}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dy will run at least o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while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Example: prompt until correct password is ty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phra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your password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ras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while (!phrase.equals("abracadabra"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3" descr="do_while"/>
          <p:cNvPicPr/>
          <p:nvPr/>
        </p:nvPicPr>
        <p:blipFill>
          <a:blip r:embed="rId1"/>
          <a:stretch/>
        </p:blipFill>
        <p:spPr>
          <a:xfrm>
            <a:off x="7385040" y="2178000"/>
            <a:ext cx="15336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dify the previous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ic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program to use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+ 4 = 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+ 5 = 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 + 6 = 1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1 =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4 + 3 =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 won after 5 tries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/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good fit for our pa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nti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o/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olls two dice until a sum of 7 is reache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Di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rand = new Rand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tries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1 = rand.nextInt(6) + 1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ne rol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roll2 = rand.nextInt(6) + 1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um = roll1 + roll2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roll1 + " + " + roll2 + " = " + sum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ies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while (sum != 7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 won after " + tries + " tries!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ethods that are tes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thods return logical valu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all to such a method is used as a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a loop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Type your first name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Dr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Will you marry me?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ndsWith("Esq.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And I am Ted 'Theodore' Logan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9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564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8160" y="137160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logical type whose values 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logical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tually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-2358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as a parame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from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ll a method that returns a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use it as a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minor 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age &lt; 21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isProf  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ame.contains("Prof"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 lovesCS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allow only CSE-loving students over 2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inor || isProf || !lovesC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Can't enter the club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is 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ful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capture a complex logical test result and use it la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write a method that does a complex test and returns 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kes code more read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pass around the result of a logical test (as param/retur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Age    = age &gt;= 12 &amp;&amp; age &lt; 2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goodHeight = height &gt;= 78 &amp;&amp; height &lt; 8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rich       = salary &gt;= 100000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(goodAge &amp;&amp; goodHeight) || rich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Okay, let's go out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t's not you, it's me...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factors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s to methods return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used as t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sPrime(5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1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1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1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 pos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pri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s but need onl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1 com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building a fence with wires separated by po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we use a flawed algorithm that repeatedly places a post + wire, the last post will have an extra dangling wire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for (length of fence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    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8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4" name="Group 4"/>
          <p:cNvGrpSpPr/>
          <p:nvPr/>
        </p:nvGrpSpPr>
        <p:grpSpPr>
          <a:xfrm>
            <a:off x="2286000" y="4876920"/>
            <a:ext cx="4952520" cy="990360"/>
            <a:chOff x="2286000" y="4876920"/>
            <a:chExt cx="4952520" cy="990360"/>
          </a:xfrm>
        </p:grpSpPr>
        <p:grpSp>
          <p:nvGrpSpPr>
            <p:cNvPr id="95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96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98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" name="Group 10"/>
            <p:cNvGrpSpPr/>
            <p:nvPr/>
          </p:nvGrpSpPr>
          <p:grpSpPr>
            <a:xfrm>
              <a:off x="3276360" y="4876920"/>
              <a:ext cx="990360" cy="990360"/>
              <a:chOff x="3276360" y="4876920"/>
              <a:chExt cx="990360" cy="990360"/>
            </a:xfrm>
          </p:grpSpPr>
          <p:sp>
            <p:nvSpPr>
              <p:cNvPr id="101" name="Rectangle 11"/>
              <p:cNvSpPr/>
              <p:nvPr/>
            </p:nvSpPr>
            <p:spPr>
              <a:xfrm>
                <a:off x="32763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12"/>
              <p:cNvGrpSpPr/>
              <p:nvPr/>
            </p:nvGrpSpPr>
            <p:grpSpPr>
              <a:xfrm>
                <a:off x="3504960" y="5029200"/>
                <a:ext cx="761760" cy="380160"/>
                <a:chOff x="3504960" y="5029200"/>
                <a:chExt cx="761760" cy="380160"/>
              </a:xfrm>
            </p:grpSpPr>
            <p:sp>
              <p:nvSpPr>
                <p:cNvPr id="103" name="Rectangle 13"/>
                <p:cNvSpPr/>
                <p:nvPr/>
              </p:nvSpPr>
              <p:spPr>
                <a:xfrm>
                  <a:off x="35049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14"/>
                <p:cNvSpPr/>
                <p:nvPr/>
              </p:nvSpPr>
              <p:spPr>
                <a:xfrm>
                  <a:off x="35049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" name="Group 15"/>
            <p:cNvGrpSpPr/>
            <p:nvPr/>
          </p:nvGrpSpPr>
          <p:grpSpPr>
            <a:xfrm>
              <a:off x="4267080" y="4876920"/>
              <a:ext cx="990360" cy="990360"/>
              <a:chOff x="4267080" y="4876920"/>
              <a:chExt cx="990360" cy="990360"/>
            </a:xfrm>
          </p:grpSpPr>
          <p:sp>
            <p:nvSpPr>
              <p:cNvPr id="106" name="Rectangle 16"/>
              <p:cNvSpPr/>
              <p:nvPr/>
            </p:nvSpPr>
            <p:spPr>
              <a:xfrm>
                <a:off x="426708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7"/>
              <p:cNvGrpSpPr/>
              <p:nvPr/>
            </p:nvGrpSpPr>
            <p:grpSpPr>
              <a:xfrm>
                <a:off x="4495680" y="5029200"/>
                <a:ext cx="761760" cy="380160"/>
                <a:chOff x="4495680" y="5029200"/>
                <a:chExt cx="761760" cy="380160"/>
              </a:xfrm>
            </p:grpSpPr>
            <p:sp>
              <p:nvSpPr>
                <p:cNvPr id="108" name="Rectangle 18"/>
                <p:cNvSpPr/>
                <p:nvPr/>
              </p:nvSpPr>
              <p:spPr>
                <a:xfrm>
                  <a:off x="449568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19"/>
                <p:cNvSpPr/>
                <p:nvPr/>
              </p:nvSpPr>
              <p:spPr>
                <a:xfrm>
                  <a:off x="449568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11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13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5" name="Group 25"/>
            <p:cNvGrpSpPr/>
            <p:nvPr/>
          </p:nvGrpSpPr>
          <p:grpSpPr>
            <a:xfrm>
              <a:off x="6248160" y="4876920"/>
              <a:ext cx="990360" cy="990360"/>
              <a:chOff x="6248160" y="4876920"/>
              <a:chExt cx="990360" cy="990360"/>
            </a:xfrm>
          </p:grpSpPr>
          <p:sp>
            <p:nvSpPr>
              <p:cNvPr id="116" name="Rectangle 26"/>
              <p:cNvSpPr/>
              <p:nvPr/>
            </p:nvSpPr>
            <p:spPr>
              <a:xfrm>
                <a:off x="624816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" name="Group 27"/>
              <p:cNvGrpSpPr/>
              <p:nvPr/>
            </p:nvGrpSpPr>
            <p:grpSpPr>
              <a:xfrm>
                <a:off x="6476760" y="5029200"/>
                <a:ext cx="761760" cy="380160"/>
                <a:chOff x="6476760" y="5029200"/>
                <a:chExt cx="761760" cy="380160"/>
              </a:xfrm>
            </p:grpSpPr>
            <p:sp>
              <p:nvSpPr>
                <p:cNvPr id="118" name="Rectangle 28"/>
                <p:cNvSpPr/>
                <p:nvPr/>
              </p:nvSpPr>
              <p:spPr>
                <a:xfrm>
                  <a:off x="647676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29"/>
                <p:cNvSpPr/>
                <p:nvPr/>
              </p:nvSpPr>
              <p:spPr>
                <a:xfrm>
                  <a:off x="647676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our "rhyme" / "alliterate" program to use boolean methods to test for rhyming and alliter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ype two words: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ourier New"/>
              </a:rPr>
              <a:t>Bare bl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rhym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y alliterate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hyme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2.length() &gt;= 2 &amp;&amp; s1.endsWith(s2.substring(s2.length() - 2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s1.startsWith(s2.substring(0, 1))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new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test if a result 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tr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this is unnecessary and redundant.  Preferr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pattern can be used fo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es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</a:rPr>
              <a:t>isPrime(57) == fa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ba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3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!isPrime(57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go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2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, part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that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ten have 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the code above is unnecessarily verbo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boolea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We could store the result of the logical test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 test =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test ==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ice: Whatev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, we want to return tha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e want to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lution w/ "Boolean Zen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: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un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ores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value is exactly what you want to return.  So return that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 test =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tes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ven shorter ver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on't even need the variabl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just perform the test and return its result in one ste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bothOdd(int n1, int n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(n1 % 2 != 0 &amp;&amp; n2 % 2 != 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Boolean Zen" templat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boolean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mprov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sPrim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version utilizes Boolean Ze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sPrime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factors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n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n % i ==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s++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return factors == 2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f n has 2 factors -&gt; 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Rhyme program to use Boolean Z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23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Zen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("Type two words: 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1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ring word2 = console.next().toLowerCase(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ym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rhym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lliterate(word1, word2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tem.out.println("They alliterate!"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rhym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2.length() &gt;= 2 &amp;&amp; s1.endsWith(s2.substring(s2.length() - 2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// Returns true if s1 and s2 start with the same lett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oolean alliter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String s1, String s2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s1.startsWith(s2.substring(0, 1)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hort-circuit" evalu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va stops evaluating a test if it knows the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tops early if any part of the tes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crash if s2's length is less than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1.endsWith(s2.substring(s2.length() - 2)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length() &gt;= 2 &amp;&amp; s2.length() &gt;=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test will not crash; it stops if length &lt; 2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rue if s1 and s2 end with the same two let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rhyme(String s1, String s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1.length() &gt;= 2 &amp;&amp; s2.length() &gt;= 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1.endsWith(s2.substring(s2.length() - 2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statement outside the loop to place the initial "post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 called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encepost loo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a "loop-and-a-half"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or (length of fenc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- 1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some wi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lace a p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286000" y="4876920"/>
            <a:ext cx="4191120" cy="990360"/>
            <a:chOff x="2286000" y="4876920"/>
            <a:chExt cx="4191120" cy="990360"/>
          </a:xfrm>
        </p:grpSpPr>
        <p:grpSp>
          <p:nvGrpSpPr>
            <p:cNvPr id="123" name="Group 5"/>
            <p:cNvGrpSpPr/>
            <p:nvPr/>
          </p:nvGrpSpPr>
          <p:grpSpPr>
            <a:xfrm>
              <a:off x="2286000" y="4876920"/>
              <a:ext cx="990360" cy="990360"/>
              <a:chOff x="2286000" y="4876920"/>
              <a:chExt cx="990360" cy="990360"/>
            </a:xfrm>
          </p:grpSpPr>
          <p:sp>
            <p:nvSpPr>
              <p:cNvPr id="124" name="Rectangle 6"/>
              <p:cNvSpPr/>
              <p:nvPr/>
            </p:nvSpPr>
            <p:spPr>
              <a:xfrm>
                <a:off x="22860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7"/>
              <p:cNvGrpSpPr/>
              <p:nvPr/>
            </p:nvGrpSpPr>
            <p:grpSpPr>
              <a:xfrm>
                <a:off x="2514600" y="5029200"/>
                <a:ext cx="761760" cy="380160"/>
                <a:chOff x="2514600" y="5029200"/>
                <a:chExt cx="761760" cy="380160"/>
              </a:xfrm>
            </p:grpSpPr>
            <p:sp>
              <p:nvSpPr>
                <p:cNvPr id="126" name="Rectangle 8"/>
                <p:cNvSpPr/>
                <p:nvPr/>
              </p:nvSpPr>
              <p:spPr>
                <a:xfrm>
                  <a:off x="25146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Rectangle 9"/>
                <p:cNvSpPr/>
                <p:nvPr/>
              </p:nvSpPr>
              <p:spPr>
                <a:xfrm>
                  <a:off x="25146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" name="Group 10"/>
            <p:cNvGrpSpPr/>
            <p:nvPr/>
          </p:nvGrpSpPr>
          <p:grpSpPr>
            <a:xfrm>
              <a:off x="3276720" y="4876920"/>
              <a:ext cx="990360" cy="990360"/>
              <a:chOff x="3276720" y="4876920"/>
              <a:chExt cx="990360" cy="990360"/>
            </a:xfrm>
          </p:grpSpPr>
          <p:sp>
            <p:nvSpPr>
              <p:cNvPr id="129" name="Rectangle 11"/>
              <p:cNvSpPr/>
              <p:nvPr/>
            </p:nvSpPr>
            <p:spPr>
              <a:xfrm>
                <a:off x="327672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2"/>
              <p:cNvGrpSpPr/>
              <p:nvPr/>
            </p:nvGrpSpPr>
            <p:grpSpPr>
              <a:xfrm>
                <a:off x="3505320" y="5029200"/>
                <a:ext cx="761760" cy="380160"/>
                <a:chOff x="3505320" y="5029200"/>
                <a:chExt cx="761760" cy="380160"/>
              </a:xfrm>
            </p:grpSpPr>
            <p:sp>
              <p:nvSpPr>
                <p:cNvPr id="131" name="Rectangle 13"/>
                <p:cNvSpPr/>
                <p:nvPr/>
              </p:nvSpPr>
              <p:spPr>
                <a:xfrm>
                  <a:off x="350532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Rectangle 14"/>
                <p:cNvSpPr/>
                <p:nvPr/>
              </p:nvSpPr>
              <p:spPr>
                <a:xfrm>
                  <a:off x="350532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5"/>
            <p:cNvGrpSpPr/>
            <p:nvPr/>
          </p:nvGrpSpPr>
          <p:grpSpPr>
            <a:xfrm>
              <a:off x="4267440" y="4876920"/>
              <a:ext cx="990360" cy="990360"/>
              <a:chOff x="4267440" y="4876920"/>
              <a:chExt cx="990360" cy="9903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426744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" name="Group 17"/>
              <p:cNvGrpSpPr/>
              <p:nvPr/>
            </p:nvGrpSpPr>
            <p:grpSpPr>
              <a:xfrm>
                <a:off x="4496040" y="5029200"/>
                <a:ext cx="761760" cy="380160"/>
                <a:chOff x="4496040" y="5029200"/>
                <a:chExt cx="761760" cy="380160"/>
              </a:xfrm>
            </p:grpSpPr>
            <p:sp>
              <p:nvSpPr>
                <p:cNvPr id="136" name="Rectangle 18"/>
                <p:cNvSpPr/>
                <p:nvPr/>
              </p:nvSpPr>
              <p:spPr>
                <a:xfrm>
                  <a:off x="449604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9"/>
                <p:cNvSpPr/>
                <p:nvPr/>
              </p:nvSpPr>
              <p:spPr>
                <a:xfrm>
                  <a:off x="449604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20"/>
            <p:cNvGrpSpPr/>
            <p:nvPr/>
          </p:nvGrpSpPr>
          <p:grpSpPr>
            <a:xfrm>
              <a:off x="5257800" y="4876920"/>
              <a:ext cx="990360" cy="990360"/>
              <a:chOff x="5257800" y="4876920"/>
              <a:chExt cx="990360" cy="990360"/>
            </a:xfrm>
          </p:grpSpPr>
          <p:sp>
            <p:nvSpPr>
              <p:cNvPr id="139" name="Rectangle 21"/>
              <p:cNvSpPr/>
              <p:nvPr/>
            </p:nvSpPr>
            <p:spPr>
              <a:xfrm>
                <a:off x="5257800" y="4876920"/>
                <a:ext cx="228600" cy="9903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" name="Group 22"/>
              <p:cNvGrpSpPr/>
              <p:nvPr/>
            </p:nvGrpSpPr>
            <p:grpSpPr>
              <a:xfrm>
                <a:off x="5486400" y="5029200"/>
                <a:ext cx="761760" cy="380160"/>
                <a:chOff x="5486400" y="5029200"/>
                <a:chExt cx="761760" cy="380160"/>
              </a:xfrm>
            </p:grpSpPr>
            <p:sp>
              <p:nvSpPr>
                <p:cNvPr id="141" name="Rectangle 23"/>
                <p:cNvSpPr/>
                <p:nvPr/>
              </p:nvSpPr>
              <p:spPr>
                <a:xfrm>
                  <a:off x="5486400" y="5029200"/>
                  <a:ext cx="761760" cy="756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24"/>
                <p:cNvSpPr/>
                <p:nvPr/>
              </p:nvSpPr>
              <p:spPr>
                <a:xfrm>
                  <a:off x="5486400" y="5333400"/>
                  <a:ext cx="761760" cy="759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buClr>
                      <a:srgbClr val="800080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" name="Rectangle 25"/>
            <p:cNvSpPr/>
            <p:nvPr/>
          </p:nvSpPr>
          <p:spPr>
            <a:xfrm>
              <a:off x="6248520" y="4876920"/>
              <a:ext cx="228600" cy="99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 Morgan's La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 Morgan's La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ules used to negate boolean tes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ful when you want the opposite of an existing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685800" y="2317680"/>
          <a:ext cx="7756560" cy="1065240"/>
        </p:xfrm>
        <a:graphic>
          <a:graphicData uri="http://schemas.openxmlformats.org/drawingml/2006/table">
            <a:tbl>
              <a:tblPr/>
              <a:tblGrid>
                <a:gridCol w="2965320"/>
                <a:gridCol w="3024360"/>
                <a:gridCol w="1766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Exp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ternat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&amp;&amp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||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&amp;&amp;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||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a &amp;&amp; !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a || 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457200" y="4622760"/>
          <a:ext cx="8229600" cy="124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iginal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gated 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== 7 &amp;&amp; y &gt;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x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!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7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||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y </a:t>
                      </a:r>
                      <a:r>
                        <a:rPr b="1" lang="en-US" sz="2000" spc="-1" strike="noStrike">
                          <a:solidFill>
                            <a:srgbClr val="003399"/>
                          </a:solidFill>
                          <a:latin typeface="Courier New"/>
                        </a:rPr>
                        <a:t>&lt;=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3) 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.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owel (a, e, i, o, or u), case-insensitive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 the above method into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NonVow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 whether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y character except a vow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q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A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NonVowel("e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practice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version.  I have seen the true way (and false wa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.equalsIgnoreCase("a") || s.equalsIgnoreCase("e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i") || s.equalsIgnoreCase("o"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Enlightened "Boolean Zen" ver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NonVowel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!s.equalsIgnoreCase("a") &amp;&amp; !s.equalsIgnoreCase("e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i") &amp;&amp; !s.equalsIgnoreCase("o"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!s.equalsIgnoreCase("u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or, return !isVowel(s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return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with loops and return values can be trick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and where should the method return its resul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v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rameter and uses it to draw up to ten lotto numbers from 1-3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ny of the numbers is a lucky 7, the method should stop an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If none of the ten are 7 it should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should print each number as it is draw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 29 18 29 11 3 30 17 19 2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first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9 5 29 4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7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econd cal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lawe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if (num == 7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turn fals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always returns immediately after the first rol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wrong if that roll isn't a 7; we need to keep rolli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t the right tim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10 lotto numbers; returns true if one is 7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boolean seven(Random rand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 = rand.nextInt(30) +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num + 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3399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f (num == 7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nd lucky 7; can exit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tru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8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eturn false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if we get here, there was no 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mmediately if 7 is foun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7 isn't found, the loop continues drawing lotto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all ten aren't 7, the loop ends and we retur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git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n integer parameter and returns the sum of its digi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the number is non-negati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igitSum(29107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2+9+1+0+7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nt: Us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perator to extract a digit from a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loop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digitSum(int n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Math.abs(n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handle neg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(n &gt; 0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m = sum + (n % 10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dd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 = n / 10;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move last dig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u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4822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1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6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asAnOddDigit(2448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 of an integer is od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13531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lDigitsOdd(917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9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: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eve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vow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eIeIo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sAllVowels("oi</a:t>
            </a:r>
            <a:r>
              <a:rPr b="0" lang="en-US" sz="2200" spc="-1" strike="noStrike">
                <a:solidFill>
                  <a:srgbClr val="800000"/>
                </a:solidFill>
                <a:latin typeface="Courier New"/>
              </a:rPr>
              <a:t>n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1960" indent="-158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roblems are available in our Practice-It! system unde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.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2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5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oolean return 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hasAnOddDigit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!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od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allDigitsOdd(int n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 % 2 == 0) {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heck whether last digit is eve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 = n / 1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boolean isAllVowels(String 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0; i &lt; s.length()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etter = s.substring(i, i + 1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!isVowel(letter)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als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true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method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(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 &lt;= max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", " + i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7120" indent="-2671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ernate solution: Either first or last "post" can be taken o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printNumbers(int max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max -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+ ", "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ystem.out.println(max);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sser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tatement that is either true or fal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Java was created in 199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ky is purp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3 is a prime numb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0 is greater than 20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divided by 2 equals 7. 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(depends on the value of x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assertion might be false ("The sky is purple" above), but it is still an assertion because it is a true/false stat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se you have the following co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x &gt; 3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--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x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Point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do you know abo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value at the three po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gt; 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?  Always?  Sometimes?  Never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in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can make assertions about our code and ask whether they are true at various point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Valid answers are ALWAYS, NEVER, or SOMETIME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onnegative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A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number &lt; 0.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B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Negative; try again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umber = console.nextDoubl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C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-231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i="1" lang="en-US" sz="2200" spc="-1" strike="noStrike">
                <a:solidFill>
                  <a:srgbClr val="008080"/>
                </a:solidFill>
                <a:latin typeface="Courier New"/>
              </a:rPr>
              <a:t>// Point D: is number &lt; 0.0 her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7134120" y="2317680"/>
            <a:ext cx="2057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ALWAY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SOMETIM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NEV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asoning about asser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after a variable is initialized, its value is know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x &gt; 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 you know nothing about parameters' val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nside 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etc., you may know someth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ystery(int a, int b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a &lt; 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a ==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the start of a loop's body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ALWAY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a loop, the loop's test must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NEV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5280" indent="-215280">
              <a:lnSpc>
                <a:spcPct val="75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ide a loop's body, the loop's test may bec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hile (y &lt; 10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++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is y &lt; 10?  SOMETI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7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"Sometimes"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ngs that cause a variable's value to be unknow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often leads to "sometimes" answers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ding a number from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arameter's initial value to a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you can reach a part of the program both with the answer being "yes" and the answer being "no", then the correct answer is "sometimes"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you're unsure, "Sometimes" is a good gu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ystery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z = 0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x &gt;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- y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++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x !=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z = z *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z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&lt;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x ==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z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20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mystery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rev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A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hile (next !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ext == prev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ev = nex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ext = console.nextIn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6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478400" y="3809880"/>
          <a:ext cx="4665600" cy="2286000"/>
        </p:xfrm>
        <a:graphic>
          <a:graphicData uri="http://schemas.openxmlformats.org/drawingml/2006/table">
            <a:tbl>
              <a:tblPr/>
              <a:tblGrid>
                <a:gridCol w="921960"/>
                <a:gridCol w="1141560"/>
                <a:gridCol w="114156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ev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ext == pr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4473720" y="3809880"/>
          <a:ext cx="4665600" cy="229248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141200"/>
                <a:gridCol w="1460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2" name="Text Box 41"/>
          <p:cNvSpPr/>
          <p:nvPr/>
        </p:nvSpPr>
        <p:spPr>
          <a:xfrm>
            <a:off x="4114800" y="25909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ssertion example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Assumes y &gt;= 0, and returns x^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int pow(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 = 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 (y &gt;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y % 2 == 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x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y / 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od = prod * 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--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    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8080"/>
                </a:solidFill>
                <a:latin typeface="Courier New"/>
              </a:rPr>
              <a:t>// Point 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prod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3240" indent="-243360">
              <a:lnSpc>
                <a:spcPct val="6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5257800" y="3124080"/>
          <a:ext cx="3352680" cy="30783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Text Box 41"/>
          <p:cNvSpPr/>
          <p:nvPr/>
        </p:nvSpPr>
        <p:spPr>
          <a:xfrm>
            <a:off x="4114800" y="205740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Which of the following assertions 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rue at which point(s) in the code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hoose ALWAYS, NEVER, or SOME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257800" y="3124080"/>
          <a:ext cx="3352680" cy="3076560"/>
        </p:xfrm>
        <a:graphic>
          <a:graphicData uri="http://schemas.openxmlformats.org/drawingml/2006/table">
            <a:tbl>
              <a:tblPr/>
              <a:tblGrid>
                <a:gridCol w="922320"/>
                <a:gridCol w="1141560"/>
                <a:gridCol w="1288800"/>
              </a:tblGrid>
              <a:tr h="3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&gt;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 % 2 == 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oint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E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LWAY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your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Numb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to a new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ntPr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l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im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 up to a max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Primes(50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2, 3, 5, 7, 11, 13, 17, 19, 23, 29, 31, 37, 41, 43, 47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maximum is less than 2, print no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you, 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ich returns the number of factors of a give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Factors(20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ue to factors 1, 2, 4, 5, 10, 2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encepost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all prime numbers up to the given max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printPrimes(int max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max &gt;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2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3; i &lt;= max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countFactors(i) == 2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, " + i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unt++;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4:20Z</dcterms:modified>
  <cp:revision>122</cp:revision>
  <dc:subject/>
  <dc:title>CSE 142 Python Slides</dc:title>
</cp:coreProperties>
</file>