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E747-C434-4F0D-9BCB-825AE1A13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C12-8743-497E-92F2-047B7E0346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basically not possible to write a swap method that accepts two 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p can't escape from itself to modify the outside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ort of like the villains in the holodeck on Star Trek; they can wreak havoc in their holo-world, but they can't leave and attack the real Enterprise outs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is is also the reason that it works when you pass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s a parameter to a method, because it is drawing with the same pen object onto the sam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robably won't reach this in lecture; it's here just in c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time: Curve the scores; add a fixed number to each scor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t don't allow a curved score to exceed the max of 100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ime purposes, I will begin with the code already written to open the file and read each sc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068E-4107-4DA5-AFCA-6299544BD12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7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array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numbers = new int[8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1]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4] = 9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6]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numbers[1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x] = 4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024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[6]] = 11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se numbers[6] as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52280" y="5410080"/>
          <a:ext cx="1447920" cy="520560"/>
        </p:xfrm>
        <a:graphic>
          <a:graphicData uri="http://schemas.openxmlformats.org/drawingml/2006/table">
            <a:tbl>
              <a:tblPr/>
              <a:tblGrid>
                <a:gridCol w="1447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914400" y="4038480"/>
          <a:ext cx="1428840" cy="52056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752480" y="4876920"/>
          <a:ext cx="5308560" cy="104112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f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common to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ops to access array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(numbers[i]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output: 0 4 11 0 44 0 0 2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assign each element a value in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8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2 * i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981080" y="5130720"/>
          <a:ext cx="5308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iel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ield stores its number of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numbers[i] + "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0 2 4 6 8 10 12 1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does not use parentheses like a String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length(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xpressions refer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ast element of any array?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ddle elemen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n array to solve the weather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ow many days' temperatures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days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[] temps = new int[days];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/store each day's temperatur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Day " + (i + 1) + "'s high temp: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 = console.nextInt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um += temps[i]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average = (double) sum / day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 count = 0;              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see if each day is above average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 (int i = 0; i &lt; days; i++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emps[i]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&gt; averag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lnSpc>
                <a:spcPct val="65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ck array initial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{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…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[] numbers = {12, 49, -2, 26, 5, 17, -6}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know what the array's elements will b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figures out the size by counting the valu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209680" y="297180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Array mystery"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avers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xamination of each element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element values are stored in the following array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{1, 7, 5, 6, 4, 14, 11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 - 1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[i] &gt; a[i + 1]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 + 1] = a[i + 1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179800" y="4978440"/>
          <a:ext cx="475452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imitations of 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resize an existing arr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 = new int[4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.length = 10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not compare array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2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 == a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a1.equals(a2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... }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als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rray does not know how to print itsel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a1 = {42, -7, 1, 1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1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[I@98f8c4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4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packag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useful static methods for manipulating array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6440" indent="-226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6320" y="2209680"/>
          <a:ext cx="8991360" cy="3409920"/>
        </p:xfrm>
        <a:graphic>
          <a:graphicData uri="http://schemas.openxmlformats.org/drawingml/2006/table">
            <a:tbl>
              <a:tblPr/>
              <a:tblGrid>
                <a:gridCol w="3809880"/>
                <a:gridCol w="5181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binarySearc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the index of the given value in a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rte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array (or &lt; 0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py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ng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new copy of an arr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f the two arrays contain same elements in the same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il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ts every element to the given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or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nges the elements into sorted or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rra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string representing the array, such as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"[10, 30, -25, 17]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Arrays.to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rrays.to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ccepts an array as a parameter an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resentation of its el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e = {0, 2, 4, 6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[1] = e[3] + e[4]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 is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rays.toString(e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 is [0, 14, 4, 6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n we solve this problem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following program (input underlined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4" descr="CLOUDS&amp;RAIN"/>
          <p:cNvPicPr/>
          <p:nvPr/>
        </p:nvPicPr>
        <p:blipFill>
          <a:blip r:embed="rId1"/>
          <a:stretch/>
        </p:blipFill>
        <p:spPr>
          <a:xfrm>
            <a:off x="6629400" y="2057400"/>
            <a:ext cx="203976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weather program to print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days' temperatures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1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2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3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4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5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3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6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4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ay 7's high temp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5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 temp = 44.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4 days were above aver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emperatures: [45, 44, 39, 48, 37, 46, 5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coldest days: 37, 3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Two hottest days: 53, 4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eather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28240" y="1294920"/>
            <a:ext cx="89154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temperatures from the user, computes average and # days above average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class Weather2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nt[] temps = new int[days];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array to store days' temperature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...   </a:t>
            </a:r>
            <a:r>
              <a:rPr b="0" i="1" lang="en-US" sz="1300" spc="-1" strike="noStrike">
                <a:solidFill>
                  <a:srgbClr val="000000"/>
                </a:solidFill>
                <a:latin typeface="Courier New"/>
              </a:rPr>
              <a:t>(same as Weather program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port results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f("Average temp = %.1f\n", average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count + " days above averag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emperatures: " +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toString(temps)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rrays.sort(temps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coldest days: " + temps[0] + ", " + temps[1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Two hottest days: " + temps[temps.length - 1] +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", " + temps[temps.length - 2]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6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as paramet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wapping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b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a50021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wrong with this code?  What is its out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d code should be replaced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al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code that reverses the elements of an arr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xample, if the array initially sto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11, 42, -5, 27, 0, 89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fter your reversal code, it should sto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89, 0, 27, -5, 42, 11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de should work for an array of any siz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nt: think about swapping various element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gorithm idea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ap pairs of elements from the edges;  work inwar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flipV="1">
            <a:off x="29718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0199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 flipV="1">
            <a:off x="35812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41008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19112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3200040"/>
            <a:ext cx="0" cy="304920"/>
          </a:xfrm>
          <a:prstGeom prst="line">
            <a:avLst/>
          </a:prstGeom>
          <a:ln w="57240">
            <a:solidFill>
              <a:srgbClr val="0000ff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676520" y="2333520"/>
          <a:ext cx="4647960" cy="790560"/>
        </p:xfrm>
        <a:graphic>
          <a:graphicData uri="http://schemas.openxmlformats.org/drawingml/2006/table">
            <a:tbl>
              <a:tblPr/>
              <a:tblGrid>
                <a:gridCol w="968040"/>
                <a:gridCol w="614520"/>
                <a:gridCol w="610920"/>
                <a:gridCol w="614160"/>
                <a:gridCol w="614880"/>
                <a:gridCol w="610920"/>
                <a:gridCol w="614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0000"/>
                          </a:solidFill>
                          <a:latin typeface="Tahoma"/>
                          <a:ea typeface="Times New Roman"/>
                        </a:rPr>
                        <a:t>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's wrong with this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[11, 42, -5, 27, 0, 89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everse the arr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numbers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loop goes too far and un-reverses the array!  Fixed vers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umbers.length /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write methods that accept arrays as parameters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we need to return the new array contents after reversal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the average of the given array of numb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double 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numb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 +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uble) sum / numbers.length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don't specify the array's length (but you can examine i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array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figure out the average TA IQ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avg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verage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q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"Average IQ = " + avg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you don't writ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]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hen passing the arra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y the problem is har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each input value tw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mpute the average (a cumulative su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unt how many were abov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read each value into a variable... but w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days are needed until the program ru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on't know how many variables to dec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a way to declare many variables in one ste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declare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Returns a new array with two copies of each valu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  <a:ea typeface="Courier New"/>
              </a:rPr>
              <a:t>// Example: [1, 4, 0, 7] -&gt; [1, 1, 4, 4, 0, 0, 7, 7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tter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resul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new int[2 * numbers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 = 0; i &lt; numbers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]    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[2 * i + 1]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(cal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[]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MyProgram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[] iq = {126, 84, 149, 167, 95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  <a:ea typeface="Courier New"/>
              </a:rPr>
              <a:t>int[] stuttere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= stutter(iq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Arrays.toString(stuttered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[126, 126, 84, 84, 149, 149, 167, 167, 95, 95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6705720" y="62452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E1B-EA37-4ADD-AC0C-8C3ECDC8BC15}" type="slidenum">
              <a:rPr b="0" lang="en-US" sz="1200" spc="-1" strike="noStrike">
                <a:solidFill>
                  <a:srgbClr val="424242"/>
                </a:solidFill>
                <a:latin typeface="Verdana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wap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the follow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work?  Why or why no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a = 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b = 3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wap a with b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swap(a,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 + " " + b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 static void swap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emp = a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 = temp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lues are copied when assigned, passed as parameters, or return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rimitive types in Java use value semantic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its value is cop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does not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y = x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= 17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5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= 8;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x = 8, y = 1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Reference semantics (objects)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ferenc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Behavior where variables actually store the address of an object in memo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one variable is assigned to another, the object is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pied; both variables refer to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ame obj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value of one variabl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oth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1 = {4, 15, 8}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a2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fer to same array as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2[0] = 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rrays.toString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[7, 15, 8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5359320"/>
          <a:ext cx="253656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8" name=""/>
          <p:cNvGrpSpPr/>
          <p:nvPr/>
        </p:nvGrpSpPr>
        <p:grpSpPr>
          <a:xfrm>
            <a:off x="533520" y="5803920"/>
            <a:ext cx="2523960" cy="444600"/>
            <a:chOff x="533520" y="5803920"/>
            <a:chExt cx="2523960" cy="444600"/>
          </a:xfrm>
        </p:grpSpPr>
        <p:sp>
          <p:nvSpPr>
            <p:cNvPr id="199" name=""/>
            <p:cNvSpPr/>
            <p:nvPr/>
          </p:nvSpPr>
          <p:spPr>
            <a:xfrm>
              <a:off x="533520" y="580392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1679760" y="5819760"/>
              <a:ext cx="1377720" cy="380880"/>
              <a:chOff x="1679760" y="5819760"/>
              <a:chExt cx="1377720" cy="380880"/>
            </a:xfrm>
          </p:grpSpPr>
          <p:sp>
            <p:nvSpPr>
              <p:cNvPr id="201" name=""/>
              <p:cNvSpPr/>
              <p:nvPr/>
            </p:nvSpPr>
            <p:spPr>
              <a:xfrm>
                <a:off x="2067120" y="6010200"/>
                <a:ext cx="990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9760" y="5819760"/>
                <a:ext cx="380880" cy="380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" name=""/>
          <p:cNvGrpSpPr/>
          <p:nvPr/>
        </p:nvGrpSpPr>
        <p:grpSpPr>
          <a:xfrm>
            <a:off x="6171840" y="5791320"/>
            <a:ext cx="2438280" cy="444240"/>
            <a:chOff x="6171840" y="5791320"/>
            <a:chExt cx="2438280" cy="444240"/>
          </a:xfrm>
        </p:grpSpPr>
        <p:sp>
          <p:nvSpPr>
            <p:cNvPr id="204" name=""/>
            <p:cNvSpPr/>
            <p:nvPr/>
          </p:nvSpPr>
          <p:spPr>
            <a:xfrm>
              <a:off x="7467480" y="5791320"/>
              <a:ext cx="114264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3399"/>
                  </a:solidFill>
                  <a:latin typeface="Tahoma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6171840" y="5829120"/>
              <a:ext cx="1295280" cy="380520"/>
              <a:chOff x="6171840" y="5829120"/>
              <a:chExt cx="1295280" cy="380520"/>
            </a:xfrm>
          </p:grpSpPr>
          <p:sp>
            <p:nvSpPr>
              <p:cNvPr id="206" name=""/>
              <p:cNvSpPr/>
              <p:nvPr/>
            </p:nvSpPr>
            <p:spPr>
              <a:xfrm flipH="1">
                <a:off x="6171840" y="601920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86240" y="5829120"/>
                <a:ext cx="380880" cy="3805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ferenc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nd objects use reference semantics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fficiency.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pying large objects slows dow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haring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t's useful to share an object's data among metho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anel1 = new DrawingPanel(8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rawingPanel panel2 = panel1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ame wind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anel2.setBackground(Color.CYA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981440" cy="1406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981080" y="4584600"/>
            <a:ext cx="2286000" cy="444600"/>
            <a:chOff x="1981080" y="4584600"/>
            <a:chExt cx="2286000" cy="444600"/>
          </a:xfrm>
        </p:grpSpPr>
        <p:sp>
          <p:nvSpPr>
            <p:cNvPr id="212" name=""/>
            <p:cNvSpPr/>
            <p:nvPr/>
          </p:nvSpPr>
          <p:spPr>
            <a:xfrm>
              <a:off x="1981080" y="4584600"/>
              <a:ext cx="1143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4800600"/>
              <a:ext cx="76176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49640" y="4608360"/>
              <a:ext cx="380880" cy="3812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981080" y="5423040"/>
            <a:ext cx="2286000" cy="444240"/>
            <a:chOff x="1981080" y="5423040"/>
            <a:chExt cx="2286000" cy="444240"/>
          </a:xfrm>
        </p:grpSpPr>
        <p:sp>
          <p:nvSpPr>
            <p:cNvPr id="216" name=""/>
            <p:cNvSpPr/>
            <p:nvPr/>
          </p:nvSpPr>
          <p:spPr>
            <a:xfrm>
              <a:off x="1981080" y="542304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505320" y="5486040"/>
              <a:ext cx="76176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9640" y="544680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89640" y="5056200"/>
            <a:ext cx="1676520" cy="1190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n object is passed as a parameter, the object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pied.  The parameter refers to the same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parameter is modified, i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i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fect the original obj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window = new DrawingPanel(8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indow.setBackground(Color.YELL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(window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example(DrawingPanel panel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etBackground(Color.CYA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283520" y="5045040"/>
            <a:ext cx="1695240" cy="12034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029360" y="358128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9360" y="35812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29360" y="410220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5267160"/>
            <a:ext cx="0" cy="52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48320" y="526716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788080"/>
            <a:ext cx="1143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791320" y="5267160"/>
            <a:ext cx="590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4419720" y="5356080"/>
            <a:ext cx="2514600" cy="444240"/>
            <a:chOff x="4419720" y="5356080"/>
            <a:chExt cx="2514600" cy="444240"/>
          </a:xfrm>
        </p:grpSpPr>
        <p:sp>
          <p:nvSpPr>
            <p:cNvPr id="231" name=""/>
            <p:cNvSpPr/>
            <p:nvPr/>
          </p:nvSpPr>
          <p:spPr>
            <a:xfrm>
              <a:off x="4419720" y="5356080"/>
              <a:ext cx="11430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pa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43600" y="5571720"/>
              <a:ext cx="990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587920" y="537984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7029360" y="3581280"/>
            <a:ext cx="1631880" cy="1143000"/>
            <a:chOff x="7029360" y="3581280"/>
            <a:chExt cx="1631880" cy="1143000"/>
          </a:xfrm>
        </p:grpSpPr>
        <p:sp>
          <p:nvSpPr>
            <p:cNvPr id="235" name=""/>
            <p:cNvSpPr/>
            <p:nvPr/>
          </p:nvSpPr>
          <p:spPr>
            <a:xfrm>
              <a:off x="7029360" y="3581280"/>
              <a:ext cx="1143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wind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8457840" y="3886200"/>
              <a:ext cx="1908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280360" y="3602160"/>
              <a:ext cx="38088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pass by referenc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rays are passed as parameters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fere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anges made in the method are also seen by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iq = {126, 167, 95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crease(iq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Arrays.toString(iq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increas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[] 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0; i &lt; a.length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[i] = a[i] *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[252, 334, 190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7827840" y="3581280"/>
            <a:ext cx="55404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86400" y="5054760"/>
          <a:ext cx="3429000" cy="1041120"/>
        </p:xfrm>
        <a:graphic>
          <a:graphicData uri="http://schemas.openxmlformats.org/drawingml/2006/table">
            <a:tbl>
              <a:tblPr/>
              <a:tblGrid>
                <a:gridCol w="1182960"/>
                <a:gridCol w="749160"/>
                <a:gridCol w="747720"/>
                <a:gridCol w="74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43" name=""/>
          <p:cNvGrpSpPr/>
          <p:nvPr/>
        </p:nvGrpSpPr>
        <p:grpSpPr>
          <a:xfrm>
            <a:off x="7238880" y="3505320"/>
            <a:ext cx="1371600" cy="1739880"/>
            <a:chOff x="7238880" y="3505320"/>
            <a:chExt cx="1371600" cy="1739880"/>
          </a:xfrm>
        </p:grpSpPr>
        <p:sp>
          <p:nvSpPr>
            <p:cNvPr id="244" name=""/>
            <p:cNvSpPr/>
            <p:nvPr/>
          </p:nvSpPr>
          <p:spPr>
            <a:xfrm>
              <a:off x="7238880" y="3505320"/>
              <a:ext cx="914400" cy="44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q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 flipH="1">
              <a:off x="8229240" y="3757680"/>
              <a:ext cx="193680" cy="14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29240" y="3568680"/>
              <a:ext cx="38124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57600" y="5486400"/>
            <a:ext cx="1980720" cy="444600"/>
            <a:chOff x="3657600" y="5486400"/>
            <a:chExt cx="1980720" cy="444600"/>
          </a:xfrm>
        </p:grpSpPr>
        <p:sp>
          <p:nvSpPr>
            <p:cNvPr id="248" name=""/>
            <p:cNvSpPr/>
            <p:nvPr/>
          </p:nvSpPr>
          <p:spPr>
            <a:xfrm>
              <a:off x="3657600" y="5486400"/>
              <a:ext cx="102672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48"/>
            <p:cNvSpPr/>
            <p:nvPr/>
          </p:nvSpPr>
          <p:spPr>
            <a:xfrm>
              <a:off x="4952880" y="570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67040" y="5521320"/>
              <a:ext cx="380520" cy="380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verse quest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rn your array reversal code in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ver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 the array of integers to reverse as a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{11, 42, -5, 27, 0, 89}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verse(number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reverse(int[] number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numbers.length / 2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numbers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i] = numbers[numbers.length - 1 - 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s[numbers.length - 1 - i] = temp;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2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ject that stores many values of the same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One value in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A 0-based integer to access an element from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050840" y="32511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Group 55"/>
          <p:cNvGrpSpPr/>
          <p:nvPr/>
        </p:nvGrpSpPr>
        <p:grpSpPr>
          <a:xfrm>
            <a:off x="1553760" y="4394160"/>
            <a:ext cx="6341400" cy="856080"/>
            <a:chOff x="1553760" y="4394160"/>
            <a:chExt cx="6341400" cy="856080"/>
          </a:xfrm>
        </p:grpSpPr>
        <p:grpSp>
          <p:nvGrpSpPr>
            <p:cNvPr id="97" name="Group 56"/>
            <p:cNvGrpSpPr/>
            <p:nvPr/>
          </p:nvGrpSpPr>
          <p:grpSpPr>
            <a:xfrm>
              <a:off x="1553760" y="4394160"/>
              <a:ext cx="1374120" cy="856080"/>
              <a:chOff x="1553760" y="4394160"/>
              <a:chExt cx="1374120" cy="856080"/>
            </a:xfrm>
          </p:grpSpPr>
          <p:sp>
            <p:nvSpPr>
              <p:cNvPr id="98" name="Line 57"/>
              <p:cNvSpPr/>
              <p:nvPr/>
            </p:nvSpPr>
            <p:spPr>
              <a:xfrm flipV="1">
                <a:off x="220968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58"/>
              <p:cNvSpPr/>
              <p:nvPr/>
            </p:nvSpPr>
            <p:spPr>
              <a:xfrm>
                <a:off x="155376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Group 59"/>
            <p:cNvGrpSpPr/>
            <p:nvPr/>
          </p:nvGrpSpPr>
          <p:grpSpPr>
            <a:xfrm>
              <a:off x="3763800" y="4394160"/>
              <a:ext cx="1374120" cy="856080"/>
              <a:chOff x="3763800" y="4394160"/>
              <a:chExt cx="1374120" cy="856080"/>
            </a:xfrm>
          </p:grpSpPr>
          <p:sp>
            <p:nvSpPr>
              <p:cNvPr id="101" name="Line 60"/>
              <p:cNvSpPr/>
              <p:nvPr/>
            </p:nvSpPr>
            <p:spPr>
              <a:xfrm flipV="1">
                <a:off x="441972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Text Box 61"/>
              <p:cNvSpPr/>
              <p:nvPr/>
            </p:nvSpPr>
            <p:spPr>
              <a:xfrm>
                <a:off x="376380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62"/>
            <p:cNvGrpSpPr/>
            <p:nvPr/>
          </p:nvGrpSpPr>
          <p:grpSpPr>
            <a:xfrm>
              <a:off x="6521040" y="4394160"/>
              <a:ext cx="1374120" cy="856080"/>
              <a:chOff x="6521040" y="4394160"/>
              <a:chExt cx="1374120" cy="856080"/>
            </a:xfrm>
          </p:grpSpPr>
          <p:sp>
            <p:nvSpPr>
              <p:cNvPr id="104" name="Line 63"/>
              <p:cNvSpPr/>
              <p:nvPr/>
            </p:nvSpPr>
            <p:spPr>
              <a:xfrm flipV="1">
                <a:off x="7176960" y="439416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 Box 64"/>
              <p:cNvSpPr/>
              <p:nvPr/>
            </p:nvSpPr>
            <p:spPr>
              <a:xfrm>
                <a:off x="6521040" y="4851360"/>
                <a:ext cx="13741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element 9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arrays of integers and two indexes and swaps the elements at those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(a1, 1,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56, 34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ap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s parameters and swaps their entire cont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two arrays are the same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20, 50, 8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apAll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1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20, 50, 8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2));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// [12, 34, 56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eter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values at the given two index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(int[] a, int i, int j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i] = a[j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[j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waps the entire contents of a1 with those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wapAll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temp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1[i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2[i] = temp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two arrays of integers and returns a new array containing all elements of the first array followed by all elements of the secon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3 = merge(a1, a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erge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merges 3 arrays similar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1 = {12, 34, 56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2 = {7, 8, 9, 10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3 = {444, 222, -1}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[] a4 = merge3(a1, a2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Arrays.toString(a4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[12, 34, 56, 7, 8, 9, 10, 444, 222, 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5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5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followed by all elements of a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[] merge(int[] a1, int[] a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[] result = new int[a1.length + a2.length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i] = a1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sult[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1.length + 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 = a2[i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return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a new array containing all elements of a1,a2,a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a4 = new int[a1.length + a2.length + a3.length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1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i] = a1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2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a1.length + i] = a2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a3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4[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1.length + a2.length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] = a3[i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a4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horter version that calls merg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[] merge3(int[] a1, int[] a2, int[] a3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erge(merge(a1, a2), a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rrays for tallyin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stFrequentDigi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the digit value that occurs most frequently in a nu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number 669260267 contain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0, two 2s, four 6es, one 7, and one 9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6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re is a tie, return the digit with the lower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stFrequentDigit(571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multi-counter probl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ould declare 10 counter variables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counter0, counter1, counter2, counter3, counter4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er5, counter6, counter7, counter8, counter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a better solution is to use an array of size 1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lement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ll store the counter for digit valu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for 669260267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8040" indent="-2480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2120" indent="-223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do we build such an array?  And how does it help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219320" y="44449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reating an array of talli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ssume n = 66926026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luck off a digit and add to proper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digit = n %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90720" y="449568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ally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digit value that occurs most frequently in 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Breaks ties by choosing the smaller valu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mostFrequentDigit(int n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] counts = new int[10]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igit = n % 10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luck off a digit and tally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unts[digit]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ind the most frequently occurring dig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bestIndex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 counts.length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counts[i] &gt; counts[bestIndex]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stIndex = i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bestInde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]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24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numbers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74760" indent="-285840">
              <a:spcBef>
                <a:spcPts val="601"/>
              </a:spcBef>
              <a:tabLst>
                <a:tab algn="l" pos="0"/>
                <a:tab algn="l" pos="200340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62120" y="4216320"/>
          <a:ext cx="6416640" cy="1041480"/>
        </p:xfrm>
        <a:graphic>
          <a:graphicData uri="http://schemas.openxmlformats.org/drawingml/2006/table">
            <a:tbl>
              <a:tblPr/>
              <a:tblGrid>
                <a:gridCol w="874440"/>
                <a:gridCol w="554040"/>
                <a:gridCol w="554040"/>
                <a:gridCol w="554040"/>
                <a:gridCol w="554040"/>
                <a:gridCol w="55584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a file of integer exam scores, such 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7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rite a program that will print a histogram of stars indicating the number of students who earned each unique exam sc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5: 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6: 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7: 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8: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1: 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histogra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s a file of test scores and shows a histogram of score distribu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Histogram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midterm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int[] counts = new int[101]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unters of test scores 0 - 100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Int()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ad file into counts array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core = input.nextInt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score]++;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if score is 87, then counts[87]+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counts.length; i++) {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 star hist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&gt; 0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i + ": 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j = 0; j &lt;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unts[i]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j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a file of section attendan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ee next sli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nyyynayayynyyyayanyyyaynayyayyanayyyanyay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yyanyyyyayanaayyanayyyananayayaynyayayynyny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yayaynyyayyanynnyyyayyanayaynannnyyayyayay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produce the following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20, 17, 19, 16, 13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100.0, 85.0, 95.0, 80.0, 65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20, 16, 16, 1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100.0, 80.0, 80.0, 5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ction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points: [17, 18, 17, 20, 16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udent grades: [85.0, 90.0, 85.0, 100.0, 80.0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dents earn 3 points for each section attended up to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588240" indent="-226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line represents a se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ine consists of 9 weeks' worth of dat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week has 5 characters because there are 5 stud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in each week, each character represents one stud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 student was abse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0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but didn't do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2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708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eans they attended and did the problem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+3 poin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input fi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76320" y="2347920"/>
          <a:ext cx="8705880" cy="11253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nyyynayayynyyyayanyyyaynayyayyanayyyanyay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yyanyyyyayanaayyanayyyananayayaynyayayynyn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yayaynyyayyanynnyyyayyanayaynannnyyayyayay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76320" y="19717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   2    3    4    5    6    7    8   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76320" y="1541520"/>
          <a:ext cx="8705880" cy="50796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ud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34512345123451234512345123451234512345123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Rectangle 15"/>
          <p:cNvSpPr/>
          <p:nvPr/>
        </p:nvSpPr>
        <p:spPr>
          <a:xfrm>
            <a:off x="1828800" y="2403360"/>
            <a:ext cx="6858000" cy="32724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828800" y="2405160"/>
            <a:ext cx="6858000" cy="326880"/>
            <a:chOff x="1828800" y="2405160"/>
            <a:chExt cx="6858000" cy="326880"/>
          </a:xfrm>
        </p:grpSpPr>
        <p:sp>
          <p:nvSpPr>
            <p:cNvPr id="288" name="Rectangle 15"/>
            <p:cNvSpPr/>
            <p:nvPr/>
          </p:nvSpPr>
          <p:spPr>
            <a:xfrm>
              <a:off x="1828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2590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5"/>
            <p:cNvSpPr/>
            <p:nvPr/>
          </p:nvSpPr>
          <p:spPr>
            <a:xfrm>
              <a:off x="3352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5"/>
            <p:cNvSpPr/>
            <p:nvPr/>
          </p:nvSpPr>
          <p:spPr>
            <a:xfrm>
              <a:off x="4114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5"/>
            <p:cNvSpPr/>
            <p:nvPr/>
          </p:nvSpPr>
          <p:spPr>
            <a:xfrm>
              <a:off x="4876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5638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64008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5"/>
            <p:cNvSpPr/>
            <p:nvPr/>
          </p:nvSpPr>
          <p:spPr>
            <a:xfrm>
              <a:off x="71625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5"/>
            <p:cNvSpPr/>
            <p:nvPr/>
          </p:nvSpPr>
          <p:spPr>
            <a:xfrm>
              <a:off x="79246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5"/>
            <p:cNvSpPr/>
            <p:nvPr/>
          </p:nvSpPr>
          <p:spPr>
            <a:xfrm>
              <a:off x="7772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5"/>
            <p:cNvSpPr/>
            <p:nvPr/>
          </p:nvSpPr>
          <p:spPr>
            <a:xfrm>
              <a:off x="7619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5"/>
            <p:cNvSpPr/>
            <p:nvPr/>
          </p:nvSpPr>
          <p:spPr>
            <a:xfrm>
              <a:off x="7467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5"/>
            <p:cNvSpPr/>
            <p:nvPr/>
          </p:nvSpPr>
          <p:spPr>
            <a:xfrm>
              <a:off x="7315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5"/>
            <p:cNvSpPr/>
            <p:nvPr/>
          </p:nvSpPr>
          <p:spPr>
            <a:xfrm>
              <a:off x="62481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5"/>
            <p:cNvSpPr/>
            <p:nvPr/>
          </p:nvSpPr>
          <p:spPr>
            <a:xfrm>
              <a:off x="60958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5"/>
            <p:cNvSpPr/>
            <p:nvPr/>
          </p:nvSpPr>
          <p:spPr>
            <a:xfrm>
              <a:off x="59436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5"/>
            <p:cNvSpPr/>
            <p:nvPr/>
          </p:nvSpPr>
          <p:spPr>
            <a:xfrm>
              <a:off x="57909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5"/>
            <p:cNvSpPr/>
            <p:nvPr/>
          </p:nvSpPr>
          <p:spPr>
            <a:xfrm>
              <a:off x="4724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5"/>
            <p:cNvSpPr/>
            <p:nvPr/>
          </p:nvSpPr>
          <p:spPr>
            <a:xfrm>
              <a:off x="4572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5"/>
            <p:cNvSpPr/>
            <p:nvPr/>
          </p:nvSpPr>
          <p:spPr>
            <a:xfrm>
              <a:off x="4419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5"/>
            <p:cNvSpPr/>
            <p:nvPr/>
          </p:nvSpPr>
          <p:spPr>
            <a:xfrm>
              <a:off x="4267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5"/>
            <p:cNvSpPr/>
            <p:nvPr/>
          </p:nvSpPr>
          <p:spPr>
            <a:xfrm>
              <a:off x="32004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5"/>
            <p:cNvSpPr/>
            <p:nvPr/>
          </p:nvSpPr>
          <p:spPr>
            <a:xfrm>
              <a:off x="30477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>
              <a:off x="28954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5"/>
            <p:cNvSpPr/>
            <p:nvPr/>
          </p:nvSpPr>
          <p:spPr>
            <a:xfrm>
              <a:off x="27432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5"/>
            <p:cNvSpPr/>
            <p:nvPr/>
          </p:nvSpPr>
          <p:spPr>
            <a:xfrm>
              <a:off x="19810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5"/>
            <p:cNvSpPr/>
            <p:nvPr/>
          </p:nvSpPr>
          <p:spPr>
            <a:xfrm>
              <a:off x="213336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28600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5"/>
            <p:cNvSpPr/>
            <p:nvPr/>
          </p:nvSpPr>
          <p:spPr>
            <a:xfrm>
              <a:off x="2438280" y="2405160"/>
              <a:ext cx="76212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590920" y="2405160"/>
            <a:ext cx="5333400" cy="326880"/>
            <a:chOff x="2590920" y="2405160"/>
            <a:chExt cx="5333400" cy="326880"/>
          </a:xfrm>
        </p:grpSpPr>
        <p:sp>
          <p:nvSpPr>
            <p:cNvPr id="318" name="Rectangle 15"/>
            <p:cNvSpPr/>
            <p:nvPr/>
          </p:nvSpPr>
          <p:spPr>
            <a:xfrm>
              <a:off x="3352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"/>
            <p:cNvSpPr/>
            <p:nvPr/>
          </p:nvSpPr>
          <p:spPr>
            <a:xfrm>
              <a:off x="4114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5"/>
            <p:cNvSpPr/>
            <p:nvPr/>
          </p:nvSpPr>
          <p:spPr>
            <a:xfrm>
              <a:off x="4876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5"/>
            <p:cNvSpPr/>
            <p:nvPr/>
          </p:nvSpPr>
          <p:spPr>
            <a:xfrm>
              <a:off x="5638680" y="2405160"/>
              <a:ext cx="76140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640044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5"/>
            <p:cNvSpPr/>
            <p:nvPr/>
          </p:nvSpPr>
          <p:spPr>
            <a:xfrm>
              <a:off x="716256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2590920" y="2405160"/>
              <a:ext cx="761760" cy="326880"/>
            </a:xfrm>
            <a:prstGeom prst="rect">
              <a:avLst/>
            </a:prstGeom>
            <a:noFill/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76320" y="2363760"/>
          <a:ext cx="8705880" cy="1125720"/>
        </p:xfrm>
        <a:graphic>
          <a:graphicData uri="http://schemas.openxmlformats.org/drawingml/2006/table">
            <a:tbl>
              <a:tblPr/>
              <a:tblGrid>
                <a:gridCol w="1663920"/>
                <a:gridCol w="704196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ction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2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ction attendance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 == 'y' or 'n' or 'a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point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42640" indent="-242640">
              <a:lnSpc>
                <a:spcPct val="6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ata transforma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any problems we transform data between for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digits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unt of each digit 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frequent dig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ten each transformation is computed/stored as an arra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structure, a transformation is often put in its own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times we map between data and array index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224"/>
              </a:spcBef>
              <a:tabLst>
                <a:tab algn="l" pos="0"/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y posi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store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 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 we read at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l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f input value is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tore it at array index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plicit mapp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J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0, cou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X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index 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91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rcis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dify our Sections program to use static methods that use arrays as parameters and retur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reads a file representing which students attende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which discussion sections and produces output of the students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ection attendance and sc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ections2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throws FileNotFoundException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canner input = new Scanner(new File("sections.txt"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ection = 1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while (input.hasNextLine()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cess one section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tring line = input.nextLine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countPoints(line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computeGrades(point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sults(section, points, grades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ection++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oduces all output about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results(int section, int[] points, double[] grade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ection " + sectio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scores: " + Arrays.toString(point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Student grades: " + Arrays.toString(grades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param/retur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oints earned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int[] countPoints(String line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[] points = new int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line.length()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student = i % 5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 earned = 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f (line.charAt(i) == 'y') {     // c == 'y'  or  c == 'n'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3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 else if (line.charAt(i) == 'n'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earned = 2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oints[student] = Math.min(20, points[student] + earned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point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utes the percentage for each student for a particular sectio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double[] computeGrades(int[] point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[] grades = new double[5]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0; i &lt; points.length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grades[i] = 100.0 * points[i] / 20.0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turn grades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 declaration, cont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length can be any integer express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2 * 3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 % 5 + 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initially gets a "zero-equivalent" val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689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073240" y="3846600"/>
          <a:ext cx="4937040" cy="2325600"/>
        </p:xfrm>
        <a:graphic>
          <a:graphicData uri="http://schemas.openxmlformats.org/drawingml/2006/table">
            <a:tbl>
              <a:tblPr/>
              <a:tblGrid>
                <a:gridCol w="2079360"/>
                <a:gridCol w="28576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fault 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ool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 other ob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l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eans, "no object"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ccessing ele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8080"/>
                </a:solidFill>
                <a:latin typeface="Courier New"/>
              </a:rPr>
              <a:t>// modif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 = 2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 = -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0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mbers[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lement 3 is negative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355760" y="503856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355760" y="502920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rrays of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[] results = new double[5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2] = 3.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sults[4] = -0.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[] tests = new boolean[6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s[3] = true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828800" y="2514600"/>
          <a:ext cx="4073400" cy="812520"/>
        </p:xfrm>
        <a:graphic>
          <a:graphicData uri="http://schemas.openxmlformats.org/drawingml/2006/table">
            <a:tbl>
              <a:tblPr/>
              <a:tblGrid>
                <a:gridCol w="874800"/>
                <a:gridCol w="600120"/>
                <a:gridCol w="600120"/>
                <a:gridCol w="637920"/>
                <a:gridCol w="600120"/>
                <a:gridCol w="760320"/>
              </a:tblGrid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-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828800" y="5075280"/>
          <a:ext cx="5540400" cy="792000"/>
        </p:xfrm>
        <a:graphic>
          <a:graphicData uri="http://schemas.openxmlformats.org/drawingml/2006/table">
            <a:tbl>
              <a:tblPr/>
              <a:tblGrid>
                <a:gridCol w="874800"/>
                <a:gridCol w="777960"/>
                <a:gridCol w="777600"/>
                <a:gridCol w="777960"/>
                <a:gridCol w="776160"/>
                <a:gridCol w="777960"/>
                <a:gridCol w="777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Tahoma"/>
                          <a:ea typeface="Times New Roman"/>
                        </a:rPr>
                        <a:t>tr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al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-of-boun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al indexes: between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rray's length -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or writing any index outside this range will throw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rrayIndexOutOfBoundsExcep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[] data = new int[10]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0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data[9]);       // oka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-1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System.out.println(data[10]);      // excep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27160" y="4978440"/>
          <a:ext cx="6416640" cy="1041480"/>
        </p:xfrm>
        <a:graphic>
          <a:graphicData uri="http://schemas.openxmlformats.org/drawingml/2006/table">
            <a:tbl>
              <a:tblPr/>
              <a:tblGrid>
                <a:gridCol w="874800"/>
                <a:gridCol w="554040"/>
                <a:gridCol w="554040"/>
                <a:gridCol w="554040"/>
                <a:gridCol w="554040"/>
                <a:gridCol w="555480"/>
                <a:gridCol w="554040"/>
                <a:gridCol w="554040"/>
                <a:gridCol w="554040"/>
                <a:gridCol w="554040"/>
                <a:gridCol w="554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32:10Z</dcterms:modified>
  <cp:revision>125</cp:revision>
  <dc:subject/>
  <dc:title>CSE 142 Python Slides</dc:title>
</cp:coreProperties>
</file>