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7.xml.rels" ContentType="application/vnd.openxmlformats-package.relationships+xml"/>
  <Override PartName="/ppt/notesSlides/notesSlide6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3CDCA-F717-452B-951C-AC2E1BDB5E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can even open the code for Math.java in the Java src.zip install file in the JDK fold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3"/>
          <p:cNvSpPr/>
          <p:nvPr/>
        </p:nvSpPr>
        <p:spPr>
          <a:xfrm>
            <a:off x="0" y="0"/>
            <a:ext cx="9144000" cy="1066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203480" indent="-1731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Slide Number Placeholder 3"/>
          <p:cNvSpPr/>
          <p:nvPr/>
        </p:nvSpPr>
        <p:spPr>
          <a:xfrm>
            <a:off x="822960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703EC-E153-4414-8F2A-E7271EBC7CB2}" type="slidenum">
              <a:rPr b="0" lang="en-US" sz="1200" spc="-1" strike="noStrike">
                <a:solidFill>
                  <a:srgbClr val="424242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AutoShape 3"/>
          <p:cNvSpPr/>
          <p:nvPr/>
        </p:nvSpPr>
        <p:spPr>
          <a:xfrm>
            <a:off x="0" y="0"/>
            <a:ext cx="9144000" cy="1390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4596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739800" algn="ctr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030320" algn="ctr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376280" algn="ctr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Building Java Program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hapter 8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Poin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objects (desired)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oint p1 = new Point(5, -2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oint p2 = new Point();   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origin, (0, 0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in each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bjec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hods in each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bjec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533520" y="4673520"/>
          <a:ext cx="8418240" cy="2032200"/>
        </p:xfrm>
        <a:graphic>
          <a:graphicData uri="http://schemas.openxmlformats.org/drawingml/2006/table">
            <a:tbl>
              <a:tblPr/>
              <a:tblGrid>
                <a:gridCol w="2581200"/>
                <a:gridCol w="5837040"/>
              </a:tblGrid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ethod 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etLocation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x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ets the point's x and y to the given valu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anslate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x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djusts the point's x and y by the given amou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distance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ow far away the point is from point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draw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isplays the point on a drawing pan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6" name=""/>
          <p:cNvGraphicFramePr/>
          <p:nvPr/>
        </p:nvGraphicFramePr>
        <p:xfrm>
          <a:off x="533520" y="2666880"/>
          <a:ext cx="4511520" cy="1219320"/>
        </p:xfrm>
        <a:graphic>
          <a:graphicData uri="http://schemas.openxmlformats.org/drawingml/2006/table">
            <a:tbl>
              <a:tblPr/>
              <a:tblGrid>
                <a:gridCol w="1588680"/>
                <a:gridCol w="2922840"/>
              </a:tblGrid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ield 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he point's x-coordin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he point's y-coordin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Poin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class as blueprin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lvl="1" marL="431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431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431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431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431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431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431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431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431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431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431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431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431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431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431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431280" indent="-192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class (blueprint) will describe how to create object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431280" indent="-192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ach object will contain its own data and method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"/>
          <p:cNvSpPr/>
          <p:nvPr/>
        </p:nvSpPr>
        <p:spPr>
          <a:xfrm>
            <a:off x="2666880" y="1295280"/>
            <a:ext cx="3505320" cy="17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Verdana"/>
                <a:ea typeface="Times New Roman"/>
              </a:rPr>
              <a:t>Point cl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state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 x,  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behavior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tLocation(int x, int y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ranslate(int dx, int dy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istance(Point p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raw(Graphics 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2285640" y="3124080"/>
            <a:ext cx="4191480" cy="519120"/>
            <a:chOff x="2285640" y="3124080"/>
            <a:chExt cx="4191480" cy="519120"/>
          </a:xfrm>
        </p:grpSpPr>
        <p:sp>
          <p:nvSpPr>
            <p:cNvPr id="141" name=""/>
            <p:cNvSpPr/>
            <p:nvPr/>
          </p:nvSpPr>
          <p:spPr>
            <a:xfrm flipH="1">
              <a:off x="2285640" y="3124080"/>
              <a:ext cx="2057400" cy="51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419720" y="3124080"/>
              <a:ext cx="0" cy="51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495680" y="3124080"/>
              <a:ext cx="1981440" cy="51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" name=""/>
          <p:cNvSpPr/>
          <p:nvPr/>
        </p:nvSpPr>
        <p:spPr>
          <a:xfrm>
            <a:off x="76320" y="3706920"/>
            <a:ext cx="2895480" cy="1678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Point object #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state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 = 5,   y = 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behavior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tLocation(int x, int y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ranslate(int dx, int dy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istance(Point p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raw(Graphics 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048120" y="3706920"/>
            <a:ext cx="2895480" cy="1678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Point object #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state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 = -245,   y = 189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behavior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tLocation(int x, int y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ranslate(int dx, int dy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istance(Point p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raw(Graphics 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095880" y="3706920"/>
            <a:ext cx="2895840" cy="1678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Point object #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state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 = 18,   y = 4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behavior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tLocation(int x, int y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ranslate(int dx, int dy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istance(Point p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raw(Graphics 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Object state: Fields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oint class, version 1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Point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nt x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nt y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ave this code into a file name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.java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bove code creates a new type name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ach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bject contains two pieces of data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name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name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bjects do not contain any behavior (yet)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Fiel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iel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variable inside an object that is part of its stat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ach object has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its own copy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f each fiel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laration syntax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1" i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Student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ring name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each Student object has a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double gpa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name and gpa fiel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ccessing fiel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classes can access/modify an object's field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224"/>
              </a:spcBef>
              <a:buNone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ccess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variab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fiel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odify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variab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field</a:t>
            </a:r>
            <a:r>
              <a:rPr b="1" i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i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valu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oint p1 = new Point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oint p2 = new Point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the x-coord is " +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1.x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acce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2.y =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13;                                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modif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 class and its clien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oint.jav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not, by itself, a runnable program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class can be used by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clie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program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533520" y="2577960"/>
            <a:ext cx="3809880" cy="33224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Courier New"/>
                <a:ea typeface="Times New Roman"/>
              </a:rPr>
              <a:t>PointMain.java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Verdana"/>
                <a:ea typeface="Times New Roman"/>
              </a:rPr>
              <a:t> (client progra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class PointMain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in(String args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oint p1 = new Point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1.x = 7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1.y = 2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oint p2 = new Point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2.x = 4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2.y = 3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562720" y="2400480"/>
            <a:ext cx="3276360" cy="1332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Courier New"/>
                <a:ea typeface="Times New Roman"/>
              </a:rPr>
              <a:t>Point.java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Verdana"/>
                <a:ea typeface="Times New Roman"/>
              </a:rPr>
              <a:t> (class of objec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class Point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 x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 y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334120" y="4191120"/>
            <a:ext cx="2438280" cy="726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5486400" y="4267080"/>
          <a:ext cx="2089080" cy="395280"/>
        </p:xfrm>
        <a:graphic>
          <a:graphicData uri="http://schemas.openxmlformats.org/drawingml/2006/table">
            <a:tbl>
              <a:tblPr/>
              <a:tblGrid>
                <a:gridCol w="336240"/>
                <a:gridCol w="685800"/>
                <a:gridCol w="381240"/>
                <a:gridCol w="6858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1" name=""/>
          <p:cNvSpPr/>
          <p:nvPr/>
        </p:nvSpPr>
        <p:spPr>
          <a:xfrm>
            <a:off x="5334120" y="5180040"/>
            <a:ext cx="2438280" cy="726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5486400" y="5256360"/>
          <a:ext cx="2089080" cy="395280"/>
        </p:xfrm>
        <a:graphic>
          <a:graphicData uri="http://schemas.openxmlformats.org/drawingml/2006/table">
            <a:tbl>
              <a:tblPr/>
              <a:tblGrid>
                <a:gridCol w="336240"/>
                <a:gridCol w="685800"/>
                <a:gridCol w="381240"/>
                <a:gridCol w="6858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3" name=""/>
          <p:cNvSpPr/>
          <p:nvPr/>
        </p:nvSpPr>
        <p:spPr>
          <a:xfrm>
            <a:off x="4419720" y="2743200"/>
            <a:ext cx="1066680" cy="648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962520" y="3581280"/>
            <a:ext cx="121896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962520" y="457200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PointMain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client exampl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PointMain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create two Point objec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oint p1 = new Point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1.y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2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oint p2 = new Point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2.x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4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1.x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+ ", " +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1.y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0, 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move p2 and then print 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2.x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+= 2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2.y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++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2.x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+ ", " +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2.y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6, 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ercise: Modify the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omb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program to use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object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67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rrays of objec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alue that does not refer to any objec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elements of an array of objects are initialized to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[] words = new String[5]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rawingPanel[] windows = new DrawingPanel[3]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3389400" y="3581280"/>
          <a:ext cx="4097160" cy="990720"/>
        </p:xfrm>
        <a:graphic>
          <a:graphicData uri="http://schemas.openxmlformats.org/drawingml/2006/table">
            <a:tbl>
              <a:tblPr/>
              <a:tblGrid>
                <a:gridCol w="874440"/>
                <a:gridCol w="644400"/>
                <a:gridCol w="644760"/>
                <a:gridCol w="644400"/>
                <a:gridCol w="644400"/>
                <a:gridCol w="644760"/>
              </a:tblGrid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u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u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u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u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u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1" name=""/>
          <p:cNvGraphicFramePr/>
          <p:nvPr/>
        </p:nvGraphicFramePr>
        <p:xfrm>
          <a:off x="3371760" y="4876920"/>
          <a:ext cx="2808360" cy="990360"/>
        </p:xfrm>
        <a:graphic>
          <a:graphicData uri="http://schemas.openxmlformats.org/drawingml/2006/table">
            <a:tbl>
              <a:tblPr/>
              <a:tblGrid>
                <a:gridCol w="874800"/>
                <a:gridCol w="644400"/>
                <a:gridCol w="644400"/>
                <a:gridCol w="644760"/>
              </a:tblGrid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u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u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u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72" name=""/>
          <p:cNvGrpSpPr/>
          <p:nvPr/>
        </p:nvGrpSpPr>
        <p:grpSpPr>
          <a:xfrm>
            <a:off x="838080" y="3962520"/>
            <a:ext cx="2286000" cy="444240"/>
            <a:chOff x="838080" y="3962520"/>
            <a:chExt cx="2286000" cy="444240"/>
          </a:xfrm>
        </p:grpSpPr>
        <p:sp>
          <p:nvSpPr>
            <p:cNvPr id="173" name=""/>
            <p:cNvSpPr/>
            <p:nvPr/>
          </p:nvSpPr>
          <p:spPr>
            <a:xfrm>
              <a:off x="838080" y="3962520"/>
              <a:ext cx="114300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ahoma"/>
                </a:rPr>
                <a:t>word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362320" y="4178160"/>
              <a:ext cx="76176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06640" y="3985920"/>
              <a:ext cx="380880" cy="380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609480" y="5194440"/>
            <a:ext cx="2514600" cy="444240"/>
            <a:chOff x="609480" y="5194440"/>
            <a:chExt cx="2514600" cy="444240"/>
          </a:xfrm>
        </p:grpSpPr>
        <p:sp>
          <p:nvSpPr>
            <p:cNvPr id="177" name=""/>
            <p:cNvSpPr/>
            <p:nvPr/>
          </p:nvSpPr>
          <p:spPr>
            <a:xfrm>
              <a:off x="609480" y="5194440"/>
              <a:ext cx="137160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ahoma"/>
                </a:rPr>
                <a:t>window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361960" y="5410080"/>
              <a:ext cx="762120" cy="75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006280" y="5217840"/>
              <a:ext cx="381240" cy="3805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ings you 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an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do w/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null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or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n a variable or an array e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 s = null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words[2] = null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nt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re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s);  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nul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k whether a variable or array element i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u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words[2] == null) { 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s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s a parameter to a meth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null);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nul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rom a method  (often to indicate failur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null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 programming problem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19960" indent="-21996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Given a file of cities' (x, y) coordinates,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ich begins with the number of citie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50 2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90 6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0 7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74 98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5 136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50 9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rite a program to draw the cities on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rawingPane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then drop a "bomb" that turns all cities red that are within a given radiu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last site x?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last site y?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last radius?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7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Kaboom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6972480" y="1285920"/>
            <a:ext cx="2019240" cy="2676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Null pointer excep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referenc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To access data or methods of an object with the dot notation, such a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.length(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t is illegal to dereferenc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(causes an exception)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s not any object, so it has no methods or data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[] words = new String[5]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"word is: " + words[0]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words[0] = </a:t>
            </a: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words[0].toUpperCase(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   </a:t>
            </a: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// ERRO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utput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word is: nul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Exception in thread "main" java.lang.NullPointerExcep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at Example.main(Example.java:8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4876920" y="4390920"/>
          <a:ext cx="4097160" cy="790560"/>
        </p:xfrm>
        <a:graphic>
          <a:graphicData uri="http://schemas.openxmlformats.org/drawingml/2006/table">
            <a:tbl>
              <a:tblPr/>
              <a:tblGrid>
                <a:gridCol w="874440"/>
                <a:gridCol w="644400"/>
                <a:gridCol w="644760"/>
                <a:gridCol w="644400"/>
                <a:gridCol w="644400"/>
                <a:gridCol w="6447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u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u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u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u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u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Looking before you leap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can check for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before calling an object's method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[] words = new String[5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ords[0] = "hello"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ords[2] = "goodbye";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words[1], [3], [4] are nu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0; i &lt; words.length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if (words[i] != null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ords[i] = words[i].toUpperCase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2913120" y="5029200"/>
          <a:ext cx="5614920" cy="990720"/>
        </p:xfrm>
        <a:graphic>
          <a:graphicData uri="http://schemas.openxmlformats.org/drawingml/2006/table">
            <a:tbl>
              <a:tblPr/>
              <a:tblGrid>
                <a:gridCol w="874800"/>
                <a:gridCol w="1250640"/>
                <a:gridCol w="644760"/>
                <a:gridCol w="1555560"/>
                <a:gridCol w="644760"/>
                <a:gridCol w="644400"/>
              </a:tblGrid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"HELLO"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u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"GOODBYE"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u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u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88" name=""/>
          <p:cNvGrpSpPr/>
          <p:nvPr/>
        </p:nvGrpSpPr>
        <p:grpSpPr>
          <a:xfrm>
            <a:off x="457200" y="5346720"/>
            <a:ext cx="2286000" cy="444600"/>
            <a:chOff x="457200" y="5346720"/>
            <a:chExt cx="2286000" cy="444600"/>
          </a:xfrm>
        </p:grpSpPr>
        <p:sp>
          <p:nvSpPr>
            <p:cNvPr id="189" name=""/>
            <p:cNvSpPr/>
            <p:nvPr/>
          </p:nvSpPr>
          <p:spPr>
            <a:xfrm>
              <a:off x="457200" y="5346720"/>
              <a:ext cx="1143000" cy="44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ahoma"/>
                </a:rPr>
                <a:t>word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981440" y="5562720"/>
              <a:ext cx="761760" cy="76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625760" y="5370480"/>
              <a:ext cx="380880" cy="3812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wo-phase initializa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1) initialize the array itself (each element is initially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2) initialize each element of the array to be a new objec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[] words 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ew String[4]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    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ph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0; i &lt; words.length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oords[i] 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"word" + i;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phase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2362320" y="4038480"/>
          <a:ext cx="6487920" cy="990720"/>
        </p:xfrm>
        <a:graphic>
          <a:graphicData uri="http://schemas.openxmlformats.org/drawingml/2006/table">
            <a:tbl>
              <a:tblPr/>
              <a:tblGrid>
                <a:gridCol w="874800"/>
                <a:gridCol w="1403280"/>
                <a:gridCol w="1403280"/>
                <a:gridCol w="1403280"/>
                <a:gridCol w="1403280"/>
              </a:tblGrid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"word0"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"word1"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"word2"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"word3"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95" name=""/>
          <p:cNvGrpSpPr/>
          <p:nvPr/>
        </p:nvGrpSpPr>
        <p:grpSpPr>
          <a:xfrm>
            <a:off x="0" y="4356000"/>
            <a:ext cx="2286000" cy="444600"/>
            <a:chOff x="0" y="4356000"/>
            <a:chExt cx="2286000" cy="444600"/>
          </a:xfrm>
        </p:grpSpPr>
        <p:sp>
          <p:nvSpPr>
            <p:cNvPr id="196" name=""/>
            <p:cNvSpPr/>
            <p:nvPr/>
          </p:nvSpPr>
          <p:spPr>
            <a:xfrm>
              <a:off x="0" y="4356000"/>
              <a:ext cx="1143000" cy="44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ahoma"/>
                </a:rPr>
                <a:t>word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524240" y="4572000"/>
              <a:ext cx="761760" cy="76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168560" y="4379760"/>
              <a:ext cx="380880" cy="3812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omb answer 1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6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mport java.awt.*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mport java.io.*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mport java.util.*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Displays a set of cities and simulates dropping a "bomb" on them.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class Bomb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static void main(String[] args) throws FileNotFoundException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DrawingPanel panel = new DrawingPanel(200, 200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Graphics g = panel.getGraphics(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canner input = new Scanner(new File("cities.txt")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Point[] cities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= readCities(input, g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drop the "bomb"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Point bomb = new Point(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("Blast site x? "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bomb.x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= console.nextInt(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("Blast site y? "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bomb.y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= console.nextInt(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("Blast radius? "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nt radius = console.nextInt(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boom(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bomb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, radius, cities, g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omb answer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// Reads input file of cities and returns them as array of Points.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public static Point[] readCities(Scanner input, Graphics g) {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int numCities = input.nextInt();   </a:t>
            </a: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// first line = # of cities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Point[] cities = new Point[numCities]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for (int i = 0; i &lt; cities.length; i++) {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cities[i] = new Point(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cities[i].x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= input.nextInt();  </a:t>
            </a: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// read city x/y from file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cities[i].y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= input.nextInt(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g.fillOval(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cities[i].x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cities[i].y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, 3, 3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g.drawString("(" +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cities[i].x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+ ", " +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cities[i].y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+ ")", 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cities[i].x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cities[i].y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return cities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// Simulates dropping a bomb at the given location on the given cities.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public static void boom(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Point bomb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, int radius,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Point[] cities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, Graphics g) {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g.setColor(Color.RED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g.drawOval(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bomb.x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- radius,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bomb.y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- radius, 2 * radius, 2 * radius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for (int i = 0; i &lt; cities.length; i++) {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int dx =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cities[i].x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- bomb.x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int dy =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cities[i].y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- bomb.y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double distance = Math.sqrt(dx * dx + dy * dy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if (distance &lt;= radius) {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g.fillOval(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cities[i].x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cities[i].y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, 3, 3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g.drawString("(" +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cities[i].x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+ ", " +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cities[i].y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+ ")", 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            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cities[i].x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cities[i].y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System.out.println("Kaboom!"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Object behavior: Methods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ient code redundancy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r client program wants to draw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bjec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draw each cit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fillOval(cities[i].x, cities[i].y, 3, 3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drawString("(" + cities[i].x + ", " + cities[i].y + ")"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ities[i].x, cities[i].y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raw them in other places, the code must be repeat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 can remove this redundancy using a metho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liminating redundancy, v1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can eliminate the redundancy with a static metho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8080"/>
                </a:solidFill>
                <a:latin typeface="Courier New"/>
              </a:rPr>
              <a:t>// Draws the given point on the DrawingPanel.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public static void draw(Point p, Graphics g) {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g.fillOval(p.x, p.y, 3, 3);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g.drawString("(" + p.x + ", " + p.y + ")", p.x, p.y);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ai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would call the method as follow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draw each c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raw(cities[i], g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roblem with static metho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-2224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are missing a major benefit of objects: code reus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very program that draw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 would need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raw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metho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yntax doesn't match how we're used to using objec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12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draw(cities[i], g);    // static (bad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oint of classes is to combine state and behavio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raw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behavior is closely related to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's data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method belongs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insid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each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bjec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12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12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cities[i].draw(g);     // inside object (better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2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2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2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21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nstance metho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64600" indent="-264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2227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stance metho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o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bject metho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: Exists inside each object of a class and gives behavior to each objec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2227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2227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2227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arameter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2227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statement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2227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2227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-238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2227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ame syntax as static methods, but without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atic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keywor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0">
              <a:spcBef>
                <a:spcPts val="550"/>
              </a:spcBef>
              <a:buNone/>
              <a:tabLst>
                <a:tab algn="l" pos="0"/>
                <a:tab algn="l" pos="2227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0">
              <a:spcBef>
                <a:spcPts val="550"/>
              </a:spcBef>
              <a:buNone/>
              <a:tabLst>
                <a:tab algn="l" pos="0"/>
                <a:tab algn="l" pos="2227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0">
              <a:spcBef>
                <a:spcPts val="550"/>
              </a:spcBef>
              <a:buNone/>
              <a:tabLst>
                <a:tab algn="l" pos="0"/>
                <a:tab algn="l" pos="2227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2227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2227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shout(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2227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"HELLO THERE!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2227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 bad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anner input = new Scanner(new File("cities.txt")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cityCount = input.nextInt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[] xCoords = new int[cityCount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[] yCoords = new int[cityCount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0; i &lt; cityCount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Coords[i] = input.nextInt();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read each c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yCoords[i] = input.nextInt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rallel array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2+ arrays with related data at same index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nsidered poor styl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nstance method exampl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Point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x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y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Draws this Point object with the given pe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ublic void draw(Graphics g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raw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method no longer has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 p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parameter. 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will the method know which point to draw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ow will the method access that point's x/y data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ach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bject has its own copy of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raw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method, which operates on that object's stat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oint p1 = new Point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1.x = 7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1.y = 2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oint p2 = new Point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2.x = 4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2.y = 3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1.draw(g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2.draw(g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"/>
          <p:cNvSpPr/>
          <p:nvPr/>
        </p:nvSpPr>
        <p:spPr>
          <a:xfrm>
            <a:off x="4210200" y="3073320"/>
            <a:ext cx="4857480" cy="1456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void draw(Graphics g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  <a:ea typeface="Times New Roman"/>
              </a:rPr>
              <a:t>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  <a:ea typeface="Times New Roman"/>
              </a:rPr>
              <a:t>// this code can see p1's x and 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Poin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objects w/ metho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4362480" y="3137040"/>
          <a:ext cx="2089080" cy="395280"/>
        </p:xfrm>
        <a:graphic>
          <a:graphicData uri="http://schemas.openxmlformats.org/drawingml/2006/table">
            <a:tbl>
              <a:tblPr/>
              <a:tblGrid>
                <a:gridCol w="336240"/>
                <a:gridCol w="685800"/>
                <a:gridCol w="381240"/>
                <a:gridCol w="6858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9" name=""/>
          <p:cNvGraphicFramePr/>
          <p:nvPr/>
        </p:nvGraphicFramePr>
        <p:xfrm>
          <a:off x="4362480" y="4940280"/>
          <a:ext cx="2089080" cy="395280"/>
        </p:xfrm>
        <a:graphic>
          <a:graphicData uri="http://schemas.openxmlformats.org/drawingml/2006/table">
            <a:tbl>
              <a:tblPr/>
              <a:tblGrid>
                <a:gridCol w="336240"/>
                <a:gridCol w="685800"/>
                <a:gridCol w="381240"/>
                <a:gridCol w="6858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0" name=""/>
          <p:cNvSpPr/>
          <p:nvPr/>
        </p:nvSpPr>
        <p:spPr>
          <a:xfrm>
            <a:off x="4210200" y="4800600"/>
            <a:ext cx="4857480" cy="1456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void draw(Graphics g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  <a:ea typeface="Times New Roman"/>
              </a:rPr>
              <a:t>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  <a:ea typeface="Times New Roman"/>
              </a:rPr>
              <a:t>// this code can see p2's x and 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2085840" y="5181480"/>
            <a:ext cx="1981440" cy="444600"/>
            <a:chOff x="2085840" y="5181480"/>
            <a:chExt cx="1981440" cy="444600"/>
          </a:xfrm>
        </p:grpSpPr>
        <p:sp>
          <p:nvSpPr>
            <p:cNvPr id="222" name=""/>
            <p:cNvSpPr/>
            <p:nvPr/>
          </p:nvSpPr>
          <p:spPr>
            <a:xfrm>
              <a:off x="2085840" y="5181480"/>
              <a:ext cx="1027080" cy="44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p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Line 48"/>
            <p:cNvSpPr/>
            <p:nvPr/>
          </p:nvSpPr>
          <p:spPr>
            <a:xfrm>
              <a:off x="3381480" y="53974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095640" y="5216400"/>
              <a:ext cx="380880" cy="380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4915080" y="1886040"/>
            <a:ext cx="1389960" cy="1066320"/>
            <a:chOff x="4915080" y="1886040"/>
            <a:chExt cx="1389960" cy="1066320"/>
          </a:xfrm>
        </p:grpSpPr>
        <p:sp>
          <p:nvSpPr>
            <p:cNvPr id="226" name=""/>
            <p:cNvSpPr/>
            <p:nvPr/>
          </p:nvSpPr>
          <p:spPr>
            <a:xfrm>
              <a:off x="4915080" y="1886040"/>
              <a:ext cx="102672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p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Line 48"/>
            <p:cNvSpPr/>
            <p:nvPr/>
          </p:nvSpPr>
          <p:spPr>
            <a:xfrm flipH="1">
              <a:off x="6111720" y="2288880"/>
              <a:ext cx="4320" cy="66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924520" y="1920600"/>
              <a:ext cx="380520" cy="380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implicit paramete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mplicit parame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object on which an instance method is call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2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uring the call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1.draw(g);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object referred to by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1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s the implicit paramet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uring the call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2.draw(g);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object referred to by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2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s the implicit paramet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instance method can refer to that object's field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say that it executes in the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ontext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f a particular objec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raw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can refer to th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of the object it was called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Poin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class, version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Point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x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y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Changes the location of this Point objec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draw(Graphics g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.fillOval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3, 3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.drawString("(" +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+ ", " +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+ ")"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ach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bject contains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raw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method that draws that point at its current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positio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Kinds of metho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ccesso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ethod that lets clients examine object stat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s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istanc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istanceFromOrigi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ften has a non-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oi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eturn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utato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ethod that modifies an object's stat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s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tLo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anslat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utator method ques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tLo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change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's location to the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values pass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ansla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change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's location by a give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mou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odify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nd client code to use these method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utator method answe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setLocation(int newX, int newY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x = newX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y = newY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translate(int dx, int dy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x = x + dx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y = y + dy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alternative solution that utilizes setLo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translate(int dx, int dy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tLocation(x + dx, y + dy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ccessor method ques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istanc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computes the distance between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another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paramet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he formul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istanceFromOrigi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returns the distance between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the origin, (0, 0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odify the client code to use these method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1" name=""/>
              <p:cNvSpPr txBox="1"/>
              <p:nvPr/>
            </p:nvSpPr>
            <p:spPr>
              <a:xfrm>
                <a:off x="3048120" y="2365200"/>
                <a:ext cx="2819160" cy="57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ccessor method answe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double distance(Point other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dx = x - other.x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dy = y - other.y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Math.sqrt(dx * dx + dy * dy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double distanceFromOrigin(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Math.sqrt(x * x + y * y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alternative solution that uses dist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double distanceFromOrigin(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 origin = new Point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distance(origin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rinting objec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 default, Java doesn't know how to print objec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oint p = new Point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.x = 1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.y = 7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p is " + p);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p is Point@9e8c3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better, but cumbersome;           p is (10, 7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p is (" + p.x + ", " + p.y + ")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desired behavi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p is " +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p is (10, 7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2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2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24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24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Observa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ata in this problem is a set of poin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would be better stored a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bjec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would store a city's x/y data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 could compare distances betwee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o see whether the bomb hit a given city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ach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would know how to draw itself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overall program would be shorter and clean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6972480" y="1285920"/>
            <a:ext cx="2019240" cy="26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toString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metho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ells Java how to convert an object into a </a:t>
            </a: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St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oint p1 = new Point(7, 2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p1: " +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1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the above code is really calling the following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p1: " + p1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toString(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ry class ha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oStr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even if it isn't in your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efault: class's nam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@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bject's memory address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base 16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1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@9e8c34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toString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syntax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ring toString(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code that returns a String representing this objec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ethod name, return, and parameters must match exactly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Returns a String representing this Poin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ring toString(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 "(" + x + ", " + y + ")"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Object initialization: constructors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nitializing objec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ly it takes 3 lines to create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initialize i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oint p = new Point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p.x = 3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p.y = 8;                     // tediou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'd rather specify the fields' initial values at the star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oint p = new Point(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3, 8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better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 are able to this with most types of objects in Java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nstructo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-2246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nstructo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itializes the state of new objec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arameter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statement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uns when the client uses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ew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keywor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return type is specified;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t implicitly "returns" the new object being crea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a class has no constructor, Java gives it a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default constructo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with no parameters that sets all fields to 0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nstructor exampl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6188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Point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x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y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Constructs a Point at the given x/y locati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Point(int initialX, int initialY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 = initialX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y = initialY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translate(int dx, int dy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 = x + dx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y = y + dy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racing a constructor call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happens when the following call is mad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 p1 = new Point(7, 2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" name=""/>
          <p:cNvSpPr/>
          <p:nvPr/>
        </p:nvSpPr>
        <p:spPr>
          <a:xfrm>
            <a:off x="2635200" y="2671920"/>
            <a:ext cx="6127920" cy="3495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Point(int initialX, int initialY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 = initialX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y = initialY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void translate(int dx, int dy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 += dx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y += dy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1" name=""/>
          <p:cNvGraphicFramePr/>
          <p:nvPr/>
        </p:nvGraphicFramePr>
        <p:xfrm>
          <a:off x="2787480" y="2824200"/>
          <a:ext cx="2945160" cy="547200"/>
        </p:xfrm>
        <a:graphic>
          <a:graphicData uri="http://schemas.openxmlformats.org/drawingml/2006/table">
            <a:tbl>
              <a:tblPr/>
              <a:tblGrid>
                <a:gridCol w="336600"/>
                <a:gridCol w="685800"/>
                <a:gridCol w="1251000"/>
                <a:gridCol w="671760"/>
              </a:tblGrid>
              <a:tr h="54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62" name=""/>
          <p:cNvGrpSpPr/>
          <p:nvPr/>
        </p:nvGrpSpPr>
        <p:grpSpPr>
          <a:xfrm>
            <a:off x="304920" y="2908440"/>
            <a:ext cx="1980720" cy="444240"/>
            <a:chOff x="304920" y="2908440"/>
            <a:chExt cx="1980720" cy="444240"/>
          </a:xfrm>
        </p:grpSpPr>
        <p:sp>
          <p:nvSpPr>
            <p:cNvPr id="263" name=""/>
            <p:cNvSpPr/>
            <p:nvPr/>
          </p:nvSpPr>
          <p:spPr>
            <a:xfrm>
              <a:off x="304920" y="2908440"/>
              <a:ext cx="102672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p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Line 48"/>
            <p:cNvSpPr/>
            <p:nvPr/>
          </p:nvSpPr>
          <p:spPr>
            <a:xfrm>
              <a:off x="1600200" y="3124080"/>
              <a:ext cx="685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314360" y="2943000"/>
              <a:ext cx="380520" cy="3805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ient code, version 3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PointMain3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create two Point objec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p1 = new Point(5, 2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p2 = new Point(4, 3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print each poi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p1: (" + p1.x + ", " + p1.y + ")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p2: (" + p2.x + ", " + p2.y + ")");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move p2 and then print it agai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2.translate(2, 4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p2: (" + p2.x + ", " + p2.y + ")");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UTPUT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1: (5, 2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2: (4, 3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2: (6, 7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ultiple constructo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lass can have multiple constructor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ach one must accept a unique set of parameter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Exercise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Write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onstructor with no parameters that initializes the point to (0, 0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Constructs a new point at (0, 0)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Point(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x = 0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y = 0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2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2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2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2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mmon constructor bug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7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.  Re-declaring fields as local variables  ("shadowing")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Point(int initialX, int initialY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int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 = initialX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int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y = initialY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is declares local variables with the same name as the fields, rather than storing values into the fields.  The fields remain 0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  Accidentally giving the constructor a return typ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voi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Point(int initialX, int initialY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 = initialX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y = initialY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is is actually not a constructor, but a method name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2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2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2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2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27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27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ients of objec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ient progra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program that uses objec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Bomb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s a client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rawingPane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Graphic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"/>
          <p:cNvSpPr/>
          <p:nvPr/>
        </p:nvSpPr>
        <p:spPr>
          <a:xfrm>
            <a:off x="447840" y="2514600"/>
            <a:ext cx="4114800" cy="2078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Courier New"/>
                <a:ea typeface="Times New Roman"/>
              </a:rPr>
              <a:t>Bomb.java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Verdana"/>
                <a:ea typeface="Times New Roman"/>
              </a:rPr>
              <a:t> (client progra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class Bomb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in(String[] args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ew DrawingPanel(..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ew DrawingPanel(..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334120" y="2400480"/>
            <a:ext cx="3581280" cy="1083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Courier New"/>
                <a:ea typeface="Times New Roman"/>
              </a:rPr>
              <a:t>DrawingPanel.java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Verdana"/>
                <a:ea typeface="Times New Roman"/>
              </a:rPr>
              <a:t> (clas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class DrawingPanel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181400" y="2685960"/>
            <a:ext cx="1067040" cy="1908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114800" y="3505320"/>
            <a:ext cx="31240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114800" y="3733920"/>
            <a:ext cx="14479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31432" b="0"/>
          <a:stretch/>
        </p:blipFill>
        <p:spPr>
          <a:xfrm>
            <a:off x="5172120" y="4381560"/>
            <a:ext cx="3657600" cy="1181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Encapsulation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ncapsula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10000"/>
              </a:lnSpc>
              <a:spcBef>
                <a:spcPts val="57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ncapsul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Hiding implementation details from clients.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ncapsulation forces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abstrac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parates external view (behavior) from internal view (stat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tects the integrity of an object's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76" name=""/>
          <p:cNvGrpSpPr/>
          <p:nvPr/>
        </p:nvGrpSpPr>
        <p:grpSpPr>
          <a:xfrm>
            <a:off x="3619440" y="4081320"/>
            <a:ext cx="4991040" cy="2090520"/>
            <a:chOff x="3619440" y="4081320"/>
            <a:chExt cx="4991040" cy="2090520"/>
          </a:xfrm>
        </p:grpSpPr>
        <p:pic>
          <p:nvPicPr>
            <p:cNvPr id="277" name="" descr=""/>
            <p:cNvPicPr/>
            <p:nvPr/>
          </p:nvPicPr>
          <p:blipFill>
            <a:blip r:embed="rId1"/>
            <a:stretch/>
          </p:blipFill>
          <p:spPr>
            <a:xfrm>
              <a:off x="3619440" y="4081320"/>
              <a:ext cx="2666880" cy="209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8" name="" descr=""/>
            <p:cNvPicPr/>
            <p:nvPr/>
          </p:nvPicPr>
          <p:blipFill>
            <a:blip r:embed="rId2"/>
            <a:stretch/>
          </p:blipFill>
          <p:spPr>
            <a:xfrm>
              <a:off x="6134040" y="4090680"/>
              <a:ext cx="2476440" cy="2081160"/>
            </a:xfrm>
            <a:prstGeom prst="rect">
              <a:avLst/>
            </a:prstGeom>
            <a:ln w="9360">
              <a:solidFill>
                <a:srgbClr val="a50021"/>
              </a:solidFill>
              <a:miter/>
            </a:ln>
          </p:spPr>
        </p:pic>
      </p:grpSp>
      <p:pic>
        <p:nvPicPr>
          <p:cNvPr id="279" name="" descr=""/>
          <p:cNvPicPr/>
          <p:nvPr/>
        </p:nvPicPr>
        <p:blipFill>
          <a:blip r:embed="rId3"/>
          <a:srcRect l="5751" t="5926" r="10795" b="3210"/>
          <a:stretch/>
        </p:blipFill>
        <p:spPr>
          <a:xfrm>
            <a:off x="711360" y="3809880"/>
            <a:ext cx="1536480" cy="243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rivate fiel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 field that cannot be accessed from outside the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privat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rivate int id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rivate String name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 code won't compile if it accesses private fiel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PointMain.java:11: x has private access in Poi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System.out.println(p1.x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                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^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ccessing private stat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A "read-only" access to the x field ("accessor"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int getX(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x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Allows clients to change the x field ("mutator"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void setX(int newX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 = newX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lient code will look more like thi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p1.getX(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p1.setX(14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oint class, version 4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6062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A Point object represents an (x, y) location.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class Point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private int x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private int y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Point(int initialX, int initialY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x = initialX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y = initialY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public int getX(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return x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public int getY(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return y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double distanceFromOrigin(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return Math.sqrt(x * x + y * y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void setLocation(int newX, int newY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x = newX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y = newY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void translate(int dx, int dy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etLocation(x + dx, y + dy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enefits of encapsula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19960" indent="-21996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straction between object and cli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s object from unwanted a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Can't fraudulently increase a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ccou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's balanc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hange the class implementation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ould be rewritten in polar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ordinates (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l-GR" sz="2200" spc="-1" strike="noStrike">
                <a:solidFill>
                  <a:srgbClr val="000000"/>
                </a:solidFill>
                <a:latin typeface="Tahoma"/>
              </a:rPr>
              <a:t>θ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) with the same method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nstrain objects' state (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variant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Only allow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ccou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 with non-negative balanc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Only allow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at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 with a month from 1-12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rcRect l="45338" t="0" r="0" b="50554"/>
          <a:stretch/>
        </p:blipFill>
        <p:spPr>
          <a:xfrm>
            <a:off x="7315200" y="3414600"/>
            <a:ext cx="1447920" cy="130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this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keywor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hi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: Refers to the implicit parameter inside your clas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24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100" spc="-1" strike="noStrike">
                <a:solidFill>
                  <a:srgbClr val="000000"/>
                </a:solidFill>
                <a:latin typeface="Tahoma"/>
              </a:rPr>
              <a:t>(a variable that stores the object on which a method is called)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24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24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fer to a field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his.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fiel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ll a method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his.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method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arameter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ne constructo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his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arameter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 call another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Variable shadowing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19960" indent="-219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hadow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2 variables with same name in same scop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rmally illegal, except when one variable is a fiel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Point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rivate in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rivate in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this is lega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setLocation(in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 in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 most of the class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efer to the field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etLo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efer to the method's parameter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Fixing shadowing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0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2511360"/>
                <a:tab algn="l" pos="4513320"/>
                <a:tab algn="l" pos="5602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Point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90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2511360"/>
                <a:tab algn="l" pos="4513320"/>
                <a:tab algn="l" pos="5602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rivate in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90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2511360"/>
                <a:tab algn="l" pos="4513320"/>
                <a:tab algn="l" pos="5602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rivate in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904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2511360"/>
                <a:tab algn="l" pos="4513320"/>
                <a:tab algn="l" pos="5602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90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2511360"/>
                <a:tab algn="l" pos="4513320"/>
                <a:tab algn="l" pos="5602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904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2511360"/>
                <a:tab algn="l" pos="4513320"/>
                <a:tab algn="l" pos="5602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90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2511360"/>
                <a:tab algn="l" pos="4513320"/>
                <a:tab algn="l" pos="5602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void setLocation(in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 in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90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2511360"/>
                <a:tab algn="l" pos="4513320"/>
                <a:tab algn="l" pos="5602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this.x = x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90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2511360"/>
                <a:tab algn="l" pos="4513320"/>
                <a:tab algn="l" pos="5602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this.y = y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90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2511360"/>
                <a:tab algn="l" pos="4513320"/>
                <a:tab algn="l" pos="5602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90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2511360"/>
                <a:tab algn="l" pos="4513320"/>
                <a:tab algn="l" pos="5602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90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2511360"/>
                <a:tab algn="l" pos="4513320"/>
                <a:tab algn="l" pos="5602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3280" indent="-2332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2511360"/>
                <a:tab algn="l" pos="4513320"/>
                <a:tab algn="l" pos="5602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id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tLo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480" indent="-2332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2511360"/>
                <a:tab algn="l" pos="4513320"/>
                <a:tab algn="l" pos="5602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o refer to the data fiel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ay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his.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90480" indent="-2332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2511360"/>
                <a:tab algn="l" pos="4513320"/>
                <a:tab algn="l" pos="5602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o refer to the parameter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ay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alling another constructo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Point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int x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int y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Point(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his(0, 0);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calls (x, y) construc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Point(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his.x = x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his.y = y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05040" indent="-172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redundancy between construc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05040" indent="-172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ly a constructor (not a method) can call another construc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7" name=""/>
          <p:cNvSpPr/>
          <p:nvPr/>
        </p:nvSpPr>
        <p:spPr>
          <a:xfrm>
            <a:off x="2971800" y="2971800"/>
            <a:ext cx="9907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581280" y="2971800"/>
            <a:ext cx="14479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asses and objec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3280" indent="-2332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141560"/>
                <a:tab algn="l" pos="2173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as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program entity that represents eith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480" indent="0">
              <a:spcBef>
                <a:spcPts val="550"/>
              </a:spcBef>
              <a:buNone/>
              <a:tabLst>
                <a:tab algn="l" pos="0"/>
                <a:tab algn="l" pos="1141560"/>
                <a:tab algn="l" pos="2173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program / module,  o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90480" indent="0">
              <a:spcBef>
                <a:spcPts val="550"/>
              </a:spcBef>
              <a:buNone/>
              <a:tabLst>
                <a:tab algn="l" pos="0"/>
                <a:tab algn="l" pos="1141560"/>
                <a:tab algn="l" pos="2173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A template for a new type of object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90480" indent="0">
              <a:spcBef>
                <a:spcPts val="550"/>
              </a:spcBef>
              <a:buNone/>
              <a:tabLst>
                <a:tab algn="l" pos="0"/>
                <a:tab algn="l" pos="1141560"/>
                <a:tab algn="l" pos="2173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90480" indent="-2332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1141560"/>
                <a:tab algn="l" pos="2173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rawingPane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lass is a template for creating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rawingPane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bject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90480" indent="0">
              <a:spcBef>
                <a:spcPts val="550"/>
              </a:spcBef>
              <a:buNone/>
              <a:tabLst>
                <a:tab algn="l" pos="0"/>
                <a:tab algn="l" pos="1141560"/>
                <a:tab algn="l" pos="2173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90480" indent="0">
              <a:spcBef>
                <a:spcPts val="550"/>
              </a:spcBef>
              <a:buNone/>
              <a:tabLst>
                <a:tab algn="l" pos="0"/>
                <a:tab algn="l" pos="1141560"/>
                <a:tab algn="l" pos="2173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3280" indent="-2332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141560"/>
                <a:tab algn="l" pos="2173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bjec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n entity that combines state and behavio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480" indent="-23328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1141560"/>
                <a:tab algn="l" pos="2173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object-oriented programming (OOP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Programs that perform their behavior as interactions between object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Static methods/fields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ulti-class system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large software systems consist of many class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ne main class runs and calls methods of the other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vanta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de reus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lits up the program logic into manageable chunk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03" name=""/>
          <p:cNvGrpSpPr/>
          <p:nvPr/>
        </p:nvGrpSpPr>
        <p:grpSpPr>
          <a:xfrm>
            <a:off x="2057400" y="3962520"/>
            <a:ext cx="5029200" cy="2365200"/>
            <a:chOff x="2057400" y="3962520"/>
            <a:chExt cx="5029200" cy="2365200"/>
          </a:xfrm>
        </p:grpSpPr>
        <p:sp>
          <p:nvSpPr>
            <p:cNvPr id="304" name=""/>
            <p:cNvSpPr/>
            <p:nvPr/>
          </p:nvSpPr>
          <p:spPr>
            <a:xfrm>
              <a:off x="3448440" y="3962520"/>
              <a:ext cx="2032920" cy="1108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Tahoma"/>
                  <a:ea typeface="Times New Roman"/>
                </a:rPr>
                <a:t>Main Class #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 u="sng">
                  <a:solidFill>
                    <a:srgbClr val="000000"/>
                  </a:solidFill>
                  <a:uFillTx/>
                  <a:latin typeface="Courier New"/>
                  <a:ea typeface="Times New Roman"/>
                </a:rPr>
                <a:t>mai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ethod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ethod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57400" y="5500440"/>
              <a:ext cx="2032920" cy="82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Tahoma"/>
                  <a:ea typeface="Times New Roman"/>
                </a:rPr>
                <a:t>Class #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ethod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ethod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5053680" y="5500440"/>
              <a:ext cx="2032920" cy="82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Tahoma"/>
                  <a:ea typeface="Times New Roman"/>
                </a:rPr>
                <a:t>Class #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ethod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ethod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 flipH="1">
              <a:off x="3180600" y="5105160"/>
              <a:ext cx="374400" cy="38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 flipV="1">
              <a:off x="3503160" y="5103360"/>
              <a:ext cx="26712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106960" y="5105160"/>
              <a:ext cx="1602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 flipH="1" flipV="1">
              <a:off x="5320440" y="5105160"/>
              <a:ext cx="1602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dundant program 1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lvl="1" marL="5940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This program sees whether some interesting numbers are prime.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class Primes1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nt[] nums = {1234517, 859501, 53, 142}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for (int i = 0; i &lt; nums.length; i++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f (isPrime(nums[i])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ln(nums[i] + " is prime"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Returns the number of factors of the given integer.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static int countFactors(int number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nt count = 0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for (int i = 1; i &lt;= number; i++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f (number % i == 0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count++;   </a:t>
            </a: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i is a factor of the number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return count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Returns true if the given number is prime.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static boolean isPrime(int number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return countFactors(number) == 2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dundant program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lvl="1" marL="5752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This program prints all prime numbers up to a maximum.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class Primes2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("Max number? "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nt max = console.nextInt(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for (int i = 2; i &lt;= max; i++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f (isPrime(i)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(i + " "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   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Returns true if the given number is prime.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public static boolean isPrime(int number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return countFactors(number) == 2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Returns the number of factors of the given integer.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public static int countFactors(int number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int count = 0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for (int i = 1; i &lt;= number; i++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if (number % i == 0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count++;   </a:t>
            </a: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i is a factor of the number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}   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return count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asses as modul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3120" indent="-2131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odu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reusable piece of software, stored as a clas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-2566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 module classes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Math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This class is a module that contains useful methods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related to factors and prime number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Factors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Returns the number of factors of the given integer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int countFactors(int number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count = 0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1; i &lt;= number; i++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number % i == 0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ount++;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i is a factor of the numb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65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coun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65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Returns true if the given number is prim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boolean isPrime(int number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countFactors(number) == 2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ore about modul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dule is a partial program, not a complete program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t does not have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mai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 You don't run it directly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odules are meant to be utilized by other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clie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lass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clas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method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arameter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factorsOf24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Factors.countFactors(24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Using a modul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1" marL="61272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This program sees whether some interesting numbers are prime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Primes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[] nums = {1234517, 859501, 53, 142}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 (int i = 0; i &lt; nums.length; i++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actors.isPrime(nums[i])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nums[i] + " is prime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This program prints all prime numbers up to a given maximum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Primes2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("Max number? 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max = console.nextInt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 (int i = 2; i &lt;= max; i++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actors.isPrime(i)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(i + " 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  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odules in Java librari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Java's built in Math class is a modul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Math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final double PI = 3.14159265358979323846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static int abs(int a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a &gt;= 0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a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-a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static double toDegrees(double radians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radians * 180 / PI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tatic membe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ati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Part of a class, rather than part of an objec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bject classes can have static methods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and field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t copied into each object; shared by all objects of that clas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609480" y="2666880"/>
            <a:ext cx="7925040" cy="3836160"/>
            <a:chOff x="609480" y="2666880"/>
            <a:chExt cx="7925040" cy="3836160"/>
          </a:xfrm>
        </p:grpSpPr>
        <p:sp>
          <p:nvSpPr>
            <p:cNvPr id="326" name=""/>
            <p:cNvSpPr/>
            <p:nvPr/>
          </p:nvSpPr>
          <p:spPr>
            <a:xfrm>
              <a:off x="2622600" y="2666880"/>
              <a:ext cx="4235400" cy="1604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Verdana"/>
                  <a:ea typeface="Times New Roman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state: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rivate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tatic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 int staticFieldA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rivate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tatic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 String staticField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behavior: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ublic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tatic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 void someStaticMethodC()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ublic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tatic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 void someStaticMethodD(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7" name=""/>
            <p:cNvGrpSpPr/>
            <p:nvPr/>
          </p:nvGrpSpPr>
          <p:grpSpPr>
            <a:xfrm>
              <a:off x="2590920" y="4290840"/>
              <a:ext cx="4190400" cy="519120"/>
              <a:chOff x="2590920" y="4290840"/>
              <a:chExt cx="4190400" cy="519120"/>
            </a:xfrm>
          </p:grpSpPr>
          <p:sp>
            <p:nvSpPr>
              <p:cNvPr id="328" name=""/>
              <p:cNvSpPr/>
              <p:nvPr/>
            </p:nvSpPr>
            <p:spPr>
              <a:xfrm flipH="1">
                <a:off x="2590920" y="4290840"/>
                <a:ext cx="2057040" cy="519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4724280" y="4290840"/>
                <a:ext cx="0" cy="519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4800240" y="4290840"/>
                <a:ext cx="1981080" cy="519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1" name=""/>
            <p:cNvSpPr/>
            <p:nvPr/>
          </p:nvSpPr>
          <p:spPr>
            <a:xfrm>
              <a:off x="609480" y="4824360"/>
              <a:ext cx="2438640" cy="1678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Tahoma"/>
                  <a:ea typeface="Times New Roman"/>
                </a:rPr>
                <a:t>object #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ate: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int field2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ouble field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behavior: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ublic void method3()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ublic int method4()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ublic void method5(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352680" y="4824360"/>
              <a:ext cx="2438640" cy="1678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Tahoma"/>
                  <a:ea typeface="Times New Roman"/>
                </a:rPr>
                <a:t>object #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ate: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int field1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ouble field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behavior: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ublic void method3()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ublic int method4()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ublic void method5(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095880" y="4824360"/>
              <a:ext cx="2438640" cy="1678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Tahoma"/>
                  <a:ea typeface="Times New Roman"/>
                </a:rPr>
                <a:t>object #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ate: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int field1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double field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behavior: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ublic void method3()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ublic int method4()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ublic void method5(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tatic fiel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rivate static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r,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rivate static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valu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rivate static int theAnswer = 42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atic fiel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Stored in the class instead of each objec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"shared" global field that all objects can access and modify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ike a class constant, except that its value can be change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lueprint analogy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1600200" y="1359000"/>
            <a:ext cx="4876920" cy="217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Verdana"/>
                <a:ea typeface="Times New Roman"/>
              </a:rPr>
              <a:t>iPod bluepr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Verdana"/>
                <a:ea typeface="Times New Roman"/>
              </a:rPr>
              <a:t>state: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current song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  volum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  battery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Verdana"/>
                <a:ea typeface="Times New Roman"/>
              </a:rPr>
              <a:t>behavior: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power on/off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  change station/song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  change volum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  choose random so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304920" y="4387680"/>
            <a:ext cx="8076960" cy="2019240"/>
            <a:chOff x="304920" y="4387680"/>
            <a:chExt cx="8076960" cy="2019240"/>
          </a:xfrm>
        </p:grpSpPr>
        <p:sp>
          <p:nvSpPr>
            <p:cNvPr id="109" name=""/>
            <p:cNvSpPr/>
            <p:nvPr/>
          </p:nvSpPr>
          <p:spPr>
            <a:xfrm>
              <a:off x="304920" y="4387680"/>
              <a:ext cx="2133360" cy="2019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Tahoma"/>
                  <a:ea typeface="Times New Roman"/>
                </a:rPr>
                <a:t>iPod #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Tahoma"/>
                  <a:ea typeface="Times New Roman"/>
                </a:rPr>
                <a:t>state:</a:t>
              </a:r>
              <a:br>
                <a:rPr sz="1400"/>
              </a:br>
              <a:r>
                <a:rPr b="0" lang="en-US" sz="1400" spc="-1" strike="noStrike">
                  <a:solidFill>
                    <a:srgbClr val="003399"/>
                  </a:solidFill>
                  <a:latin typeface="Tahoma"/>
                  <a:ea typeface="Times New Roman"/>
                </a:rPr>
                <a:t>  song = "</a:t>
              </a:r>
              <a:r>
                <a:rPr b="0" lang="en-US" sz="1200" spc="-1" strike="noStrike">
                  <a:solidFill>
                    <a:srgbClr val="003399"/>
                  </a:solidFill>
                  <a:latin typeface="Tahoma"/>
                  <a:ea typeface="Times New Roman"/>
                </a:rPr>
                <a:t>1,000,000 Miles</a:t>
              </a:r>
              <a:r>
                <a:rPr b="0" lang="en-US" sz="1400" spc="-1" strike="noStrike">
                  <a:solidFill>
                    <a:srgbClr val="003399"/>
                  </a:solidFill>
                  <a:latin typeface="Tahoma"/>
                  <a:ea typeface="Times New Roman"/>
                </a:rPr>
                <a:t>"</a:t>
              </a:r>
              <a:br>
                <a:rPr sz="1400"/>
              </a:br>
              <a:r>
                <a:rPr b="0" lang="en-US" sz="1400" spc="-1" strike="noStrike">
                  <a:solidFill>
                    <a:srgbClr val="003399"/>
                  </a:solidFill>
                  <a:latin typeface="Tahoma"/>
                  <a:ea typeface="Times New Roman"/>
                </a:rPr>
                <a:t>  volume = 17</a:t>
              </a:r>
              <a:br>
                <a:rPr sz="1400"/>
              </a:br>
              <a:r>
                <a:rPr b="0" lang="en-US" sz="1400" spc="-1" strike="noStrike">
                  <a:solidFill>
                    <a:srgbClr val="003399"/>
                  </a:solidFill>
                  <a:latin typeface="Tahoma"/>
                  <a:ea typeface="Times New Roman"/>
                </a:rPr>
                <a:t>  battery life = 2.5 hr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Tahoma"/>
                  <a:ea typeface="Times New Roman"/>
                </a:rPr>
                <a:t>behavior: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 power on/off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 change station/song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 change volume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 choose random so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00400" y="4387680"/>
              <a:ext cx="2133720" cy="2019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Tahoma"/>
                  <a:ea typeface="Times New Roman"/>
                </a:rPr>
                <a:t>iPod #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Tahoma"/>
                  <a:ea typeface="Times New Roman"/>
                </a:rPr>
                <a:t>state:</a:t>
              </a:r>
              <a:br>
                <a:rPr sz="1400"/>
              </a:br>
              <a:r>
                <a:rPr b="0" lang="en-US" sz="1400" spc="-1" strike="noStrike">
                  <a:solidFill>
                    <a:srgbClr val="003399"/>
                  </a:solidFill>
                  <a:latin typeface="Tahoma"/>
                  <a:ea typeface="Times New Roman"/>
                </a:rPr>
                <a:t>  song = "Letting You"</a:t>
              </a:r>
              <a:br>
                <a:rPr sz="1400"/>
              </a:br>
              <a:r>
                <a:rPr b="0" lang="en-US" sz="1400" spc="-1" strike="noStrike">
                  <a:solidFill>
                    <a:srgbClr val="003399"/>
                  </a:solidFill>
                  <a:latin typeface="Tahoma"/>
                  <a:ea typeface="Times New Roman"/>
                </a:rPr>
                <a:t>  volume = 9</a:t>
              </a:r>
              <a:br>
                <a:rPr sz="1400"/>
              </a:br>
              <a:r>
                <a:rPr b="0" lang="en-US" sz="1400" spc="-1" strike="noStrike">
                  <a:solidFill>
                    <a:srgbClr val="003399"/>
                  </a:solidFill>
                  <a:latin typeface="Tahoma"/>
                  <a:ea typeface="Times New Roman"/>
                </a:rPr>
                <a:t>  battery life = 3.41 hr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Tahoma"/>
                  <a:ea typeface="Times New Roman"/>
                </a:rPr>
                <a:t>behavior: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 power on/off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 change station/song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 change volume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 choose random so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248520" y="4387680"/>
              <a:ext cx="2133360" cy="2019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Tahoma"/>
                  <a:ea typeface="Times New Roman"/>
                </a:rPr>
                <a:t>iPod #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Tahoma"/>
                  <a:ea typeface="Times New Roman"/>
                </a:rPr>
                <a:t>state:</a:t>
              </a:r>
              <a:br>
                <a:rPr sz="1400"/>
              </a:br>
              <a:r>
                <a:rPr b="0" lang="en-US" sz="1400" spc="-1" strike="noStrike">
                  <a:solidFill>
                    <a:srgbClr val="003399"/>
                  </a:solidFill>
                  <a:latin typeface="Tahoma"/>
                  <a:ea typeface="Times New Roman"/>
                </a:rPr>
                <a:t>  song = "Discipline"</a:t>
              </a:r>
              <a:br>
                <a:rPr sz="1400"/>
              </a:br>
              <a:r>
                <a:rPr b="0" lang="en-US" sz="1400" spc="-1" strike="noStrike">
                  <a:solidFill>
                    <a:srgbClr val="003399"/>
                  </a:solidFill>
                  <a:latin typeface="Tahoma"/>
                  <a:ea typeface="Times New Roman"/>
                </a:rPr>
                <a:t>  volume = 24</a:t>
              </a:r>
              <a:br>
                <a:rPr sz="1400"/>
              </a:br>
              <a:r>
                <a:rPr b="0" lang="en-US" sz="1400" spc="-1" strike="noStrike">
                  <a:solidFill>
                    <a:srgbClr val="003399"/>
                  </a:solidFill>
                  <a:latin typeface="Tahoma"/>
                  <a:ea typeface="Times New Roman"/>
                </a:rPr>
                <a:t>  battery life = 1.8 hr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Tahoma"/>
                  <a:ea typeface="Times New Roman"/>
                </a:rPr>
                <a:t>behavior: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 power on/off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 change station/song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 change volume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 choose random so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2286000" y="3564000"/>
            <a:ext cx="4419720" cy="823680"/>
            <a:chOff x="2286000" y="3564000"/>
            <a:chExt cx="4419720" cy="823680"/>
          </a:xfrm>
        </p:grpSpPr>
        <p:grpSp>
          <p:nvGrpSpPr>
            <p:cNvPr id="113" name=""/>
            <p:cNvGrpSpPr/>
            <p:nvPr/>
          </p:nvGrpSpPr>
          <p:grpSpPr>
            <a:xfrm>
              <a:off x="2286000" y="3564000"/>
              <a:ext cx="4191120" cy="823680"/>
              <a:chOff x="2286000" y="3564000"/>
              <a:chExt cx="4191120" cy="823680"/>
            </a:xfrm>
          </p:grpSpPr>
          <p:sp>
            <p:nvSpPr>
              <p:cNvPr id="114" name=""/>
              <p:cNvSpPr/>
              <p:nvPr/>
            </p:nvSpPr>
            <p:spPr>
              <a:xfrm flipH="1">
                <a:off x="2286000" y="3564000"/>
                <a:ext cx="1828800" cy="823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4114800" y="3564000"/>
                <a:ext cx="152280" cy="823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4114800" y="3564000"/>
                <a:ext cx="2362320" cy="823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7" name=""/>
            <p:cNvSpPr/>
            <p:nvPr/>
          </p:nvSpPr>
          <p:spPr>
            <a:xfrm>
              <a:off x="5699160" y="3625920"/>
              <a:ext cx="1006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at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6705720" y="1492200"/>
            <a:ext cx="2209680" cy="16844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rcRect l="5751" t="5926" r="10795" b="3210"/>
          <a:stretch/>
        </p:blipFill>
        <p:spPr>
          <a:xfrm>
            <a:off x="2209680" y="5378400"/>
            <a:ext cx="623880" cy="9907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rcRect l="5751" t="5926" r="10795" b="3210"/>
          <a:stretch/>
        </p:blipFill>
        <p:spPr>
          <a:xfrm>
            <a:off x="5181480" y="5378400"/>
            <a:ext cx="623880" cy="9907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4"/>
          <a:srcRect l="5751" t="5926" r="10795" b="3210"/>
          <a:stretch/>
        </p:blipFill>
        <p:spPr>
          <a:xfrm>
            <a:off x="8229600" y="5378400"/>
            <a:ext cx="623880" cy="99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ccessing static fiel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inside the class where the field was declare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field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               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get the valu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field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valu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           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set the valu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another class (if the field i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Class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field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get the valu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Class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field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valu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set the valu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generally static fields are not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unless they ar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rcise: Modify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ankAccou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lass shown previously so that each account is automatically given a unique I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rcise: Write the working version of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ratGu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33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33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BankAccoun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BankAccount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static count of how many accounts are crea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(only one count shared for the whole clas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vate static int objectCount = 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fields (replicated for each objec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String name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 int id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BankAccount(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objectCount++;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advance the id, 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d = objectCount;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give number to accou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int getID() {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return this account's i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id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tatic metho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1" marL="612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the same syntax you've already used for method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arameter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statement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atic metho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Stored in a class, not in an objec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hared by all objects of the class, not replicate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oes not have any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implicit paramete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hi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; 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refore, cannot access any particular object's field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rcise: Make it so that clients can find out how many total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ankAccou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bjects have ever been creat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34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BankAccoun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lvl="1" marL="6001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BankAccount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static count of how many accounts are creat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(only one count shared for the whole clas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ivate static int objectCount = 0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clients can call this to find out # accounts creat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static int getNumAccounts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objectCoun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fields (replicated for each objec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ivate String name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ivate int id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BankAccount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bjectCount++;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advance the id, an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d = objectCount;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give number to accou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int getID() {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return this account's i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id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ummary of Java class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lass is used for any of the following in a large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program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: Has a main and perhaps other static method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96040" indent="-1710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ample: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uessingGam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irthda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adLib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ritterM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96040" indent="-1710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oes not usually declare any static fields (except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960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n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object clas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: Defines a new type of object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96040" indent="-1710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ample: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ankAccoun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at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rit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ratGu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96040" indent="-1710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lares object fields, constructor(s), and metho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96040" indent="-1710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ght declare static fields or methods, but these are less of a focu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96040" indent="-1710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uld be encapsulated (all fields and static field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vat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960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modul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: Utility code implemented as static method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96040" indent="-1710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ample: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at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96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bstrac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bstrac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distancing between ideas and detail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 can use objects without knowing how they work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straction in an iPo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You understand its external behavior (buttons, screen)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You don't understand its inner details, and you don't need to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3352320" y="4114800"/>
            <a:ext cx="5334480" cy="2090880"/>
            <a:chOff x="3352320" y="4114800"/>
            <a:chExt cx="5334480" cy="2090880"/>
          </a:xfrm>
        </p:grpSpPr>
        <p:pic>
          <p:nvPicPr>
            <p:cNvPr id="125" name="" descr=""/>
            <p:cNvPicPr/>
            <p:nvPr/>
          </p:nvPicPr>
          <p:blipFill>
            <a:blip r:embed="rId1"/>
            <a:stretch/>
          </p:blipFill>
          <p:spPr>
            <a:xfrm>
              <a:off x="3505320" y="4114800"/>
              <a:ext cx="2666880" cy="2090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" descr=""/>
            <p:cNvPicPr/>
            <p:nvPr/>
          </p:nvPicPr>
          <p:blipFill>
            <a:blip r:embed="rId2"/>
            <a:stretch/>
          </p:blipFill>
          <p:spPr>
            <a:xfrm>
              <a:off x="6019920" y="4124520"/>
              <a:ext cx="2476440" cy="2081160"/>
            </a:xfrm>
            <a:prstGeom prst="rect">
              <a:avLst/>
            </a:prstGeom>
            <a:ln w="9360">
              <a:solidFill>
                <a:srgbClr val="a50021"/>
              </a:solidFill>
              <a:miter/>
            </a:ln>
          </p:spPr>
        </p:pic>
        <p:grpSp>
          <p:nvGrpSpPr>
            <p:cNvPr id="127" name=""/>
            <p:cNvGrpSpPr/>
            <p:nvPr/>
          </p:nvGrpSpPr>
          <p:grpSpPr>
            <a:xfrm>
              <a:off x="3352320" y="4148280"/>
              <a:ext cx="5334480" cy="1905120"/>
              <a:chOff x="3352320" y="4148280"/>
              <a:chExt cx="5334480" cy="1905120"/>
            </a:xfrm>
          </p:grpSpPr>
          <p:sp>
            <p:nvSpPr>
              <p:cNvPr id="128" name=""/>
              <p:cNvSpPr/>
              <p:nvPr/>
            </p:nvSpPr>
            <p:spPr>
              <a:xfrm>
                <a:off x="3429000" y="4148280"/>
                <a:ext cx="5257800" cy="190512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3352320" y="4148280"/>
                <a:ext cx="5334120" cy="190512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30" name="" descr=""/>
          <p:cNvPicPr/>
          <p:nvPr/>
        </p:nvPicPr>
        <p:blipFill>
          <a:blip r:embed="rId3"/>
          <a:srcRect l="5751" t="5926" r="10795" b="3210"/>
          <a:stretch/>
        </p:blipFill>
        <p:spPr>
          <a:xfrm>
            <a:off x="609480" y="3733920"/>
            <a:ext cx="1536840" cy="243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Our task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the following slides, we will implement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lass as a way of learning about defining class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 will define a type of objects name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ach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bject will contain x/y data called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field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ach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bject will contain behavior called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method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Client program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will use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oi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bject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8T20:57:21Z</dcterms:created>
  <dc:creator>Marty Stepp</dc:creator>
  <dc:description>Slides used in the University of Washington's CSE 142 Python sessions.</dc:description>
  <cp:keywords>Python</cp:keywords>
  <dc:language>en-US</dc:language>
  <cp:lastModifiedBy>Marty Stepp</cp:lastModifiedBy>
  <dcterms:modified xsi:type="dcterms:W3CDTF">2010-04-04T20:36:24Z</dcterms:modified>
  <cp:revision>124</cp:revision>
  <dc:subject/>
  <dc:title>CSE 142 Python Slides</dc:title>
</cp:coreProperties>
</file>