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8A03-BCDD-474D-90D7-815E78607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nnoying to flip back and forth between slides here.  I suggest putting the classes into a text editor so you can switch windows back and forth to fill in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0693-F6BF-43EB-8662-C2A934E8F705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9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itance and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ay to form new classes based on existing classes, taking on their attributes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group related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way to share code between two or mor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lass ca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te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, absorbing its data/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parent class that is being extend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b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child class that extends the superclass and inherits its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bclass gets a copy of every field and method from supercla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extend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uper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2437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extend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n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eiv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automatical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eated 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client code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extends Employe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we only write the parts unique to each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Hou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VacationFo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s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dd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lawyer regula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who get an extra week of paid vacation (a total of 3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use a pink form when applying for vacation le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wyers have some unique behavior: they know how to s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e want lawyers to inher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havior from employee, but we want to replace parts with new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verrid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write a new version of a method in a subclass that replaces the superclass's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pecial syntax required to override a superclass method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ust write a new version of it in the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verrides getVacationForm method in Employee cla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ublic String getVacationForm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"pink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 weeks vacation, pink vacation form, can s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awy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awy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Form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verrides getVacationDays from Employee cla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5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3 weeks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  Marketers make $10,000 extra ($50,000 total) and know how to adverti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evels of inherita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evels of inheritance in a hierarchy are allow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legal secretary is the same as a regular secretary but makes more money ($45,000) and can file legal brief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LegalSecretary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  <a:ea typeface="Courier New"/>
              </a:rPr>
              <a:t>extends Secretar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Complet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gal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legal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fileLegalBrief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 could file all day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5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5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ng with the superclas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software crisi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developing, designing, documenting, testing large computer progra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-scale projects face many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many programmers to work togeth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tting code finished on ti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voiding redundant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ding and fixing bug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aining, improving, and reusing existing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de reu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he practice of writing program code once and using it in many contex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hanges to common behavior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return to our previous company/employee ex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a company-wide change affecting all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Everyone is given a $10,000 raise due to inf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e employee salary is now $5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gal secretaries now make $55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rketers now make $60,00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must modify our code to reflect this policy chan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the super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 class to represent employees (20-page manu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0000.0;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$50,000.00 / yea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we finished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bclasses are still incorr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y have overridd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return other valu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unsatisfactor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55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60000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The subclasses' salaries are based on the Employee salary, b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Sal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does not reflect thi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overridden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classes can call overridden method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egalSecretary extends Secreta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baseSalary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.getSalary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baseSalary + 5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3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sub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pink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VacationDays() + 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su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I'll see you in cour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ine that we want to give employees more vacation days the longer they've been with the compan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year worked, we'll award 2 additional vacation day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 Employee object is constructed, we'll pass in the number of years the person has been with the compan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will require us to modify 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and add some new state and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necessary modifications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5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10 + 2 *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at we've added the constructor to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, our subclasses do not compile.  The err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awyer.java:2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ymbol  : constructor Employee(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location: class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Lawyer extends Employe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hort explanation: Once we write a constructor (that requires parameters) in the superclass, we must now write constructors for our employee subclasses as we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ng explanation: (next slid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detailed explan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ors are not inheri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don't inheri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classes receive a default constructor that contai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per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(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int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laces the defaul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classes' default constructors are now trying to call a non-existent defaul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alling superclass constructor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per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Employee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p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ll must be the first statement in the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ake a similar modification to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rk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aw firm employee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rules: hours, vacation, benefits, regulation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employees attend a common orientation to learn general company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employee receives a 20-page manual of common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ubdivision also has specific ru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 receives a smaller (1-3 page) manual of these ru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maller manual adds some new rules and also changes some rules from the large man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4" descr="employee_manuals"/>
          <p:cNvPicPr/>
          <p:nvPr/>
        </p:nvPicPr>
        <p:blipFill>
          <a:blip r:embed="rId1"/>
          <a:stretch/>
        </p:blipFill>
        <p:spPr>
          <a:xfrm>
            <a:off x="5062680" y="4572000"/>
            <a:ext cx="37764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rket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marketer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Market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Market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advertis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Act now while supplies last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10000.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aries' years of employment are not trac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do not earn extra vacation for years work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i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Secret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uper(0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oesn't require any parameters to its constructor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egal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iles without a constru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s default constructor call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retary(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truc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heritance and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to give lawyers $5000 for each year at the compan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; the error is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Lawyer.java:7: years has private acces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super.getSalary() + 5000 * years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                          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fields cannot be directly accessed from sub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reason: So that subclassing can't break encapsul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t around this limitation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n accessor for any field needed by the sub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public int getYea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return year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Lawyer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Lawyer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per.getSalary() + 5000 *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getYear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visit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urrently has a poo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et all Secretaries to 0 years because they do not get a vacation bonus for their servi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Yea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, we'll always get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n't a good solution; what if we wanted to give some other reward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s based on years of servic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esign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to allow for a better solu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's separate the standard 10 vacation days from those that are awarded based on seniorit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Employee(int initialYear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ears = initial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10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SeniorityBonus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vacation days given for each year in the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2 * year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es this help us improv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selectively overr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eniorityBonu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whe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cationD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ns, it will use the new ver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ing a method at runtime is call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ynamic bind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extend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ecretary(int year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per(year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ecretaries don't get a bonus for their years of servic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int getSeniorityBonu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6920" indent="-2829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types of objects have a superclass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class implicitly extend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defines several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a text representation of the object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so that it can be prin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ther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are the object to any other for equalit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 objects have equal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7467480" y="1905120"/>
            <a:ext cx="1390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i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tore any object in a variable of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1 = new Point(5, -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2 = "hello the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 o3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riable only knows how to do general thing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o1.toString(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nt len = o2.length();      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String line = o3.nextLine()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write methods that accept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checkForNull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bject 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o == nul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row new IllegalArgumentExcepti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call: compar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perator does not work well with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references to objects, not their sta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only produc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hen you compare an object to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 == p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0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962520" y="44956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051440" y="466560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752480" y="480060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Line 33"/>
          <p:cNvSpPr/>
          <p:nvPr/>
        </p:nvSpPr>
        <p:spPr>
          <a:xfrm>
            <a:off x="2895480" y="51055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752480" y="5692680"/>
          <a:ext cx="1428840" cy="5209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Line 44"/>
          <p:cNvSpPr/>
          <p:nvPr/>
        </p:nvSpPr>
        <p:spPr>
          <a:xfrm>
            <a:off x="2895480" y="5997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3962520" y="5600880"/>
            <a:ext cx="243828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051440" y="5770440"/>
          <a:ext cx="2197080" cy="3970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489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parating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not just have a 22 page Lawyer manual, a 21-page Secretary manual, a 23-page Marketer manual, etc.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advantages of the separate manu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intenance: Only one update if a common rule chan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cality: Quick discovery of all rules specific to lawy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key ideas from this 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 rules are useful (the 20-page manua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cific rules that may override general ones are also usefu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compares the state of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1.equals(str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trings are 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you write a class,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behave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 :-(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behavior we inherit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doesn't understand how to comp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by defa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change this behavior by writing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s wil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verr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default behavior from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compare the state of the two objects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they have the same x/y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flawed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if (x == other.x &amp;&amp; y == other.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s in our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ody can be shortened to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oolean z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should be legal to comp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any ob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t just 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should be allow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hould always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Obje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Object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 that return a boolean val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arameter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general type that can match any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av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 mean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an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we don't know what type it is, how can we compare it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flawed ver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flaw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mplem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return x == o.x &amp;&amp; y == o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:36: cannot find sym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mbol  : variable 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ocation: class java.lang.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&amp;&amp; y ==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o.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is saying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any object. Not every object has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ield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-cas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ype-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object parameter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objects is different than casting primi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ly casting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e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n't actually change the object that was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lls the compiler to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s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object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2 = new Point(5, 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1.equals(p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equ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352680"/>
            <a:ext cx="617220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ublic boolean equals(Object o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Point other = (Point) 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return x == other.x &amp;&amp; y == other.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755800" y="3505320"/>
          <a:ext cx="26542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57200" y="464832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160020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5540400"/>
          <a:ext cx="1428480" cy="52056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00200" y="58453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666880" y="5448240"/>
            <a:ext cx="2438640" cy="102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755800" y="5618160"/>
          <a:ext cx="2197080" cy="39528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4888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696080" y="3429000"/>
          <a:ext cx="102204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7086600" y="3886200"/>
          <a:ext cx="163188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different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.equals("hello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hould be 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rrently our method crashes on the above cod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java.lang.ClassCastException: java.lang.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.equals(Point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PointMain.main(PointMain.java:2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ulprit is the line with the type-cas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Point other = (Point)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stance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nstanceof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s if a variable refe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n object of a given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hello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865760" y="3084480"/>
          <a:ext cx="4201920" cy="3316320"/>
        </p:xfrm>
        <a:graphic>
          <a:graphicData uri="http://schemas.openxmlformats.org/drawingml/2006/table">
            <a:tbl>
              <a:tblPr/>
              <a:tblGrid>
                <a:gridCol w="3187440"/>
                <a:gridCol w="1014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 instanceof Ob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al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whether o refers to a Point object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(x, y) coordinates as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boolean equals(Object o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(o instanceof Point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a Point; cast and compare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th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Po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o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x == other.x &amp;&amp; y ==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 is not a Point; cannot be equ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s-a relationships, hierarchies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-a relationshi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hierarchical connection where one category can be treated a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pecialized version of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market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mploy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legal secretar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s 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creta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heritance hierarch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t of classes connected by is-a relationships that can share common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rcRect l="6013" t="0" r="0" b="45385"/>
          <a:stretch/>
        </p:blipFill>
        <p:spPr>
          <a:xfrm>
            <a:off x="2479680" y="4114800"/>
            <a:ext cx="3844800" cy="21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lymorphis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bility for the same code to be used with different types of objects and behave differently with ea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print any type of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displays in its own way on the conso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interact with any type of cri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one moves, fights, etc.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ding with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of type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 can hold an object of any subclass of </a:t>
            </a:r>
            <a:r>
              <a:rPr b="0" i="1" lang="en-US" sz="23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call any methods from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o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method is called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it behaves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Sal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d.getVacationForm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Tahoma"/>
              </a:rPr>
              <a:t>Polymorphism and parameters</a:t>
            </a:r>
            <a:endParaRPr b="1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pass any subtype of a parameter's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wyer lisa = new Lawy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cretary steve = new Secretary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lisa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Info(stev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 emp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empl.getSalary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empl.getVacationDays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form: " + empl.getVacationForm()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pin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form: yell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2971800"/>
            <a:ext cx="2379600" cy="56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3200400"/>
            <a:ext cx="215712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d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rays of superclass types can store any subtype as ele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Main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mployee[] e = { new Lawyer(),   new Secretary()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 Marketer(), new LegalSecretary() 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e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alary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Salary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v.days: " +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[i].getVacationDays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5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5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60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alary: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5000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days: 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probl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-5 classes with inheritance relationships are show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ient program calls methods on objects of each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must read the code and determine the client'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lways put such a question on our final exam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se that the following four classes have been declar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foo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"fo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r extends Fo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bar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olymorphism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z extends Fo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baz 1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baz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umble extends Baz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method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mumble 2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classes from top (superclass) to bottom (subclas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all inherited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3816360" y="2438280"/>
            <a:ext cx="1744560" cy="11462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2424240" y="2440080"/>
            <a:ext cx="3139920" cy="2541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2438280" y="2443320"/>
            <a:ext cx="4527720" cy="2536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4"/>
          <a:stretch/>
        </p:blipFill>
        <p:spPr>
          <a:xfrm>
            <a:off x="2432160" y="2441520"/>
            <a:ext cx="4724280" cy="38289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iagramming the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nding output with tab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762120" y="175752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762120" y="1752480"/>
          <a:ext cx="7619760" cy="2966760"/>
        </p:xfrm>
        <a:graphic>
          <a:graphicData uri="http://schemas.openxmlformats.org/drawingml/2006/table">
            <a:tbl>
              <a:tblPr/>
              <a:tblGrid>
                <a:gridCol w="1523880"/>
                <a:gridCol w="1523880"/>
                <a:gridCol w="1524240"/>
                <a:gridCol w="1523880"/>
                <a:gridCol w="152388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um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r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umbl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a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mployee regul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der the following employee regula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work 40 hours / wee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make $40,000 per year, except legal secretaries who make $5,000 extra per year ($45,000 total), and marketers who make $10,000 extra per year ($50,000 total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have 2 weeks of paid vacation leave per year, except lawyers who get an extra week (a total of 3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ees should use a yellow form to apply for leave, except for lawyers who use a pink form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type of employee has some unique behav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wyers know how to s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ers know how to advertis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retaries know how to take dicta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gal secretaries know how to prepare legal docume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[] pity = {new Baz(), new Bar(), new Mumble(), new Foo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pity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pity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ty[i].method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1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r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z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umbl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o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rder of the classes is jumbled u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ethods sometimes call other methods (tricky!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proble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pam extends Y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Sp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Yam extends Lamb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Y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per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Y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would be the output of the following client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69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9" descr="HamLambYamSpam_noanswers"/>
          <p:cNvPicPr/>
          <p:nvPr/>
        </p:nvPicPr>
        <p:blipFill>
          <a:blip r:embed="rId1"/>
          <a:stretch/>
        </p:blipFill>
        <p:spPr>
          <a:xfrm>
            <a:off x="3809880" y="1295280"/>
            <a:ext cx="12049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lymorphism at wor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ll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verrid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a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am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"Ham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Lamb extends Ham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b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"Lamb b  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m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output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m a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152280" y="1600200"/>
          <a:ext cx="8915400" cy="47242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a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p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amb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pam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m[] food = {new Lamb(), new Ham(), new Spam(), new Yam()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food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ood[i]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a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od[i].b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56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a   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am a   Ham a   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mb 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4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4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49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49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sting refer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A variable can only call that type's methods, not a subtype'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 e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Lawyer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hours = ed.getHours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; it's in Employ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ed.sue()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mpiler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3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's reasoning is,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store any kind of employee, and not all kinds know how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o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we can type-cast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 theRealEd = (Lawyer) e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RealEd.sue();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(Lawyer) ed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sue();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horter ver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he code crashes if you cast an object too far down the tree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 eri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ew Secretary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(Secretary) eric).takeDictation("hi");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LegalSecretary) eric).fileLegalBriefs(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xce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(Secretary object doesn't know how to file brief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ast only up and down the tree, not side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wyer linda = new Lawyer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((Secretary) linda).takeDictation("hi")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ting doesn't actually change the object's behavi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just gets the code to compile/ru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(Employee) linda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getVacationForm()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ink (Lawyer'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other 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ssume that the following classes have been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now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Rain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Rain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mploye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employees in general (20-page manual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Employe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ercise: Implement 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ased on the previous employee regulations.  (Secretaries can take dictation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1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Sleet extends Snow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2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2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per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Sleet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Fog extends Slee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1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1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void method3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Fog 3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erci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What happens when the following examples are execut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1 = new Slee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2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Example 3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Rain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Sleet) var3).method3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1: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gram the classes from top (superclass) to botto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" name="Group 20" descr=""/>
          <p:cNvPicPr/>
          <p:nvPr/>
        </p:nvPicPr>
        <p:blipFill>
          <a:blip r:embed="rId1"/>
          <a:stretch/>
        </p:blipFill>
        <p:spPr>
          <a:xfrm>
            <a:off x="3797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63" name="Group 21" descr=""/>
          <p:cNvPicPr/>
          <p:nvPr/>
        </p:nvPicPr>
        <p:blipFill>
          <a:blip r:embed="rId2"/>
          <a:stretch/>
        </p:blipFill>
        <p:spPr>
          <a:xfrm>
            <a:off x="2352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64" name="Group 22" descr=""/>
          <p:cNvPicPr/>
          <p:nvPr/>
        </p:nvPicPr>
        <p:blipFill>
          <a:blip r:embed="rId3"/>
          <a:stretch/>
        </p:blipFill>
        <p:spPr>
          <a:xfrm>
            <a:off x="5168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65" name="Group 19" descr=""/>
          <p:cNvPicPr/>
          <p:nvPr/>
        </p:nvPicPr>
        <p:blipFill>
          <a:blip r:embed="rId4"/>
          <a:stretch/>
        </p:blipFill>
        <p:spPr>
          <a:xfrm>
            <a:off x="5168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66" name="Elbow Connector 28"/>
          <p:cNvCxnSpPr/>
          <p:nvPr/>
        </p:nvCxnSpPr>
        <p:spPr>
          <a:xfrm flipV="1" rot="16200000">
            <a:off x="4800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7" name="Elbow Connector 32"/>
          <p:cNvCxnSpPr/>
          <p:nvPr/>
        </p:nvCxnSpPr>
        <p:spPr>
          <a:xfrm flipH="1" flipV="1" rot="5400000">
            <a:off x="3390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68" name="Straight Arrow Connector 42"/>
          <p:cNvCxnSpPr/>
          <p:nvPr/>
        </p:nvCxnSpPr>
        <p:spPr>
          <a:xfrm flipV="1">
            <a:off x="5713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echnique 2: tab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52280" y="1523880"/>
          <a:ext cx="8915400" cy="377208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TextBox 9"/>
          <p:cNvSpPr/>
          <p:nvPr/>
        </p:nvSpPr>
        <p:spPr>
          <a:xfrm>
            <a:off x="3206160" y="5530680"/>
            <a:ext cx="323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Italic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inheri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ol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- dynamic metho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152280" y="1523880"/>
          <a:ext cx="8915400" cy="3775320"/>
        </p:xfrm>
        <a:graphic>
          <a:graphicData uri="http://schemas.openxmlformats.org/drawingml/2006/table">
            <a:tbl>
              <a:tblPr/>
              <a:tblGrid>
                <a:gridCol w="1371600"/>
                <a:gridCol w="1905120"/>
                <a:gridCol w="1905120"/>
                <a:gridCol w="1828800"/>
                <a:gridCol w="190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le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in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etho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now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leet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og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Straight Connector 4"/>
          <p:cNvSpPr/>
          <p:nvPr/>
        </p:nvSpPr>
        <p:spPr>
          <a:xfrm flipV="1">
            <a:off x="1523880" y="1981080"/>
            <a:ext cx="1905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6"/>
          <p:cNvSpPr/>
          <p:nvPr/>
        </p:nvSpPr>
        <p:spPr>
          <a:xfrm flipV="1">
            <a:off x="5334120" y="1981080"/>
            <a:ext cx="18288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1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1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77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78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79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80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81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2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83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4" name="TextBox 25"/>
          <p:cNvSpPr/>
          <p:nvPr/>
        </p:nvSpPr>
        <p:spPr>
          <a:xfrm>
            <a:off x="8001000" y="32004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2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2.method1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does no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hav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ethod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289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290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292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3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294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95" name="TextBox 23"/>
          <p:cNvSpPr/>
          <p:nvPr/>
        </p:nvSpPr>
        <p:spPr>
          <a:xfrm>
            <a:off x="6019920" y="17524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4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now var3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(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var3).method2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n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There is an err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becaus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not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lee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9" name="Group 20" descr=""/>
          <p:cNvPicPr/>
          <p:nvPr/>
        </p:nvPicPr>
        <p:blipFill>
          <a:blip r:embed="rId1"/>
          <a:stretch/>
        </p:blipFill>
        <p:spPr>
          <a:xfrm>
            <a:off x="6083280" y="2120760"/>
            <a:ext cx="1092240" cy="1013040"/>
          </a:xfrm>
          <a:prstGeom prst="rect">
            <a:avLst/>
          </a:prstGeom>
          <a:ln w="0">
            <a:noFill/>
          </a:ln>
        </p:spPr>
      </p:pic>
      <p:pic>
        <p:nvPicPr>
          <p:cNvPr id="300" name="Group 21" descr=""/>
          <p:cNvPicPr/>
          <p:nvPr/>
        </p:nvPicPr>
        <p:blipFill>
          <a:blip r:embed="rId2"/>
          <a:stretch/>
        </p:blipFill>
        <p:spPr>
          <a:xfrm>
            <a:off x="4638600" y="3571920"/>
            <a:ext cx="1085760" cy="1238040"/>
          </a:xfrm>
          <a:prstGeom prst="rect">
            <a:avLst/>
          </a:prstGeom>
          <a:ln w="0">
            <a:noFill/>
          </a:ln>
        </p:spPr>
      </p:pic>
      <p:pic>
        <p:nvPicPr>
          <p:cNvPr id="301" name="Group 22" descr=""/>
          <p:cNvPicPr/>
          <p:nvPr/>
        </p:nvPicPr>
        <p:blipFill>
          <a:blip r:embed="rId3"/>
          <a:stretch/>
        </p:blipFill>
        <p:spPr>
          <a:xfrm>
            <a:off x="7454880" y="5016600"/>
            <a:ext cx="1092240" cy="1244520"/>
          </a:xfrm>
          <a:prstGeom prst="rect">
            <a:avLst/>
          </a:prstGeom>
          <a:ln w="0">
            <a:noFill/>
          </a:ln>
        </p:spPr>
      </p:pic>
      <p:pic>
        <p:nvPicPr>
          <p:cNvPr id="302" name="Group 19" descr=""/>
          <p:cNvPicPr/>
          <p:nvPr/>
        </p:nvPicPr>
        <p:blipFill>
          <a:blip r:embed="rId4"/>
          <a:stretch/>
        </p:blipFill>
        <p:spPr>
          <a:xfrm>
            <a:off x="7454880" y="3571920"/>
            <a:ext cx="1092240" cy="1012680"/>
          </a:xfrm>
          <a:prstGeom prst="rect">
            <a:avLst/>
          </a:prstGeom>
          <a:ln w="0">
            <a:noFill/>
          </a:ln>
        </p:spPr>
      </p:pic>
      <p:cxnSp>
        <p:nvCxnSpPr>
          <p:cNvPr id="303" name="Elbow Connector 28"/>
          <p:cNvCxnSpPr/>
          <p:nvPr/>
        </p:nvCxnSpPr>
        <p:spPr>
          <a:xfrm flipV="1" rot="16200000">
            <a:off x="7086240" y="266616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4" name="Elbow Connector 32"/>
          <p:cNvCxnSpPr/>
          <p:nvPr/>
        </p:nvCxnSpPr>
        <p:spPr>
          <a:xfrm flipH="1" flipV="1" rot="5400000">
            <a:off x="5676480" y="2628360"/>
            <a:ext cx="457920" cy="144864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round/>
            <a:tailEnd len="lg" type="triangle" w="lg"/>
          </a:ln>
        </p:spPr>
      </p:cxnSp>
      <p:cxnSp>
        <p:nvCxnSpPr>
          <p:cNvPr id="305" name="Straight Arrow Connector 42"/>
          <p:cNvCxnSpPr/>
          <p:nvPr/>
        </p:nvCxnSpPr>
        <p:spPr>
          <a:xfrm flipV="1">
            <a:off x="7999560" y="4573080"/>
            <a:ext cx="36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306" name="TextBox 25"/>
          <p:cNvSpPr/>
          <p:nvPr/>
        </p:nvSpPr>
        <p:spPr>
          <a:xfrm>
            <a:off x="4191120" y="320040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ＭＳ Ｐゴシック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6"/>
          <p:cNvSpPr/>
          <p:nvPr/>
        </p:nvSpPr>
        <p:spPr>
          <a:xfrm>
            <a:off x="8001000" y="3200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edness of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set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irc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iang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operations that are common to all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distance around the outside of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 amount of 2D space occupied by the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170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shape has them but computes them differ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area, peri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tangle (as defined by wid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heigh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 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2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le (as defined by radiu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2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angle (as defined by side length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√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= ½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1981080"/>
            <a:ext cx="1524240" cy="990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620120" y="3352680"/>
            <a:ext cx="1143000" cy="1143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6477120" y="5105160"/>
            <a:ext cx="2209680" cy="1219320"/>
            <a:chOff x="6477120" y="5105160"/>
            <a:chExt cx="2209680" cy="1219320"/>
          </a:xfrm>
        </p:grpSpPr>
        <p:sp>
          <p:nvSpPr>
            <p:cNvPr id="317" name=""/>
            <p:cNvSpPr/>
            <p:nvPr/>
          </p:nvSpPr>
          <p:spPr>
            <a:xfrm flipH="1">
              <a:off x="6477120" y="5105520"/>
              <a:ext cx="1218960" cy="121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477120" y="5638320"/>
              <a:ext cx="220968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695720" y="5105160"/>
              <a:ext cx="9903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ecretary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redundant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Hour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works 40 hours /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double getSalary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40000.0;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$40,000.00 / yea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int getVacationDays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0;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2 weeks' paid va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ring getVacationFor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"yellow";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use the yellow for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behavi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shape classes with method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write client code that treats different kinds of shape objects in the same way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prints any shape's area and peri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e an array of shapes that could hold a mixture of the various shap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method that could return a rectangle, a circle, a triangle, or any other shape we've writt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play many shapes on scr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ist of methods that a class can impl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heritance gives you an is-a relationship and code-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wy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herit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's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s give you an is-a relationship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thou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shar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bject can be treated a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alogous to the idea of roles or certif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CPA accountant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taxes, perform audits, and do consult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-16236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I'm certified as a Shape.  That means I know how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compute my area and perimet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...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Vehicl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speed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Direction(int directio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bstrac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header without an implement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ctual body is not specified, to allow/force different classes to implement the behavior in its own w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hape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interface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area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perimeter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nterface describes the features common to all shape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Every shape has an area and perimeter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lementing an interfa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mplement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fac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icyc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mplements Vehic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declare that 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mpleme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interfa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means the class must contain each of the abstract methods in that interface.  (Otherwise, it will not compil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What must be true about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icyc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for it to compile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requir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class claims to b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t doesn't implement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eri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, it will not compi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Banana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implements Sha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error messag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Banana.java:1: Banana is not abstract and does not override abstract method area() in Sha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public class Banana implements Shap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Circ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circ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irc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circle with the given rad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ircle(double radiu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radius =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PI * radius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circ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Math.PI * radius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Rect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rect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Rect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rectangle with the given dimension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Rectangle(double width, double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width = width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height =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area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width * heigh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rect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2.0 * (width + heigh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lete Triangle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presents triang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Triangle implements Shap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double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structs a new Triangle given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Triangle(double a, double b, double c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a =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b = b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.c =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is triangle's area using Heron's formu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area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s = (a + b + c) / 2.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Math.sqrt(s * (s - a) * (s - b) * (s - c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perimeter of this triang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double perimeter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 + b +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s + polymorphis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s don't benefit the class so much as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lien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face's is-a relationship lets the client use polymorphis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printInfo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 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hape: " + s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area : " + s.area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erim: " + s.perimeter(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y object that implements the interface may be pass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ircle circ = new Circle(12.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ctangle rect = new Rectangle(4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iangle tri = new Triangle(5, 12, 1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circ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tri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Info(rect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hape[] shapes = {tri, circ, rect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sire for code-sha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akeDic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only unique behavior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reta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like to be able to s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 class to represent secretar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Secretary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py all the contents from the Employee class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void takeDictation(String text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king dictation of text: " + text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terface dia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19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194400" indent="-194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ow goes up from class to interface(s) it imp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is a supertype-subtype relationship her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.g., all Circles are Shapes, but not all Shapes are Circl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25240" indent="-234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kind of picture is 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UML class dia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900080" y="1219320"/>
            <a:ext cx="5186520" cy="284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40:10Z</dcterms:modified>
  <cp:revision>126</cp:revision>
  <dc:subject/>
  <dc:title>CSE 142 Python Slides</dc:title>
</cp:coreProperties>
</file>