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845D-F4A5-473F-8803-0B09BA581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you get rid of the int size variable above and replace it with list.size() ?  (infinite loo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"ArrayList&lt;Integer&gt;" as just all being one atomic token representing the ty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jGRASP/DrJava Interactions window to create a list and add some elements, get them, check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A3E8-A17B-4B8D-AB12-24F241374DF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java.sun.com/javase/6/docs/api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0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Parameters (Generics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ArrayList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construc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you must specify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elements it will contain betwe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type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generic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ows the s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to store lists of different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ames = new ArrayList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Marty Stepp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s.add("Stuart Reg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arning about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Java API Specific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is a huge web page containing documentation about every Java class and it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ink to the API Specs is on the course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50292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[] name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&lt;String&gt; list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names[0] = "Jessic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ist.add("Jessica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ieving 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String s = names[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s = list.get(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arra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ing something to each value that start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get(i).startsWith("B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ing whether the valu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Benson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fou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for (int i = 0; i &lt; name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if (names[i].equal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list.contains("Benson")) { ... 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, revisit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List&lt;String&gt; allWord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word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.add(wor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llWord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 all plural 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llWords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allWords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word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lWords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f primitives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ype you specify when crea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be an object type; it cannot be a primitiv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illegal -- int cannot be a type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&lt;int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we can still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primitive types by using special classes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rapp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 in their pl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creates a list of 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list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Integer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rapper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A wrapper is an object whose sole purpose is to hold a primitive value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you construct the list, use it with primitives as norma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grades = new ArrayList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&lt;Double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3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des.add(2.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myGrade = grades.get(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590920" y="1295280"/>
          <a:ext cx="3997080" cy="1976400"/>
        </p:xfrm>
        <a:graphic>
          <a:graphicData uri="http://schemas.openxmlformats.org/drawingml/2006/table">
            <a:tbl>
              <a:tblPr/>
              <a:tblGrid>
                <a:gridCol w="2022480"/>
                <a:gridCol w="1974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imitiv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rapper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eg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8874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full of number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plays all the numbers as a list, th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average of the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ints the highest and lowest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lters out all of the even numbers (ones divisible by 2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reads a file and displ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ords of that file as a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display all wor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s (ending in "s") capitaliz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in reverse or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display them with all plural words remo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we solve this problem using an arra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y or why no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Integer&gt; numbers = new ArrayList&lt;Integer&gt;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input = new Scanner(new File("numbers.txt"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input.hasNextInt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input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s.add(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umber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moves all elements with even values from the given list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lterEven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ArrayList&lt;Integer&gt; lis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list.size() - 1; i &gt;= 0; i--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 = list.get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 are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's size()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cau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String&gt; names = new ArrayList&lt;Strin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Marty");   names.add("Kevin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s.add("Vicki");   names.add("Larry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0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names.get(3));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names.get(-1));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ames.add(9, "Aimee");                  // 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462040" y="5410080"/>
          <a:ext cx="393840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817560"/>
                <a:gridCol w="793800"/>
                <a:gridCol w="696600"/>
                <a:gridCol w="755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r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Kev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ick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r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10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10, 20, 30, 40, ..., 10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0, 40, 60, 80, 10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List "mystery"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&lt;Integer&gt; list = new ArrayList&lt;Integer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5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2 * i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2, 4, 6, 8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output of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ize = list.siz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size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42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add 42 at index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is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w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2, 42, 42, 42, 42, 2, 4, 6, 8, 1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3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s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 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Removes all plural words from the given li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Plura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rrayList&lt;String&gt; li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tr = list.get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str.endsWith("s"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--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lso return a li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rrayList&lt;</a:t>
            </a: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 as a parameter and plac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fter each e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an array list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quick, brown, fox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ddStars(list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makes it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the, *, quick, *, brown, *, fox, *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 list of strings, assuming that every other element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removes the stars (undoing what was don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ov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add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+= 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add(i, "*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moveStars(ArrayList&lt;String&gt; list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list.size()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++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st.remove(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ers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sorted array lists of integers as parameters and returns a new list that contains only the elements that are found in both li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f lis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st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itially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, 9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5, 1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41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7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19, 20, 23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28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37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59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8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the call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ersect(list1, list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returns the li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4, 11, 17, 28, 5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ther 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verses the order of the elements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pitaliz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places every word ending with an "s" with its uppercased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Plur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strings and removes every word in the list ending with an "s"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iv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[] allWord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String[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00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wordCou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data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input.hasNext()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word = input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llWords[wordCount] = wor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Count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You don't know how many words the file will hav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rd to create an array of the appropriate siz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ter parts of the problem are more difficult to sol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ckily, there are other ways to store data besides in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storing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object can have an array, list, or other collection as a fiel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Cour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double[] grad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 ArrayList&lt;String&gt; studentNames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ourse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des = new double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udentNames = new ArrayList&lt;String&gt;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each object stores a collection of data inside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(10.2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tandard way for a Java class to define a comparison function for its objects is to defin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there is a metho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String oth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of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will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before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es "after"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ordering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16574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considered "equal" in the orde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a test in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a = "alic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b = "bob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a.compareTo(b) &lt; 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3710160"/>
          <a:ext cx="8153280" cy="2766960"/>
        </p:xfrm>
        <a:graphic>
          <a:graphicData uri="http://schemas.openxmlformats.org/drawingml/2006/table">
            <a:tbl>
              <a:tblPr/>
              <a:tblGrid>
                <a:gridCol w="3047760"/>
                <a:gridCol w="5105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imitiv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l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l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=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=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!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!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=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=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 &gt; b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a.compareTo(b) &gt; 0) { 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an array or list of strings with Java's included binary search method because it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a = {"al", "bob", "cari", "dan", "mike"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inde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s.binarySearc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a, "dan");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nally for orde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&lt;String&gt; se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 TreeSet&lt;String&gt;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String s : a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.add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[al, bob, cari, dan, mike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rdering our own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not binary search or mak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arbitrary types, because Java doesn't know how to order the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compiles but crashes when we run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new TreeSet&lt;HtmlTag&g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xception in thread "main" java.lang.ClassCastExcep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t java.util.TreeSet.add(TreeSet.java:238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(10.2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erface Comparable&lt;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oth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erface to define a natural ordering function for it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all to y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should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l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before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value &gt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mes "after"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th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is considered "equal"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6002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If you want multiple orderings, use a </a:t>
            </a:r>
            <a:r>
              <a:rPr b="0" lang="en-US" sz="2000" spc="-1" strike="noStrike">
                <a:solidFill>
                  <a:srgbClr val="808080"/>
                </a:solidFill>
                <a:latin typeface="Courier New"/>
              </a:rPr>
              <a:t>Comparator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instead (see Ch. 13.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mplements Comparable&lt;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ab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implements Comparable&lt;Point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public int compareTo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x &l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x &gt; other.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l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-1;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small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y &gt;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1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, larger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0; 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ame x and same 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0">
              <a:lnSpc>
                <a:spcPct val="6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btraction trick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 Subtracting related numeric values produces the right result for what you wan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retur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ort by x and break ties by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compareTo(Point other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x != other.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x - other.x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different 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y - other.y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same x; compare 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de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g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g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&lt;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&lt;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-163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= other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- other.x ==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0">
              <a:spcBef>
                <a:spcPts val="249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3" marL="1131120" indent="-162720"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NOTE: This trick doesn't work for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s   (but se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Math.signum</a:t>
            </a:r>
            <a:r>
              <a:rPr b="0" lang="en-US" sz="1800" spc="-1" strike="noStrike">
                <a:solidFill>
                  <a:srgbClr val="80808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mpareTo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rick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legation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fields are comparable (such as strings), use thei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sults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employee name, e.g. "Jim" &lt; "Susa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Employe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name.compareTo(other.getName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tri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If your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is related to the ordering, use that to help yo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sort by date, e.g. "09/19" &gt; "04/01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 compareTo(Date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toString().compareTo(other.toString(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llec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lle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stores data;  a.k.a. "data structur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s stored are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collections maintain an ordering; some allow duplic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ypical operations: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mo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e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ontai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arch)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 found in the Java class librar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shMa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eeS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ority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collections are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tmlTa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from HTML Validator comparab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ags by their elements, alphabetically by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same element, opening tags come before closing ta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&lt;b&gt;&lt;/b&gt;&lt;i&gt;&lt;b&gt;&lt;/b&gt;&lt;br/&gt;&lt;/i&gt;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&lt;HtmlTag&gt; tags = new TreeSet&lt;HtmlTag&gt;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true));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true));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r"));      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br/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i", false));  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i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gs.add(new HtmlTag("body", false));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&lt;/body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tag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// [&lt;b&gt;, &lt;/b&gt;, &lt;body&gt;, &lt;/body&gt;, &lt;br/&gt;, &lt;i&gt;, &lt;/i&gt;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tmlTag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mplements Comparable&lt;HtmlTag&gt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Compares tags by their element ("body" before "head")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breaking ties with opening tags before closing tag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Returns &lt; 0 for less, 0 for equal, &gt; 0 for great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ublic int compareTo(HtmlTag oth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mpare = element.compareTo(other.getElement(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mpare !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different tags; use String's compareTo resu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mpar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same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(isOpenTag == 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0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exactly the same kind of ta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other.isOpenTag()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; 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he=open, I=close; I am af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1;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// I=open, he=close; I am befo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ollections frame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534160" cy="545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llection storing an ordered sequence of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lement is accessible by a 0-bas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st h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number of elements that have been adde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ements can be added to the front, back, or elsew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Java, a list can be represented a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rrayLi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43000" y="3714840"/>
            <a:ext cx="693432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dea of a lis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her than creating an array of boxes, create an object that represents a "list" of items.  (initially an empty list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add items to the lis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efault behavior is to add to the end of the li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hello, ABC, goodbye, okay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ist object keeps track of the element values that have been added to it, their order, indexes, and its total siz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nk of an "array list" as an automatically resizing arra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nally, the list is implemented using an array and a size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(10.1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1371600"/>
          <a:ext cx="8382240" cy="4776840"/>
        </p:xfrm>
        <a:graphic>
          <a:graphicData uri="http://schemas.openxmlformats.org/drawingml/2006/table">
            <a:tbl>
              <a:tblPr/>
              <a:tblGrid>
                <a:gridCol w="2916360"/>
                <a:gridCol w="5465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ends value at end of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erts given value just before the given index, shifting subsequent values to the 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ear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ll elements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first index where given value is found in list (-1 if not foun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g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value at given 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/returns value at given index, shifting subsequent values to the 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t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places value at given index with given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iz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number of elements in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String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turns a string representation of the li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ch as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[3, 42, -7, 15]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Lis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5400" y="1407960"/>
          <a:ext cx="8975520" cy="4840560"/>
        </p:xfrm>
        <a:graphic>
          <a:graphicData uri="http://schemas.openxmlformats.org/drawingml/2006/table">
            <a:tbl>
              <a:tblPr/>
              <a:tblGrid>
                <a:gridCol w="2654280"/>
                <a:gridCol w="6321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dd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de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ds all elements from the given list to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at the end of the list, or inserts them at the given inde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value is found somewhere in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this list contains every element from given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rue if given other list contains the same ele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istIterator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n object used to examine the contents of the list (seen lat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st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last index value is found in list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inds and removes the given value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move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found in the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etainA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is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moves any elements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found in given list from this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Lis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sub-portion of the list between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r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an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exclusiv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Array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elements in this list as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32:50Z</dcterms:modified>
  <cp:revision>115</cp:revision>
  <dc:subject/>
  <dc:title>CSE 142 Python Slides</dc:title>
</cp:coreProperties>
</file>