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08D2C-E936-40B2-97C9-F719D1E99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variation: Output only the *unique* rearrangements.  For example, permute("GOOGLE") has two Os, but swapping them in order produces the same string, which shouldn't appear twice in the out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A525-87AD-4E22-9787-5AA41BCA25EA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2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sic ca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very easy number of stars to print without a lo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ling additional cases, with no loops (in a bad way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 == 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andling more case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ing advantage of the repeated pattern (somewhat bette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1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3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2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n == 4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3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"***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recursion properl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ensing the recursive cases into a singl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print on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Recursio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al, even simpler, base case i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0, not 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=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just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one more 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Stars(n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on Z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art of properly identifying the best set of cases for a recursive algorithm and expressing them elegantly.</a:t>
            </a:r>
            <a:br>
              <a:rPr sz="2200"/>
            </a:br>
            <a:br>
              <a:rPr sz="8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 CSE 143 informal ter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n /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n % 1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a + b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6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648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648 /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6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648 % 10;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ystery(a + b)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mystery(7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ystery(7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72 /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72 % 10;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ystery(a + b);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ystery(9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mystery(9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9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7480" y="1289160"/>
            <a:ext cx="745632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3124080"/>
            <a:ext cx="6629400" cy="266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4876920"/>
            <a:ext cx="213372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tracing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recursive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int mystery(int n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n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 * n) + n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/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stery(n % 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a) +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result of the following cal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ystery(34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cursive trac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mystery(34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mystery(3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 = mystery(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3) + 3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3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b = mystery(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55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(10 * 4) + 4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0 * 33) + 44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3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mystery(8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(10 * 8) + 8;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8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(100 * 3344) + 88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</a:t>
            </a:r>
            <a:r>
              <a:rPr b="1" lang="en-US" sz="2200" spc="-1" strike="noStrike" u="sng">
                <a:solidFill>
                  <a:srgbClr val="008000"/>
                </a:solidFill>
                <a:uFillTx/>
                <a:latin typeface="Courier New"/>
              </a:rPr>
              <a:t>33448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is method really doing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2127240"/>
            <a:ext cx="5410080" cy="18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4662360"/>
            <a:ext cx="5410080" cy="3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30480" y="246708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28680" y="3181320"/>
            <a:ext cx="4006800" cy="35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" y="1289160"/>
            <a:ext cx="7151400" cy="457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integer base and exponent and returns the base raised to that expon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(3, 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8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recursively and without using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definition of an operation in terms of itself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ing a problem using recursion depends on solv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cursive programm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riting methods that call themselves to solve problems recurs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equally powerful substitute fo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e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loo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ly well-suited to solving certain types of problem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optim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ce the following mathematical propert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12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53144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((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2200" spc="-1" strike="noStrike" baseline="30000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200" spc="-1" strike="noStrike" baseline="30000">
                <a:solidFill>
                  <a:srgbClr val="800000"/>
                </a:solidFill>
                <a:latin typeface="Tahom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does this "trick"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incorporate this optimization into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41480"/>
                <a:tab algn="l" pos="2224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benefit of this trick if the method already work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w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base ^ exponen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exponent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pow(int base, int exponen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exponent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any number to 0th power is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if (exponent % 2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1:  x^y = (x^2)^(y/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 pow(base * base, exponent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2:  x^y = x * x^(y-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 * pow(base, exponent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Bin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and prints that number's representation in binary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base 2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7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1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Binary(4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 1010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the method recursively and without using any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057400" y="3835440"/>
          <a:ext cx="5045040" cy="888840"/>
        </p:xfrm>
        <a:graphic>
          <a:graphicData uri="http://schemas.openxmlformats.org/drawingml/2006/table">
            <a:tbl>
              <a:tblPr/>
              <a:tblGrid>
                <a:gridCol w="777960"/>
                <a:gridCol w="460440"/>
                <a:gridCol w="453960"/>
                <a:gridCol w="630360"/>
                <a:gridCol w="460080"/>
                <a:gridCol w="460440"/>
                <a:gridCol w="430200"/>
                <a:gridCol w="457200"/>
                <a:gridCol w="457200"/>
                <a:gridCol w="457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e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bout solving a small piece of a larg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69743 in binary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we know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yth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about its representation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se analys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/are easy numbers to print in binary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we express a larger number in terms of a smaller number(s)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we are examining some arbitrary integ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/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10010101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 % 2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binary representation 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we eliminate the precondition and deal with negativ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Bin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the given integer's binary represent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Binary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 (n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 for negative nu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ystem.out.print("-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ntBinary(-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 els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f (n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; same as base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break number apa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/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Binary(n %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Palindr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f it reads the same forwards as backwar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madam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aceca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step on no pets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able was I ere I saw elb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Java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rotater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byebye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Palindrome("notion"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first = s.charA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 last  = s.charAt(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irst != la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  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middle = s.substring(1, s.length() - 1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sPalindrome(middl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turns true if the given string read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forwards as backward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Trivially true for empty or 1-letter strin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isPalindrome(String 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.length() &lt;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.charAt(0) == s.charAt(s.length() - 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amp;&amp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Palindrome(s.substring(1, s.length() -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learn recursio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cultural experience" - A different way of thinking of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solve some kinds of problems better than it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ds to elegant, simplistic, short code (when used wel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programming languages ("functional" languages such as Scheme, ML, and Haskell) use recursion exclusively  (no loo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key component of the rest of our assignments in CSE 14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L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fil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rints the lines of the file in reverse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input fi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ected conso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cases to consid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can we solve a small part of the problem at a ti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5261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file that is very easy to revers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2743200"/>
            <a:ext cx="327636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pseudo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sing the lines of a f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 a line L from the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rest of the lines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 the line 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If only we had a way to reverse the rest of the lines of the file...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a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recursive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is the base cas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363760" cy="2438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64920" y="53481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7120" y="5348160"/>
            <a:ext cx="119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put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160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36480" y="5727600"/>
            <a:ext cx="2649600" cy="97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e belong to y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ll my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iolets are b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oses are 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our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ll st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method invocations running at any one ti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verseLines(new Scanner("poem.txt"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6320" y="22860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Roses are red,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320" y="28954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Violets are blue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347040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ll my bas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6320" y="4079880"/>
            <a:ext cx="8991360" cy="16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line = input.nextLine(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"Are belong to you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verseLines(inpu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6320" y="4670280"/>
            <a:ext cx="8991360" cy="119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verseLines(Scanner inpu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input.hasNextLine(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6320" y="5867280"/>
            <a:ext cx="3045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4.44444E-006 L 3.46945E-018 0.03333 E">
                                      <p:cBhvr>
                                        <p:cTn id="21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3333 L 3.46945E-018 0.06666 E">
                                      <p:cBhvr>
                                        <p:cTn id="22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0.06666 L 3.46945E-018 0.1 E">
                                      <p:cBhvr>
                                        <p:cTn id="23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aw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prints information about that f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normal file, just print its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represents a directory, print its name and information about every file/directory inside it, inde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se14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ndou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llabus.do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ecture_schedule.x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-sortedint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rtedIntList.jav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yle.c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directory can contain other director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(from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i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) repres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ile or directory on the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04920" y="2362320"/>
          <a:ext cx="8542080" cy="4038120"/>
        </p:xfrm>
        <a:graphic>
          <a:graphicData uri="http://schemas.openxmlformats.org/drawingml/2006/table">
            <a:tbl>
              <a:tblPr/>
              <a:tblGrid>
                <a:gridCol w="2549160"/>
                <a:gridCol w="599292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or/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eate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object representing file with given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anRead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file is able to be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elet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s file from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ist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hether this file exists on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file's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Director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whether this object represents a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number of bytes in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istFil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le[]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resenting files in this direc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nameTo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anges name of 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ublic/private pai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vary the indentation without an extra parame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rawl(File f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ten the parameters we need for our recursion do not match those the client will want to p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se cases, we instead write a pair of metho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non-recursive one with the parameters the client wa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 a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cursive one with the parameters we really ne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information about this fil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nd (if it is a directory) any files insid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ublic static void crawl(File 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rawl(f, ""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all private recursive help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helper to implement crawl/indent behavi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riva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void crawl(File f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String ind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dent +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.getName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.isDirectory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cursive case; print contained files/di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File subFile : f.listFiles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awl(subFile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, indent + "    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cursive Backtrack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ermut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o a student in the front row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any students total are directly behind you in your "column" of the classroo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have poor vision, so you ca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e only the people right next to you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you can't just look back and cou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you are allowed to as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estions of the person next to you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solve this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cursivel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31626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the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k of each permutation as a set of choices 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firs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character do I want to place secon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lution 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set of all possible sets of decisions to explo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ant to generate all possible sequences of deci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(each possible first letter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(each possible second letter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(each possible third letter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5170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ision tre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446640" y="1295280"/>
          <a:ext cx="2408040" cy="812880"/>
        </p:xfrm>
        <a:graphic>
          <a:graphicData uri="http://schemas.openxmlformats.org/drawingml/2006/table">
            <a:tbl>
              <a:tblPr/>
              <a:tblGrid>
                <a:gridCol w="1079280"/>
                <a:gridCol w="13287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o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f2f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 flipH="1">
            <a:off x="3657600" y="21337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741760" y="2387520"/>
          <a:ext cx="1404720" cy="406440"/>
        </p:xfrm>
        <a:graphic>
          <a:graphicData uri="http://schemas.openxmlformats.org/drawingml/2006/table">
            <a:tbl>
              <a:tblPr/>
              <a:tblGrid>
                <a:gridCol w="379080"/>
                <a:gridCol w="1025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159876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1092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"/>
          <p:cNvSpPr/>
          <p:nvPr/>
        </p:nvSpPr>
        <p:spPr>
          <a:xfrm flipH="1">
            <a:off x="2360520" y="2819520"/>
            <a:ext cx="91440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574560" y="3936960"/>
          <a:ext cx="140472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56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1522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15228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3241800" y="3174840"/>
          <a:ext cx="1409400" cy="406440"/>
        </p:xfrm>
        <a:graphic>
          <a:graphicData uri="http://schemas.openxmlformats.org/drawingml/2006/table">
            <a:tbl>
              <a:tblPr/>
              <a:tblGrid>
                <a:gridCol w="615600"/>
                <a:gridCol w="793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4913280" y="3174840"/>
          <a:ext cx="1404720" cy="406440"/>
        </p:xfrm>
        <a:graphic>
          <a:graphicData uri="http://schemas.openxmlformats.org/drawingml/2006/table">
            <a:tbl>
              <a:tblPr/>
              <a:tblGrid>
                <a:gridCol w="606240"/>
                <a:gridCol w="798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6594480" y="3174840"/>
          <a:ext cx="1406520" cy="406440"/>
        </p:xfrm>
        <a:graphic>
          <a:graphicData uri="http://schemas.openxmlformats.org/drawingml/2006/table">
            <a:tbl>
              <a:tblPr/>
              <a:tblGrid>
                <a:gridCol w="606600"/>
                <a:gridCol w="7999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7510320" y="2362320"/>
          <a:ext cx="1405080" cy="406440"/>
        </p:xfrm>
        <a:graphic>
          <a:graphicData uri="http://schemas.openxmlformats.org/drawingml/2006/table">
            <a:tbl>
              <a:tblPr/>
              <a:tblGrid>
                <a:gridCol w="336600"/>
                <a:gridCol w="106848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R T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>
            <a:off x="4648320" y="2133720"/>
            <a:ext cx="2819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03520" y="2819520"/>
            <a:ext cx="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84760" y="2819520"/>
            <a:ext cx="12952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89320" y="2819520"/>
            <a:ext cx="236232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2080" y="35812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327400" y="3936960"/>
          <a:ext cx="141444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66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4037040" y="3936960"/>
          <a:ext cx="1415880" cy="406440"/>
        </p:xfrm>
        <a:graphic>
          <a:graphicData uri="http://schemas.openxmlformats.org/drawingml/2006/table">
            <a:tbl>
              <a:tblPr/>
              <a:tblGrid>
                <a:gridCol w="847440"/>
                <a:gridCol w="5684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"/>
          <p:cNvSpPr/>
          <p:nvPr/>
        </p:nvSpPr>
        <p:spPr>
          <a:xfrm>
            <a:off x="2360520" y="358128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17720" y="3581280"/>
            <a:ext cx="1447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2880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 flipH="1">
            <a:off x="83808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9051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R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25909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962520" y="4699080"/>
          <a:ext cx="1404720" cy="406440"/>
        </p:xfrm>
        <a:graphic>
          <a:graphicData uri="http://schemas.openxmlformats.org/drawingml/2006/table">
            <a:tbl>
              <a:tblPr/>
              <a:tblGrid>
                <a:gridCol w="107460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396252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638680" y="4699080"/>
          <a:ext cx="1405080" cy="406440"/>
        </p:xfrm>
        <a:graphic>
          <a:graphicData uri="http://schemas.openxmlformats.org/drawingml/2006/table">
            <a:tbl>
              <a:tblPr/>
              <a:tblGrid>
                <a:gridCol w="1074960"/>
                <a:gridCol w="3301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 flipH="1">
            <a:off x="4648320" y="43434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81480" y="4343400"/>
            <a:ext cx="1143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5715000" y="5537160"/>
          <a:ext cx="1484280" cy="406440"/>
        </p:xfrm>
        <a:graphic>
          <a:graphicData uri="http://schemas.openxmlformats.org/drawingml/2006/table">
            <a:tbl>
              <a:tblPr/>
              <a:tblGrid>
                <a:gridCol w="1268280"/>
                <a:gridCol w="216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A Y T 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9" name=""/>
          <p:cNvSpPr/>
          <p:nvPr/>
        </p:nvSpPr>
        <p:spPr>
          <a:xfrm>
            <a:off x="64008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629400" y="3962520"/>
          <a:ext cx="1415880" cy="406440"/>
        </p:xfrm>
        <a:graphic>
          <a:graphicData uri="http://schemas.openxmlformats.org/drawingml/2006/table">
            <a:tbl>
              <a:tblPr/>
              <a:tblGrid>
                <a:gridCol w="847800"/>
                <a:gridCol w="568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 Y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 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"/>
          <p:cNvSpPr/>
          <p:nvPr/>
        </p:nvSpPr>
        <p:spPr>
          <a:xfrm flipH="1">
            <a:off x="7195680" y="3581280"/>
            <a:ext cx="11916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358128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623440" y="3809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962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24680" y="342900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91760" y="26668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061080" y="419112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04480" y="4267080"/>
            <a:ext cx="38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track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general algorithm for finding solution(s) to a computational problem by trying partial solutions and then abandoning them ("backtracking") if they are not suit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brute force" algorithmic technique  (tries all paths; not clev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(but not always) implemented recursive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ing all permutations of a set of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sing langu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ames: anagrams, crosswords, word jumbles, 8 quee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atorics and logic programm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general pseudo-code algorithm for backtracking problem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r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are no mo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make:  st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e a singl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the set of cho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Remove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 from the set of </a:t>
            </a:r>
            <a:r>
              <a:rPr b="1" lang="en-US" sz="1800" spc="-1" strike="noStrike">
                <a:solidFill>
                  <a:srgbClr val="808080"/>
                </a:solidFill>
                <a:latin typeface="Tahoma"/>
              </a:rPr>
              <a:t>choices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e the rem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o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-make choic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Backtrack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tracking strateg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olving a backtracking problem, ask these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 in this proble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the "base case"?  (How do I know when I'm out of choices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create additional variables to remember my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modify the values of existing variabl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explore the rest of the choice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-1605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 I need to remove the made choice from the list of choice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I'm done exploring the rest, what should I do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I 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rmutations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mu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as a parameter and outputs all possible rearrangements of th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ermute("MARTY"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following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quence of lin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990960" y="2666880"/>
          <a:ext cx="4772160" cy="3946320"/>
        </p:xfrm>
        <a:graphic>
          <a:graphicData uri="http://schemas.openxmlformats.org/drawingml/2006/table">
            <a:tbl>
              <a:tblPr/>
              <a:tblGrid>
                <a:gridCol w="795600"/>
                <a:gridCol w="795240"/>
                <a:gridCol w="795240"/>
                <a:gridCol w="795240"/>
                <a:gridCol w="795600"/>
                <a:gridCol w="795240"/>
              </a:tblGrid>
              <a:tr h="397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R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T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Y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R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T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MY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T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A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T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MY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T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AY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T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Y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A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R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MY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MY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R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AY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M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M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Y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Y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Y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A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R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M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MT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R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AT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M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AT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RT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M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M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AR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TR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ar c = s.charAt(i);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+= c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s, chosen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 = s.substring(0, i) + c + 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chosen =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hosen.substring(0, chosen.length() - 1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                 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13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Outputs all permutations of the given string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permute(String s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ermute(s, "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rivate static void permute(String s, String chosen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s.length() ==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base case: no choices left to be mad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cursive case: choose each possible next letter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ch = s.substring(i, i + 1);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ring rest = s.substring(0, i) +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remo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.substring(i + 1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permute(rest, chosen + ch)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(don't need to "un-choose" becaus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          </a:t>
            </a: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 we used temp variables)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Combin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bin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str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 intege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as parameters and outputs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letter words that can be formed from unique letters in that string.  The arrangements may be output in any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mbinations("GOOGLE", 3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s the sequence of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nes at righ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implify the problem, you may assum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the string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tains at lea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ique charac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7238880" y="2987640"/>
          <a:ext cx="1371600" cy="35654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</a:tblGrid>
              <a:tr h="35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G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L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 attemp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Prints same string multiple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ursion is all about breaking a big problem into smaller occurrences of that same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person can solve a small part of th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s a small version of the problem that would be easy to answ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information from a neighbor might help 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32328"/>
          <a:stretch/>
        </p:blipFill>
        <p:spPr>
          <a:xfrm>
            <a:off x="4030560" y="3514680"/>
            <a:ext cx="480852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combinations(String s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 = new TreeSet&lt;String&gt;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binations(s, "",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length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(String comb : al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comb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static void combinations(String s, String chosen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&lt;String&gt; al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, int length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length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ll.add(chosen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         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// base case: no choices lef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ch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chosen.contains(ch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rest = s.substring(0, i) + s.substring(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binations(rest, chosen + ch, all, length -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Domino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ame of dominoes is played with sma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 tiles, each having 2 numbers of do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0-6.  Players line up tiles to match do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mi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first() 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irst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second()     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econd dots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e.g. "(3|5)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tak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dominoes and a starting/ending dot value, and returns whether the dominoes can be made into a chain that starts/ends with those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hain's start/end are the same, the answer is alway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858000" y="108576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omino chai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the following domino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link them into a chain from 1 to 3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 that the 3|5 domino had to be flipp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"link" one domino into a "chain" from 6 to 2 as follow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20178" t="28004" r="20919" b="64408"/>
          <a:stretch/>
        </p:blipFill>
        <p:spPr>
          <a:xfrm>
            <a:off x="1752480" y="1827360"/>
            <a:ext cx="5694480" cy="5666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rcRect l="33505" t="55928" r="34433" b="36644"/>
          <a:stretch/>
        </p:blipFill>
        <p:spPr>
          <a:xfrm>
            <a:off x="2978280" y="3936960"/>
            <a:ext cx="3117600" cy="5587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rcRect l="44182" t="47288" r="45044" b="45606"/>
          <a:stretch/>
        </p:blipFill>
        <p:spPr>
          <a:xfrm>
            <a:off x="4038480" y="5535720"/>
            <a:ext cx="106056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client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or ArrayLi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olveDominoe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[(1|4), (2|6), (4|5), (1|5), (3|5)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&lt;Domino&gt; dominoes = new ArrayList&lt;Domino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2, 6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4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1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new Domino(3, 5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5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5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3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6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1, 2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List&lt;Domino&gt; dominoes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tart, int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second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asChain(dominoes, d.first(), en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: Print cha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variation of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Ch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that also prints the chain of dominoes that it finds, if 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Chain(dominoes, 1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(1|4), (4|5), (5|3)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boolean hasChain(List&lt;Domino&gt; dominoes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ack&lt;Domino&gt; chosen = new Stack&lt;Domino&gt;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asChain(dominoes, chosen, start, end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static boolean hasChain(List&lt;Domino&gt; domino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ck&lt;Domino&gt; chos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, int start, int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tart == end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ystem.out.println(chose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           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base c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 (int i = 0; i &lt; dominoes.size(); i++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 d = dominoes.remove(i);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d.first() == start) {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if (d.second() == start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.fli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ush(d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hasChain(dominoes, chosen, d.second(), end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osen.pop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minoes.add(i, d);              </a:t>
            </a:r>
            <a:r>
              <a:rPr b="1" lang="en-US" sz="14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152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8 Queens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problem of trying to place 8 queens on a chess board such that no queen can attack another qu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are the "choices"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"make" 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un-make" a cho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know when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to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267080" y="2209680"/>
          <a:ext cx="4724280" cy="4267080"/>
        </p:xfrm>
        <a:graphic>
          <a:graphicData uri="http://schemas.openxmlformats.org/drawingml/2006/table">
            <a:tbl>
              <a:tblPr/>
              <a:tblGrid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8" name=""/>
          <p:cNvGrpSpPr/>
          <p:nvPr/>
        </p:nvGrpSpPr>
        <p:grpSpPr>
          <a:xfrm>
            <a:off x="4495320" y="2431800"/>
            <a:ext cx="4419720" cy="3810240"/>
            <a:chOff x="4495320" y="2431800"/>
            <a:chExt cx="4419720" cy="3810240"/>
          </a:xfrm>
        </p:grpSpPr>
        <p:sp>
          <p:nvSpPr>
            <p:cNvPr id="279" name=""/>
            <p:cNvSpPr/>
            <p:nvPr/>
          </p:nvSpPr>
          <p:spPr>
            <a:xfrm flipV="1">
              <a:off x="5714640" y="2431800"/>
              <a:ext cx="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714640" y="4260960"/>
              <a:ext cx="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867280" y="4108320"/>
              <a:ext cx="3047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4495320" y="410832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4495320" y="2965320"/>
              <a:ext cx="1066680" cy="914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495320" y="4260960"/>
              <a:ext cx="1066680" cy="990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43240" y="4260960"/>
              <a:ext cx="2133720" cy="19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5943240" y="2431800"/>
              <a:ext cx="1524240" cy="1447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(each square on boar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a queen the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to place the res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quee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-place the qu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algorithm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 * 63 * 62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tter 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In a work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, exactly 1 quee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appear in eac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w and 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define a "choice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valid placement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queen in 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articular colum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large i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ution space no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 * 8 * 8 *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76680" y="1676520"/>
          <a:ext cx="5315040" cy="4790520"/>
        </p:xfrm>
        <a:graphic>
          <a:graphicData uri="http://schemas.openxmlformats.org/drawingml/2006/table">
            <a:tbl>
              <a:tblPr/>
              <a:tblGrid>
                <a:gridCol w="590760"/>
                <a:gridCol w="590400"/>
                <a:gridCol w="590760"/>
                <a:gridCol w="590400"/>
                <a:gridCol w="590400"/>
                <a:gridCol w="590760"/>
                <a:gridCol w="590400"/>
                <a:gridCol w="590760"/>
                <a:gridCol w="5904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ve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people behind 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someone behind m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him/her how many people are behind him/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they respond with a value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n I will answ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nobody behind me, I will answ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0" t="0" r="0" b="32658"/>
          <a:stretch/>
        </p:blipFill>
        <p:spPr>
          <a:xfrm>
            <a:off x="4038480" y="3591000"/>
            <a:ext cx="472608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hav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with the follow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olveQuee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a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and tries to place 8 queens on it saf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r method should stop exploring if it finds a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47600" y="1971720"/>
          <a:ext cx="8890200" cy="2676600"/>
        </p:xfrm>
        <a:graphic>
          <a:graphicData uri="http://schemas.openxmlformats.org/drawingml/2006/table">
            <a:tbl>
              <a:tblPr/>
              <a:tblGrid>
                <a:gridCol w="591840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3459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/Constru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ar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siz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ruct empty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boolean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Sa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queen can b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fely placed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lac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ce queen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voi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mo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int row, int colum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move queen from 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blic String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display of bo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arches for a solution to the 8 queens problem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with this board, reporting the first result foun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solveQueens(Board boar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!explore(board, 1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No solution found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One solution is as follows: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boa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ly searches for a solution to 8 queens on thi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oard, starting with the given column, returning true if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is found and storing that solution in the boar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PRE: queens have been safely placed in columns 1 to (col-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explore(Board board, int co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l &gt; board.size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ase case: all columns are plac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cursive case: place a queen in this colum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row = 1; row &lt;= board.size(); row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board.isSafe(row, col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ard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l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plo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board, col + 1)) {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pl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tru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mov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row, col);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un-cho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o solution f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and ca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recursive algorithm involves at least 2 ca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as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simple occurrence that can be answered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cursiv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more complex occurrence of the problem that cannot be directly answered, but can instead be described in terms of smaller occurrences of the same probl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recursive algorithms have more than one base or recursive case, but all have at least one of eac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rucial part of recursive programming is identifying these ca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recursive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can we remove exactly half of the M&amp;M's in a large bowl, without dumping them all out or being able to count th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f multiple people help out with solving the problem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each person do a small part of the work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number of M&amp;M'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t is easy to double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n if you can't count?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is a "base case"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ursion in Jav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method to print a lin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haract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ints a line containing the given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Precondition: n &gt;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Stars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nd the line of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recursive version of this method (that calls itself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lve the problem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without using any loop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Your solution should print just one star at a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26:33Z</dcterms:modified>
  <cp:revision>313</cp:revision>
  <dc:subject/>
  <dc:title>CSE 142 Python Slides</dc:title>
</cp:coreProperties>
</file>