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27FC0-79BF-46B1-A6E6-6F9BDAD7CA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t of 143 students implement a kind of insertion sort on their SortedIntList add op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CF48-B372-4AF7-91EF-2206654956FC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ing and S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array of String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ors lik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 not work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we do think of strings as having an alphabetical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tural ord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governing the relative placement of all values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arison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de that, when given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 given type, decides their relative orde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lt;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== B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&gt;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Efficiency (13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asure of the use of computing resources by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relative to speed (time), memory (space), et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st commonly refers to ru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single Java statement takes the same amount of time to ru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ethod call's runtime is measured by the total of the statements inside the method'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op's runtime, if the loop repeats N times, is N times the runtime of the statements in its bod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6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286000" y="1295280"/>
            <a:ext cx="779760" cy="1143000"/>
            <a:chOff x="2286000" y="1295280"/>
            <a:chExt cx="779760" cy="1143000"/>
          </a:xfrm>
        </p:grpSpPr>
        <p:sp>
          <p:nvSpPr>
            <p:cNvPr id="129" name=""/>
            <p:cNvSpPr/>
            <p:nvPr/>
          </p:nvSpPr>
          <p:spPr>
            <a:xfrm>
              <a:off x="2286000" y="1295280"/>
              <a:ext cx="380880" cy="114300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11160" y="16336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791320" y="2743200"/>
            <a:ext cx="927000" cy="990720"/>
            <a:chOff x="5791320" y="2743200"/>
            <a:chExt cx="927000" cy="990720"/>
          </a:xfrm>
        </p:grpSpPr>
        <p:sp>
          <p:nvSpPr>
            <p:cNvPr id="132" name=""/>
            <p:cNvSpPr/>
            <p:nvPr/>
          </p:nvSpPr>
          <p:spPr>
            <a:xfrm>
              <a:off x="5791320" y="27432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306120" y="2971800"/>
              <a:ext cx="41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791320" y="4267080"/>
            <a:ext cx="1082880" cy="1752840"/>
            <a:chOff x="5791320" y="4267080"/>
            <a:chExt cx="1082880" cy="1752840"/>
          </a:xfrm>
        </p:grpSpPr>
        <p:sp>
          <p:nvSpPr>
            <p:cNvPr id="135" name=""/>
            <p:cNvSpPr/>
            <p:nvPr/>
          </p:nvSpPr>
          <p:spPr>
            <a:xfrm>
              <a:off x="5791320" y="4267080"/>
              <a:ext cx="380880" cy="175284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720 h 1752840"/>
                <a:gd name="textAreaBottom" fmla="*/ 1707120 h 175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88120" y="48769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3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7162920" y="1219320"/>
            <a:ext cx="1731600" cy="5181480"/>
            <a:chOff x="7162920" y="1219320"/>
            <a:chExt cx="1731600" cy="5181480"/>
          </a:xfrm>
        </p:grpSpPr>
        <p:sp>
          <p:nvSpPr>
            <p:cNvPr id="138" name=""/>
            <p:cNvSpPr/>
            <p:nvPr/>
          </p:nvSpPr>
          <p:spPr>
            <a:xfrm>
              <a:off x="7162920" y="1219320"/>
              <a:ext cx="609480" cy="518148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35000 h 5181480"/>
                <a:gd name="textAreaBottom" fmla="*/ 5046480 h 518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802280" y="3581280"/>
              <a:ext cx="109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 +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fficiency exampl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j = 1; j &lt;= N; j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5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atements will execute if N = 10?  If N = 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7162920" y="1219320"/>
            <a:ext cx="1884600" cy="4800600"/>
            <a:chOff x="7162920" y="1219320"/>
            <a:chExt cx="1884600" cy="4800600"/>
          </a:xfrm>
        </p:grpSpPr>
        <p:sp>
          <p:nvSpPr>
            <p:cNvPr id="143" name=""/>
            <p:cNvSpPr/>
            <p:nvPr/>
          </p:nvSpPr>
          <p:spPr>
            <a:xfrm>
              <a:off x="7162920" y="1219320"/>
              <a:ext cx="609480" cy="4800600"/>
            </a:xfrm>
            <a:custGeom>
              <a:avLst/>
              <a:gdLst>
                <a:gd name="textAreaLeft" fmla="*/ 0 w 609480"/>
                <a:gd name="textAreaRight" fmla="*/ 219960 w 609480"/>
                <a:gd name="textAreaTop" fmla="*/ 124920 h 4800600"/>
                <a:gd name="textAreaBottom" fmla="*/ 4675680 h 480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97240" y="3407400"/>
              <a:ext cx="125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+ 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6324480" y="1371600"/>
            <a:ext cx="921600" cy="990720"/>
            <a:chOff x="6324480" y="1371600"/>
            <a:chExt cx="921600" cy="990720"/>
          </a:xfrm>
        </p:grpSpPr>
        <p:sp>
          <p:nvSpPr>
            <p:cNvPr id="146" name=""/>
            <p:cNvSpPr/>
            <p:nvPr/>
          </p:nvSpPr>
          <p:spPr>
            <a:xfrm>
              <a:off x="6324480" y="1371600"/>
              <a:ext cx="380880" cy="99072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33440" y="1600200"/>
              <a:ext cx="5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324480" y="3505320"/>
            <a:ext cx="1082880" cy="1752480"/>
            <a:chOff x="6324480" y="3505320"/>
            <a:chExt cx="1082880" cy="1752480"/>
          </a:xfrm>
        </p:grpSpPr>
        <p:sp>
          <p:nvSpPr>
            <p:cNvPr id="149" name=""/>
            <p:cNvSpPr/>
            <p:nvPr/>
          </p:nvSpPr>
          <p:spPr>
            <a:xfrm>
              <a:off x="6324480" y="3505320"/>
              <a:ext cx="380880" cy="1752480"/>
            </a:xfrm>
            <a:custGeom>
              <a:avLst/>
              <a:gdLst>
                <a:gd name="textAreaLeft" fmla="*/ 0 w 380880"/>
                <a:gd name="textAreaRight" fmla="*/ 137520 w 380880"/>
                <a:gd name="textAreaTop" fmla="*/ 45360 h 1752480"/>
                <a:gd name="textAreaBottom" fmla="*/ 1707120 h 175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21280" y="411480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4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growth rates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(13.2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easure runtime in proportion to the input data size,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owth r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hange in runtime as N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y an algorithm run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.4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25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+ 8N + 1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the runtime when N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xtremely 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ignore constants like 25 because they are tiny next to 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highest-order term (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dominates the overall run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is algorithm runs "on the order of" N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short   (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ig-O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N cubed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xity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lexity 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ategory of algorithm efficiency based on the algorithm's relationship to the input size 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09480" y="2362320"/>
          <a:ext cx="8093160" cy="3406680"/>
        </p:xfrm>
        <a:graphic>
          <a:graphicData uri="http://schemas.openxmlformats.org/drawingml/2006/table">
            <a:tbl>
              <a:tblPr/>
              <a:tblGrid>
                <a:gridCol w="1710000"/>
                <a:gridCol w="1482480"/>
                <a:gridCol w="3146400"/>
                <a:gridCol w="1754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ig-O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f you double N,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chan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reases slight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5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-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 log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ightly more than dou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at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adru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min 42 se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b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by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n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ltiplies drastical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 * 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ahoma"/>
                        </a:rPr>
                        <a:t>61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 efficie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205884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 of various operations on different colle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2057400"/>
          <a:ext cx="7905600" cy="2951280"/>
        </p:xfrm>
        <a:graphic>
          <a:graphicData uri="http://schemas.openxmlformats.org/drawingml/2006/table">
            <a:tbl>
              <a:tblPr/>
              <a:tblGrid>
                <a:gridCol w="2806560"/>
                <a:gridCol w="1333800"/>
                <a:gridCol w="1873080"/>
                <a:gridCol w="887400"/>
                <a:gridCol w="100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ay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rtedInt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ue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s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?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, 13.3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cessively eliminates half of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gorithm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Examine the middle element of the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big, eliminate the righ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is too small, eliminate the left half of the array and repea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 it is the value we're searching for, so sto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indexes does the algorithm examine to find valu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untime complexity class of binary search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6320" y="5207040"/>
          <a:ext cx="8915400" cy="1041480"/>
        </p:xfrm>
        <a:graphic>
          <a:graphicData uri="http://schemas.openxmlformats.org/drawingml/2006/table">
            <a:tbl>
              <a:tblPr/>
              <a:tblGrid>
                <a:gridCol w="848880"/>
                <a:gridCol w="537480"/>
                <a:gridCol w="537840"/>
                <a:gridCol w="537480"/>
                <a:gridCol w="537840"/>
                <a:gridCol w="53892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480"/>
                <a:gridCol w="537840"/>
                <a:gridCol w="537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array of size N, it eliminate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ntil 1 element remai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, N/2, N/4, N/8, ..., 4, 2,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divisions does it tak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it from the other direc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imes do I have to multiply by 2 to reach 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4, 8, ..., N/4, N/2,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this number of multiplications "x"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= log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search is 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ogarithm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plexity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quential 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quential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n array/list by examining each element from start to finis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array is sorted.  Could we take advantage of thi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1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2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8.55887E-008 L 0.49166 -8.55887E-008 E">
                                      <p:cBhvr>
                                        <p:cTn id="6" dur="3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mplexity class is this algorithm?  Can it be improv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0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 i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(N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A slightly bet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difference between elements furthest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Diff = 0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look at each pair of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 +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j &lt; numbers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ff = Math.abs(numbers[j] – numbers[i]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diff &gt; maxDif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Diff =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diff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ange algorithm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final version is O(N).  It runs MUCH f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range of values in the given arra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xample: range({17, 29, 11, 4, 20, 8}) is 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ang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numbers[0]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max/min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ma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lt; mi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umbers[i] &gt;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x - min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first 2 ver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5638680" cy="2347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048120" y="3989520"/>
            <a:ext cx="56386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untime of 3r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sion 3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5486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r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rranging the values in an array or collection into a specific order (usually into their "natural ordering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of the fundamental problems in computer sci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solved in many way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are many sorting algorith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are faster/slower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use more/less memory than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work better with specific kinds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an utilize multiple computers / processors,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mparison-based sor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termining order b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ing pairs of element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methods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le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a static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sorts the elements of an array/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{"foo", "bar", "baz", "ball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sort(word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words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&lt;String&gt; words2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word : word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2.add(word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lections.sort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s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ball, bar, baz, foo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lection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76320" y="1407960"/>
          <a:ext cx="8966160" cy="4916520"/>
        </p:xfrm>
        <a:graphic>
          <a:graphicData uri="http://schemas.openxmlformats.org/drawingml/2006/table">
            <a:tbl>
              <a:tblPr/>
              <a:tblGrid>
                <a:gridCol w="4317840"/>
                <a:gridCol w="464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sorted list (&lt; 0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pies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From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's elements to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Lis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Map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tySe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ead-only collection of the given type that has no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in the list to have the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x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in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rgest/smallest 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plac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ld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w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an element value with 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vers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verses the order of a list's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uffl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 random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is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elements into ascending or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rt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huffle and p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wap adjacent pairs that are out of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look for the smallest element, move to fro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build an increasingly large sorted front po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divide the array in half and sort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heap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lace the values into a sorted tree structu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quick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cursively partition array based on a middl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specialized sorting algorithm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ucket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luster elements into smaller groups, sort th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adix sor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ort integers by last digit, then 2nd to last, then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ogo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titively shuffling them and checking if they are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comes from the word "bogu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n the list, seeing if it is sorted.  If so,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, shuffle the values in the list and repe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orting algorithm (obviously) has terrible performanc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its runtim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(13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inary 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ocates a target value in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orte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ray/list by successively eliminating half of the array from consid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many elements will it need to examin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Searching the array below for the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8600" y="378144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598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97" name=""/>
          <p:cNvGrpSpPr/>
          <p:nvPr/>
        </p:nvGrpSpPr>
        <p:grpSpPr>
          <a:xfrm>
            <a:off x="981000" y="4572000"/>
            <a:ext cx="619200" cy="825480"/>
            <a:chOff x="981000" y="4572000"/>
            <a:chExt cx="619200" cy="825480"/>
          </a:xfrm>
        </p:grpSpPr>
        <p:sp>
          <p:nvSpPr>
            <p:cNvPr id="98" name=""/>
            <p:cNvSpPr/>
            <p:nvPr/>
          </p:nvSpPr>
          <p:spPr>
            <a:xfrm>
              <a:off x="981000" y="5029200"/>
              <a:ext cx="619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9528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562640" y="4572000"/>
            <a:ext cx="618840" cy="825480"/>
            <a:chOff x="4562640" y="4572000"/>
            <a:chExt cx="618840" cy="825480"/>
          </a:xfrm>
        </p:grpSpPr>
        <p:sp>
          <p:nvSpPr>
            <p:cNvPr id="101" name=""/>
            <p:cNvSpPr/>
            <p:nvPr/>
          </p:nvSpPr>
          <p:spPr>
            <a:xfrm>
              <a:off x="4562640" y="5029200"/>
              <a:ext cx="618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87656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305920" y="4572000"/>
            <a:ext cx="618840" cy="1099800"/>
            <a:chOff x="8305920" y="4572000"/>
            <a:chExt cx="618840" cy="1099800"/>
          </a:xfrm>
        </p:grpSpPr>
        <p:sp>
          <p:nvSpPr>
            <p:cNvPr id="104" name=""/>
            <p:cNvSpPr/>
            <p:nvPr/>
          </p:nvSpPr>
          <p:spPr>
            <a:xfrm>
              <a:off x="8305920" y="5029200"/>
              <a:ext cx="61884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8619840" y="45720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8.55887E-008 L 0.20052 -8.55887E-008 E">
                                      <p:cBhvr>
                                        <p:cTn id="2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8.55887E-008 L 0.44218 -8.55887E-008 E">
                                      <p:cBhvr>
                                        <p:cTn id="30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052 -8.55887E-008 L 0.10052 -8.55887E-008 E">
                                      <p:cBhvr>
                                        <p:cTn id="34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8.55887E-008 L -0.25886 -8.55887E-008 E">
                                      <p:cBhvr>
                                        <p:cTn id="3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laces the elements of a into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bogo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!isSorted(a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uffle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a's elements are in sorted ord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Sorted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go sort code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huffles an array of ints by randomly swapping e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ement with an element ahead of it in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huffle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ick a random index in [i+1, a.length-1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range = a.length - 1 - (i + 1)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j = (int) (Math.random() * range + (i + 1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j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s a[i] with a[j]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 !=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rders a list of values by repeatedly putting the smallest or largest unplaced value into its final posi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ok through the list to find the second-smalles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wap it so that it is at index 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until all values are in their proper pla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1st, 2nd, and 3rd pas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28600" y="180036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228600" y="347652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228600" y="44672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28600" y="548640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selection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election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ind index of smallest remaining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j = i + 1; j &lt; a.length; j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j] &lt; a[min]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j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wap smallest value its proper place, a[i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wap(a, i, m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lection sort runtim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Fig. 13.6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selection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3520" y="2109960"/>
            <a:ext cx="807696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imilar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bbl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ke repeated passes, swapping adjacent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lower than selection sort (has to do more sw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ertion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hift each element into a sorted sub-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ster than selection sort (examines fewer valu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28600" y="8380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228600" y="266688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99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996840" y="3508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47920" y="376236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35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68296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376236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045280" y="35226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96360" y="37623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228600" y="5153040"/>
          <a:ext cx="875196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  <a:gridCol w="507960"/>
                <a:gridCol w="460440"/>
                <a:gridCol w="460440"/>
                <a:gridCol w="460080"/>
                <a:gridCol w="508320"/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218" name=""/>
          <p:cNvSpPr/>
          <p:nvPr/>
        </p:nvSpPr>
        <p:spPr>
          <a:xfrm>
            <a:off x="4825440" y="6384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752120" y="66135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55520" y="5943600"/>
            <a:ext cx="37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rted sub-array (indexes 0-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rge so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divides the data in half, sorts each half, and combines the sorted halves into a sorted wh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the list into two roughly equal halv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lef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rt the right ha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rge the two sorted halves into one sorted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implemented recursive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xample of a "divide and conquer" algorith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vented by John von Neumann in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362320" y="1295280"/>
          <a:ext cx="442584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080"/>
                <a:gridCol w="460440"/>
                <a:gridCol w="460440"/>
                <a:gridCol w="414360"/>
                <a:gridCol w="460440"/>
                <a:gridCol w="46656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5" name=""/>
          <p:cNvGraphicFramePr/>
          <p:nvPr/>
        </p:nvGraphicFramePr>
        <p:xfrm>
          <a:off x="1820880" y="2562120"/>
          <a:ext cx="17953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14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128736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12536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890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28412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30" name=""/>
          <p:cNvGrpSpPr/>
          <p:nvPr/>
        </p:nvGrpSpPr>
        <p:grpSpPr>
          <a:xfrm>
            <a:off x="426960" y="4343400"/>
            <a:ext cx="1695240" cy="368280"/>
            <a:chOff x="426960" y="4343400"/>
            <a:chExt cx="1695240" cy="368280"/>
          </a:xfrm>
        </p:grpSpPr>
        <p:grpSp>
          <p:nvGrpSpPr>
            <p:cNvPr id="231" name=""/>
            <p:cNvGrpSpPr/>
            <p:nvPr/>
          </p:nvGrpSpPr>
          <p:grpSpPr>
            <a:xfrm>
              <a:off x="1360440" y="4343400"/>
              <a:ext cx="761760" cy="228600"/>
              <a:chOff x="1360440" y="4343400"/>
              <a:chExt cx="761760" cy="22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13604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81764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42696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71400" y="3505320"/>
            <a:ext cx="1374480" cy="380880"/>
            <a:chOff x="671400" y="3505320"/>
            <a:chExt cx="1374480" cy="380880"/>
          </a:xfrm>
        </p:grpSpPr>
        <p:grpSp>
          <p:nvGrpSpPr>
            <p:cNvPr id="236" name=""/>
            <p:cNvGrpSpPr/>
            <p:nvPr/>
          </p:nvGrpSpPr>
          <p:grpSpPr>
            <a:xfrm>
              <a:off x="1436760" y="3733920"/>
              <a:ext cx="609120" cy="152280"/>
              <a:chOff x="1436760" y="3733920"/>
              <a:chExt cx="609120" cy="1522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43676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413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67140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0" name=""/>
          <p:cNvGraphicFramePr/>
          <p:nvPr/>
        </p:nvGraphicFramePr>
        <p:xfrm>
          <a:off x="325764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3095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386064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325440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44" name=""/>
          <p:cNvGrpSpPr/>
          <p:nvPr/>
        </p:nvGrpSpPr>
        <p:grpSpPr>
          <a:xfrm>
            <a:off x="2396880" y="4343400"/>
            <a:ext cx="1695240" cy="368280"/>
            <a:chOff x="2396880" y="4343400"/>
            <a:chExt cx="1695240" cy="368280"/>
          </a:xfrm>
        </p:grpSpPr>
        <p:grpSp>
          <p:nvGrpSpPr>
            <p:cNvPr id="245" name=""/>
            <p:cNvGrpSpPr/>
            <p:nvPr/>
          </p:nvGrpSpPr>
          <p:grpSpPr>
            <a:xfrm>
              <a:off x="3330720" y="4343400"/>
              <a:ext cx="761400" cy="228600"/>
              <a:chOff x="3330720" y="4343400"/>
              <a:chExt cx="761400" cy="228600"/>
            </a:xfrm>
          </p:grpSpPr>
          <p:sp>
            <p:nvSpPr>
              <p:cNvPr id="246" name=""/>
              <p:cNvSpPr/>
              <p:nvPr/>
            </p:nvSpPr>
            <p:spPr>
              <a:xfrm>
                <a:off x="3330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378756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239688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2641680" y="3505320"/>
            <a:ext cx="1374480" cy="380880"/>
            <a:chOff x="2641680" y="3505320"/>
            <a:chExt cx="1374480" cy="380880"/>
          </a:xfrm>
        </p:grpSpPr>
        <p:grpSp>
          <p:nvGrpSpPr>
            <p:cNvPr id="250" name=""/>
            <p:cNvGrpSpPr/>
            <p:nvPr/>
          </p:nvGrpSpPr>
          <p:grpSpPr>
            <a:xfrm>
              <a:off x="3406680" y="3733920"/>
              <a:ext cx="609480" cy="152280"/>
              <a:chOff x="3406680" y="3733920"/>
              <a:chExt cx="609480" cy="152280"/>
            </a:xfrm>
          </p:grpSpPr>
          <p:sp>
            <p:nvSpPr>
              <p:cNvPr id="251" name=""/>
              <p:cNvSpPr/>
              <p:nvPr/>
            </p:nvSpPr>
            <p:spPr>
              <a:xfrm flipH="1">
                <a:off x="340668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71124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64168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204920" y="2819520"/>
            <a:ext cx="2441520" cy="380880"/>
            <a:chOff x="1204920" y="2819520"/>
            <a:chExt cx="2441520" cy="380880"/>
          </a:xfrm>
        </p:grpSpPr>
        <p:sp>
          <p:nvSpPr>
            <p:cNvPr id="255" name=""/>
            <p:cNvSpPr/>
            <p:nvPr/>
          </p:nvSpPr>
          <p:spPr>
            <a:xfrm>
              <a:off x="120492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1817640" y="2971800"/>
              <a:ext cx="1828800" cy="228600"/>
              <a:chOff x="1817640" y="2971800"/>
              <a:chExt cx="1828800" cy="228600"/>
            </a:xfrm>
          </p:grpSpPr>
          <p:sp>
            <p:nvSpPr>
              <p:cNvPr id="257" name=""/>
              <p:cNvSpPr/>
              <p:nvPr/>
            </p:nvSpPr>
            <p:spPr>
              <a:xfrm flipH="1">
                <a:off x="18176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73204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59" name=""/>
          <p:cNvGraphicFramePr/>
          <p:nvPr/>
        </p:nvGraphicFramePr>
        <p:xfrm>
          <a:off x="181764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087960" y="2562120"/>
          <a:ext cx="18417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55480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5392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615780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4" name=""/>
          <p:cNvGraphicFramePr/>
          <p:nvPr/>
        </p:nvGraphicFramePr>
        <p:xfrm>
          <a:off x="555156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65" name=""/>
          <p:cNvGrpSpPr/>
          <p:nvPr/>
        </p:nvGrpSpPr>
        <p:grpSpPr>
          <a:xfrm>
            <a:off x="4694040" y="4343400"/>
            <a:ext cx="1695240" cy="368280"/>
            <a:chOff x="4694040" y="4343400"/>
            <a:chExt cx="1695240" cy="368280"/>
          </a:xfrm>
        </p:grpSpPr>
        <p:grpSp>
          <p:nvGrpSpPr>
            <p:cNvPr id="266" name=""/>
            <p:cNvGrpSpPr/>
            <p:nvPr/>
          </p:nvGrpSpPr>
          <p:grpSpPr>
            <a:xfrm>
              <a:off x="5627520" y="4343400"/>
              <a:ext cx="761760" cy="228600"/>
              <a:chOff x="5627520" y="4343400"/>
              <a:chExt cx="761760" cy="228600"/>
            </a:xfrm>
          </p:grpSpPr>
          <p:sp>
            <p:nvSpPr>
              <p:cNvPr id="267" name=""/>
              <p:cNvSpPr/>
              <p:nvPr/>
            </p:nvSpPr>
            <p:spPr>
              <a:xfrm>
                <a:off x="56275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6084720" y="4343400"/>
                <a:ext cx="3045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>
              <a:off x="469404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938840" y="3505320"/>
            <a:ext cx="1374120" cy="380880"/>
            <a:chOff x="4938840" y="3505320"/>
            <a:chExt cx="1374120" cy="380880"/>
          </a:xfrm>
        </p:grpSpPr>
        <p:grpSp>
          <p:nvGrpSpPr>
            <p:cNvPr id="271" name=""/>
            <p:cNvGrpSpPr/>
            <p:nvPr/>
          </p:nvGrpSpPr>
          <p:grpSpPr>
            <a:xfrm>
              <a:off x="5703840" y="3733920"/>
              <a:ext cx="609120" cy="152280"/>
              <a:chOff x="5703840" y="3733920"/>
              <a:chExt cx="609120" cy="152280"/>
            </a:xfrm>
          </p:grpSpPr>
          <p:sp>
            <p:nvSpPr>
              <p:cNvPr id="272" name=""/>
              <p:cNvSpPr/>
              <p:nvPr/>
            </p:nvSpPr>
            <p:spPr>
              <a:xfrm flipH="1">
                <a:off x="570384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00840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493884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7524720" y="32767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736272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128080" y="3948120"/>
          <a:ext cx="460440" cy="395280"/>
        </p:xfrm>
        <a:graphic>
          <a:graphicData uri="http://schemas.openxmlformats.org/drawingml/2006/table">
            <a:tbl>
              <a:tblPr/>
              <a:tblGrid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7521480" y="4633920"/>
          <a:ext cx="92052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79" name=""/>
          <p:cNvGrpSpPr/>
          <p:nvPr/>
        </p:nvGrpSpPr>
        <p:grpSpPr>
          <a:xfrm>
            <a:off x="6664320" y="4343400"/>
            <a:ext cx="1695240" cy="368280"/>
            <a:chOff x="6664320" y="4343400"/>
            <a:chExt cx="1695240" cy="368280"/>
          </a:xfrm>
        </p:grpSpPr>
        <p:grpSp>
          <p:nvGrpSpPr>
            <p:cNvPr id="280" name=""/>
            <p:cNvGrpSpPr/>
            <p:nvPr/>
          </p:nvGrpSpPr>
          <p:grpSpPr>
            <a:xfrm>
              <a:off x="7597800" y="4343400"/>
              <a:ext cx="761760" cy="228600"/>
              <a:chOff x="7597800" y="4343400"/>
              <a:chExt cx="761760" cy="228600"/>
            </a:xfrm>
          </p:grpSpPr>
          <p:sp>
            <p:nvSpPr>
              <p:cNvPr id="281" name=""/>
              <p:cNvSpPr/>
              <p:nvPr/>
            </p:nvSpPr>
            <p:spPr>
              <a:xfrm>
                <a:off x="759780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8054640" y="4343400"/>
                <a:ext cx="304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6664320" y="43434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6908760" y="3505320"/>
            <a:ext cx="1374840" cy="380880"/>
            <a:chOff x="6908760" y="3505320"/>
            <a:chExt cx="1374840" cy="380880"/>
          </a:xfrm>
        </p:grpSpPr>
        <p:grpSp>
          <p:nvGrpSpPr>
            <p:cNvPr id="285" name=""/>
            <p:cNvGrpSpPr/>
            <p:nvPr/>
          </p:nvGrpSpPr>
          <p:grpSpPr>
            <a:xfrm>
              <a:off x="7674120" y="3733920"/>
              <a:ext cx="609480" cy="152280"/>
              <a:chOff x="7674120" y="3733920"/>
              <a:chExt cx="609480" cy="152280"/>
            </a:xfrm>
          </p:grpSpPr>
          <p:sp>
            <p:nvSpPr>
              <p:cNvPr id="286" name=""/>
              <p:cNvSpPr/>
              <p:nvPr/>
            </p:nvSpPr>
            <p:spPr>
              <a:xfrm flipH="1">
                <a:off x="7674120" y="3733920"/>
                <a:ext cx="3045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78680" y="3733920"/>
                <a:ext cx="3049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908760" y="35053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5472000" y="2819520"/>
            <a:ext cx="2441520" cy="380880"/>
            <a:chOff x="5472000" y="2819520"/>
            <a:chExt cx="2441520" cy="380880"/>
          </a:xfrm>
        </p:grpSpPr>
        <p:sp>
          <p:nvSpPr>
            <p:cNvPr id="290" name=""/>
            <p:cNvSpPr/>
            <p:nvPr/>
          </p:nvSpPr>
          <p:spPr>
            <a:xfrm>
              <a:off x="5472000" y="281952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6084720" y="2971800"/>
              <a:ext cx="1828800" cy="228600"/>
              <a:chOff x="6084720" y="2971800"/>
              <a:chExt cx="1828800" cy="228600"/>
            </a:xfrm>
          </p:grpSpPr>
          <p:sp>
            <p:nvSpPr>
              <p:cNvPr id="292" name=""/>
              <p:cNvSpPr/>
              <p:nvPr/>
            </p:nvSpPr>
            <p:spPr>
              <a:xfrm flipH="1">
                <a:off x="60847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99120" y="2971800"/>
                <a:ext cx="914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94" name=""/>
          <p:cNvGraphicFramePr/>
          <p:nvPr/>
        </p:nvGraphicFramePr>
        <p:xfrm>
          <a:off x="6084720" y="5319720"/>
          <a:ext cx="1841400" cy="395280"/>
        </p:xfrm>
        <a:graphic>
          <a:graphicData uri="http://schemas.openxmlformats.org/drawingml/2006/table">
            <a:tbl>
              <a:tblPr/>
              <a:tblGrid>
                <a:gridCol w="460080"/>
                <a:gridCol w="46044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3139920" y="6157800"/>
          <a:ext cx="3683160" cy="395280"/>
        </p:xfrm>
        <a:graphic>
          <a:graphicData uri="http://schemas.openxmlformats.org/drawingml/2006/table">
            <a:tbl>
              <a:tblPr/>
              <a:tblGrid>
                <a:gridCol w="46044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2895480" y="2057400"/>
            <a:ext cx="3810240" cy="457200"/>
            <a:chOff x="2895480" y="2057400"/>
            <a:chExt cx="3810240" cy="457200"/>
          </a:xfrm>
        </p:grpSpPr>
        <p:sp>
          <p:nvSpPr>
            <p:cNvPr id="297" name=""/>
            <p:cNvSpPr/>
            <p:nvPr/>
          </p:nvSpPr>
          <p:spPr>
            <a:xfrm>
              <a:off x="3044880" y="2057400"/>
              <a:ext cx="63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pl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" name=""/>
            <p:cNvGrpSpPr/>
            <p:nvPr/>
          </p:nvGrpSpPr>
          <p:grpSpPr>
            <a:xfrm>
              <a:off x="2895480" y="2133720"/>
              <a:ext cx="3810240" cy="380880"/>
              <a:chOff x="2895480" y="2133720"/>
              <a:chExt cx="3810240" cy="380880"/>
            </a:xfrm>
          </p:grpSpPr>
          <p:sp>
            <p:nvSpPr>
              <p:cNvPr id="299" name=""/>
              <p:cNvSpPr/>
              <p:nvPr/>
            </p:nvSpPr>
            <p:spPr>
              <a:xfrm flipH="1">
                <a:off x="2895480" y="2133720"/>
                <a:ext cx="182880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724280" y="2133720"/>
                <a:ext cx="198144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" name=""/>
          <p:cNvGrpSpPr/>
          <p:nvPr/>
        </p:nvGrpSpPr>
        <p:grpSpPr>
          <a:xfrm>
            <a:off x="971640" y="5029200"/>
            <a:ext cx="2749680" cy="382680"/>
            <a:chOff x="971640" y="5029200"/>
            <a:chExt cx="2749680" cy="382680"/>
          </a:xfrm>
        </p:grpSpPr>
        <p:grpSp>
          <p:nvGrpSpPr>
            <p:cNvPr id="302" name=""/>
            <p:cNvGrpSpPr/>
            <p:nvPr/>
          </p:nvGrpSpPr>
          <p:grpSpPr>
            <a:xfrm>
              <a:off x="1741320" y="5029200"/>
              <a:ext cx="1980000" cy="228600"/>
              <a:chOff x="1741320" y="5029200"/>
              <a:chExt cx="1980000" cy="228600"/>
            </a:xfrm>
          </p:grpSpPr>
          <p:sp>
            <p:nvSpPr>
              <p:cNvPr id="303" name=""/>
              <p:cNvSpPr/>
              <p:nvPr/>
            </p:nvSpPr>
            <p:spPr>
              <a:xfrm>
                <a:off x="174132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92968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97164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238720" y="5029200"/>
            <a:ext cx="2749680" cy="382680"/>
            <a:chOff x="5238720" y="5029200"/>
            <a:chExt cx="2749680" cy="382680"/>
          </a:xfrm>
        </p:grpSpPr>
        <p:grpSp>
          <p:nvGrpSpPr>
            <p:cNvPr id="307" name=""/>
            <p:cNvGrpSpPr/>
            <p:nvPr/>
          </p:nvGrpSpPr>
          <p:grpSpPr>
            <a:xfrm>
              <a:off x="6008760" y="5029200"/>
              <a:ext cx="1979640" cy="228600"/>
              <a:chOff x="6008760" y="5029200"/>
              <a:chExt cx="1979640" cy="228600"/>
            </a:xfrm>
          </p:grpSpPr>
          <p:sp>
            <p:nvSpPr>
              <p:cNvPr id="308" name=""/>
              <p:cNvSpPr/>
              <p:nvPr/>
            </p:nvSpPr>
            <p:spPr>
              <a:xfrm>
                <a:off x="6008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196760" y="5029200"/>
                <a:ext cx="79164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5238720" y="504360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571840" y="5715000"/>
            <a:ext cx="4436280" cy="444600"/>
            <a:chOff x="2571840" y="5715000"/>
            <a:chExt cx="4436280" cy="444600"/>
          </a:xfrm>
        </p:grpSpPr>
        <p:grpSp>
          <p:nvGrpSpPr>
            <p:cNvPr id="312" name=""/>
            <p:cNvGrpSpPr/>
            <p:nvPr/>
          </p:nvGrpSpPr>
          <p:grpSpPr>
            <a:xfrm>
              <a:off x="2743200" y="5715000"/>
              <a:ext cx="4264920" cy="380520"/>
              <a:chOff x="2743200" y="5715000"/>
              <a:chExt cx="4264920" cy="380520"/>
            </a:xfrm>
          </p:grpSpPr>
          <p:sp>
            <p:nvSpPr>
              <p:cNvPr id="313" name=""/>
              <p:cNvSpPr/>
              <p:nvPr/>
            </p:nvSpPr>
            <p:spPr>
              <a:xfrm>
                <a:off x="27432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5302800" y="5715000"/>
                <a:ext cx="1705320" cy="38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2571840" y="57913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e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ing sorted halv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00280" y="1089000"/>
            <a:ext cx="750564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many useful array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1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0080" indent="-190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320" y="1905120"/>
          <a:ext cx="8991360" cy="404964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index of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between indexe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in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/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 1 (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resized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halves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s the left/right elements into a sorted resul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left/right are sor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(int[] result, int[] left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1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lef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2 = 0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ndex into right arr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result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i2 &gt;= right.length |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1 &lt; left.length &amp;&amp; left[i1] &lt;= right[i2]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left[i1]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lef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1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right[i2]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ke from rig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2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cod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arranges the elements of a into sorted order u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he merge sort algorithm (recursiv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ergeSort(int[]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.length &gt;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plit array into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left 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0, a.length/2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int[] right =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Arrays.copyOfRange(a, a.length/2, a.length)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the two hal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lef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mergeSort(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erge the sorted halves into a sorted wh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rge(a, left, righ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rge sort run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complexity class (Big-Oh) of merge sor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600200" y="1908000"/>
            <a:ext cx="600552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an entire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given portion of a sorted array for a given val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mines minIndex (inclusive) through maxIndex (exclusi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its index if found;  a negative number if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array is sor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s.binarySearch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Inde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earches an array very efficiently if the array is sor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search the entire array, or just a range of index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seful for "unfilled" arrays such as the one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t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array is not sorted, you may need to sort it fir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inarySearc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    0  1  2  3   4   5   6   7   8   9  10  11  12  13  14  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a = {-4, 2, 7, 9, 15, 19, 25, 28, 30, 36, 42, 50, 56, 68, 85, 9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 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2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1 is 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index2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a, 0, 16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index2 is -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 the index where the value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he valu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und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tur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-(insertionPoint +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ndex where the elemen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oul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ve been, if it had been in the array in sorted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the value into the array, nega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sertion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indexToInsert21 = -(index2 + 1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inary search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he index of an occurrence of target in a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or a negative number if the target is not foun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n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ax = a.length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min &lt;= ma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[mid] &l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 = mid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x = mid -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-(min + 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binary search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3.3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inarySearc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target value is not found, return its negative insertion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  = binarySearch(data, 42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ndex2 = binarySearch(data, 66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-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28600" y="3352680"/>
          <a:ext cx="87012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460440"/>
                <a:gridCol w="41436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080"/>
                <a:gridCol w="460440"/>
                <a:gridCol w="460440"/>
                <a:gridCol w="460440"/>
                <a:gridCol w="460440"/>
                <a:gridCol w="460440"/>
                <a:gridCol w="5983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the index of an occurrence of the given value 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he given array, or a negative number if no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condition: elements of a are in sorted or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binarySearch(int[] a, int targe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inarySearch(a,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 0, a.length - 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helper to implement search behavi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int binarySearch(int[] a, int target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nt min, int ma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min &gt;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not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mid = (min + max)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[mid] &lt; target) {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small; go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d + 1, max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a[mid] &gt; target) {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too large; go lef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inarySearch(a, target, min, mid - 1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id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arget found; a[mid] == tar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1:40Z</dcterms:modified>
  <cp:revision>97</cp:revision>
  <dc:subject/>
  <dc:title>CSE 142 Python Slides</dc:title>
</cp:coreProperties>
</file>