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31.png" ContentType="image/png"/>
  <Override PartName="/ppt/media/image68.png" ContentType="image/png"/>
  <Override PartName="/ppt/media/image21.png" ContentType="image/png"/>
  <Override PartName="/ppt/media/image58.png" ContentType="image/png"/>
  <Override PartName="/ppt/media/image57.png" ContentType="image/png"/>
  <Override PartName="/ppt/media/image22.png" ContentType="image/png"/>
  <Override PartName="/ppt/media/image23.png" ContentType="image/png"/>
  <Override PartName="/ppt/media/image16.jpeg" ContentType="image/jpe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74.jpeg" ContentType="image/jpeg"/>
  <Override PartName="/ppt/media/image72.png" ContentType="image/png"/>
  <Override PartName="/ppt/media/image70.png" ContentType="image/png"/>
  <Override PartName="/ppt/media/image28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24.png" ContentType="image/png"/>
  <Override PartName="/ppt/media/image73.jpeg" ContentType="image/jpeg"/>
  <Override PartName="/ppt/media/image65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0.jpeg" ContentType="image/jpe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3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C44-E645-4271-BF2B-F334009924B0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User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SimpleFrame2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Foreground(Color.WHIT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ocation(new Point(10, 5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8195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ages, continu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to load an im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olkit tk = Toolkit.getDefaultToolki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 img = tk.getImage("myimage.jpg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diaTracker mt = new MediaTracker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addImage(img, 0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ny ID will 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t.waitForAl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catch (InterruptedException ie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tediou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ggest making a helper method to load and return one im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mage loadImage(String filenam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imation with Tim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imers—Why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51920" y="1584000"/>
            <a:ext cx="899172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an action multiple ti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animations in our GUI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delays and pauses when required / des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Timer is an example of a "callback" -- your code starts the timer, then later at a specified time, the timer activates, causing an event in you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38880" y="1295280"/>
            <a:ext cx="17258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avax.swing.Tim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Timer(int ms_delay, ActionListener al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use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fire an actionPerformed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s_del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illisecond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timer to begin ticking; the first tick happens after the initial delay, and the rest occur separated by the timer's delay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top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ps timer from tick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start(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rts timer, causing it to wait its initial delay and then begin firing at its delay r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)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additional listeners to be fired as the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Running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rue when timer is ticking (has been started)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es the delay between timer tick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nitialDelay(int dela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a one-time delay to occur before ticking starts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epeats(boolean b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to false to make timer fire only onc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is code could be used to move a shape to the righ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cross the scre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ELAY = 10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updater = new ActionListen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Panel.repa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er tim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im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DELAY, upda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m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im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have the following properties that you can get/s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320" y="1865160"/>
          <a:ext cx="8991360" cy="415440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close 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at should happen when frame is clo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DefaultCloseOperation, setDefaultCloseOp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m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con in the window's title b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IconImage, setIcon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ayoutMa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the frame should position its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ayout, setLay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window can be res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Resizable, setResiz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's title bar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Title, set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 propert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320" y="1295280"/>
          <a:ext cx="8991360" cy="5022720"/>
        </p:xfrm>
        <a:graphic>
          <a:graphicData uri="http://schemas.openxmlformats.org/drawingml/2006/table">
            <a:tbl>
              <a:tblPr/>
              <a:tblGrid>
                <a:gridCol w="1523880"/>
                <a:gridCol w="1773360"/>
                <a:gridCol w="2689200"/>
                <a:gridCol w="300492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ck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Background, setBack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interacted w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Enabled, setEnabl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o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nt used to display any text on the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nt, setFo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eground co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Foreground, setForegr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oi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 position of component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Location, set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of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Size, set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ferred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men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, height that the component wants to 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PreferredSize, setPreferred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e component can be seen on scre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Visible, setVis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ing compon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al components in Java form an inheritance hierarch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.awt.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Contain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javax.swing.JCompon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Butt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Lab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JMenuB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Pan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Are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     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TextFiel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Wind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.awt.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+--javax.swing.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Fr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doing GUI programming, always import these packag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GUI: AWT and S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's initial idea: create a set of classes/methods that can be used to write a multi-platform GUI (Abstract Windowing Toolkit,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W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not powerful enough; limited; a bit clunky to 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edition (JDK v1.2)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newer library written from the ground up that allows much more powerful graphics and GUI constru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back: Both exist in Java now; easy to get them mixed up; still have to use both sometime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frame is a graphical window that can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e used to hold other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JFrame(String title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reates a frame with an optional tit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Title(String text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ts the given text in the frame’s title ba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etDefaultCloseOperation(int o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kes the frame perform the given action when it closes.  Common value: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Frame.EXIT_ON_CLO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ces the given component or container inside the fr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37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Tahoma"/>
              </a:rPr>
              <a:t>How would we add more than one component to the frame?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OTE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Call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to make a frame appear on screen after creating i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Fra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22100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Butto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ab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most common component—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button is a clickable onscreen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gion that the user interacts wit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o perform a single com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text label is simply a string of tex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isplayed on screen in a graphical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ogram.  Labels often give infor-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ation or describe other 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Button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abel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button / label with the given string as its tex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showing on the button / labe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button / label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001000" y="2209680"/>
            <a:ext cx="99072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rcRect l="0" t="17887" r="27418" b="0"/>
          <a:stretch/>
        </p:blipFill>
        <p:spPr>
          <a:xfrm>
            <a:off x="5029200" y="1066680"/>
            <a:ext cx="411480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Field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extAr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1080" y="1295280"/>
            <a:ext cx="86504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field is like a label, except that the tex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n it can be edited and modified by the user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ext fields are commonly used for user input,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here the user types information in the field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d the program reads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text area is a multi-line text fie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Field(int colum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TextArea(int lines, int colum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s a new text field the given number of columns (letters) wid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getTex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the text currently in the fie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ext(String text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s field's text to be the given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42177"/>
          <a:stretch/>
        </p:blipFill>
        <p:spPr>
          <a:xfrm>
            <a:off x="6553080" y="1295280"/>
            <a:ext cx="2286000" cy="106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324480" y="4560840"/>
            <a:ext cx="25146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n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gram attempts to show 2 butt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omponentsExample1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300, 1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A frame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1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Text("I'm a butto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1.setBackground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Button button2 = new JButto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Text("Click me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tton2.setBackground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button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5880" y="1295280"/>
            <a:ext cx="28576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eceding program added two buttons to the frame, but only one appeared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you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contained inside frames and other graphical containers that decides the position and size of the components inside the contai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efault layout manager sizes each component added to occupy the full window sp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438960" y="1841400"/>
            <a:ext cx="2476440" cy="8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Graphical input and output with JOptionPan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orrect the program's appearance by changing the fram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yout manage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layout by call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on the frame and passing a layout manager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see several layout managers la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'll use one call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hich sizes each component to its preferred size and positions them in left-to-right row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following line is added to the preceding program just before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Visible(true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ts appearance will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086280" y="5829480"/>
            <a:ext cx="2857320" cy="95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 events wit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ctionListe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ent-driven programm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's execution is indetermin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screen components 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occur when they are clicked / interacted 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can be handled, causing the program to respond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iv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execution thru events (an "event-driven" progra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Event Hierarch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ava.lang.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util.EventOb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AW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tion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Tex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Componen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Focus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Window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Input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Key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java.awt.event.Mouse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awt.event.*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tion events: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ctionEv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common / simple event type in Sw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resent an action occurring on a GUI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d b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ton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eck box checking / unchec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nu clic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ssing Enter in a text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ening for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ach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istener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he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ener’s appropriate method will be called when event occurs (e.g. when the button is click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ction events,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7848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it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art of Java; you don't write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ActionListener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message when the button is click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ActionListener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ActionListen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actionPerformed(ActionEvent event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OptionPane.showMessageDialog(nul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An event occurred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ttaching an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Action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"butto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ctionListener listener = new MyActionListen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listen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ll pr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Event occurred!"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li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A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exists in many Swing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ying out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position, re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How does the programmer specify where each component sits in the window, how big each component should be, and what the component should do if the window is resized/moved/maximized/etc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olute position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++, C#, others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y exact pixel coordinates for every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Layout manag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Java)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special objects that decide where to position each component based on some crite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are benefits or drawbacks to each approach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1920" y="1365120"/>
            <a:ext cx="8991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option pane is a simple dialog box for graphical input/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lexible (in some way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s better than the black box of dea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with static methods;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object-orien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very powerful (just simple dialog box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3657600" cy="15447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7467480" cy="4668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279440" y="5792760"/>
            <a:ext cx="4359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are several common Java layout manag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yout manag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03320"/>
            <a:ext cx="81993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tain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that holds components; it also governs their positions, sizes, and resizing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ainers have the following public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(Component comp, Object info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ds a component to the container, possibly giving extra information about where to place i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moves the given component from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ayout(LayoutManager mgr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the given layout manager to position the components in the contain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validat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should call this if you change the contents of a container that is already on the screen, to make it re-do its layou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nel is our container of choice; it provides the methods from the previous slide and defines these additional methods (among oth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with a default flow layo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Panel(LayoutManager mgr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panel that uses the given layout manag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eferred siz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wing component objects each have a certain size they would "like" to be--just large enough to fit their contents (text, icon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called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referred 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types of layout manag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low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hoose to size the components inside them to the preferred size; others (e.g.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idLay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sregard the preferred size and use some other sche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uttons at preferred size: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t preferred siz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0" t="0" r="33784" b="21644"/>
          <a:stretch/>
        </p:blipFill>
        <p:spPr>
          <a:xfrm>
            <a:off x="4952880" y="4952880"/>
            <a:ext cx="3353040" cy="1300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0" t="0" r="69400" b="0"/>
          <a:stretch/>
        </p:blipFill>
        <p:spPr>
          <a:xfrm>
            <a:off x="762120" y="4957920"/>
            <a:ext cx="236196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low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2600" y="4987800"/>
            <a:ext cx="8480520" cy="10321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FlowLayout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eats container as a left-to-right, top-to-bottom "page" or "paragraph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 are given their preferred size both horizontally and vertic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positioned in order ad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oo long, components wrap around to next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tainer panel = new JPanel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nel.add(new JButton("Button 1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ow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low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20, 7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Flow layou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FlowLayout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Label("Type your ZIP Code: 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TextField(5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Button("Submi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362320" y="5838840"/>
            <a:ext cx="3047760" cy="714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943600" y="5438880"/>
            <a:ext cx="1724040" cy="126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id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600200" y="4662360"/>
            <a:ext cx="5943600" cy="1662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GridLayout(int rows, int column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ats container as a grid of equally-sized rows and colum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are given equal horizontal / vertical size, disregarding preferred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pecify 0 rows or columns to indicate expansion in that direction a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id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GridLayout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Size(new Dimension(300, 120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Title("The gri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 rows, 3 colum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Layout(new GridLayout(2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6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 button = new JButto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.setText("Button " + 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butto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791320" y="5562720"/>
            <a:ext cx="28573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rder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BorderLayout(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vides container into five regions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OU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horizontally, and use preferred size vertic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A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gions expand to fill region vertically, and use preferred size horizontal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EN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ses all space not occupied by oth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tainer panel = new JPanel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add(new JButton("Button 1 (NORTH)"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7400" y="5105520"/>
            <a:ext cx="495288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rder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rderLayo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Size(new Dimension(210, 200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Title("Run for the border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north"), BorderLayout.NOR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south"), BorderLayout.SOU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west"), BorderLayout.WE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east"), BorderLayout.EAS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add(new JButton("center")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rderLayout.CEN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553080" y="5029200"/>
            <a:ext cx="1752840" cy="16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477120" y="1309680"/>
            <a:ext cx="2517480" cy="976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019920" y="3019320"/>
            <a:ext cx="2971800" cy="943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00840" y="5122800"/>
            <a:ext cx="2990880" cy="127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s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on a dialo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th an OK butt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Confirm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list o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oices Yes, No, Cancel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user's choice as a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on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 the following valu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NO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CANCEL_O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parent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&lt;message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plays a message and tex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eld for input; returns the user'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 entered as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pas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for the parent to all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x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24080" y="4311720"/>
            <a:ext cx="2438640" cy="193680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Horizont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x.createVertical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s components in container in a single row or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 use preferred sizes and align based on their preferred al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ferred way to construct a container with box layout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HorizontalBox()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.createVerticalBox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821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rd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s of "cards" stack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op of each other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visibl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idBagLayou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complicate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mmendation: avo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181480" y="1546200"/>
            <a:ext cx="3649680" cy="1181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532480" y="4213080"/>
            <a:ext cx="30020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 layou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00200" y="2295360"/>
            <a:ext cx="5715000" cy="44103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create a complex window like this, using the layout managers show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819520" y="4419720"/>
            <a:ext cx="3665520" cy="19098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anels within pa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nel has a different layout, and by combining the layouts, more complex / powerful layout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panel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layout in ea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: composite layo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osite layou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Telephone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DefaultCloseOperation(JFrame.EXIT_ON_CLOS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Size(new Dimension(250, 20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Title("Telephon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Layout(new Border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centerPanel = new JPanel(new GridLayout(4, 3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9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" + i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*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0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enterPanel.add(new JButton("#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centerPanel, BorderLayout.CENTER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JPanel southPanel = new JPanel(new FlowLayout(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Label("Number to dial: 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outhPanel.add(new JTextField(10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add(southPanel, BorderLayout.SOUTH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991200" y="4800600"/>
            <a:ext cx="2152800" cy="172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dditional compon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check box is a toggleable button with two states: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ed and unche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radio button is a button that can be selected; usually part of a group of mutually-exclusive radio buttons (1 selectable at a ti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 / JRadioButton(String text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CheckBox(String text, boolean isCheck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s checked/unchecked check box with given tex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turns true if check box is check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ed(boolean selected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box to be checked/uncheck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77120" y="4648320"/>
            <a:ext cx="2590560" cy="7398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488" t="48819" r="71363" b="38169"/>
          <a:stretch/>
        </p:blipFill>
        <p:spPr>
          <a:xfrm>
            <a:off x="6324480" y="5486400"/>
            <a:ext cx="2743200" cy="9144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heckBox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RadioButton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uttonGrou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13898" r="46328" b="0"/>
          <a:stretch/>
        </p:blipFill>
        <p:spPr>
          <a:xfrm>
            <a:off x="6934320" y="1219320"/>
            <a:ext cx="2049480" cy="2117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logical group of radio buttons that ensures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at only one is selected at a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uttonGroup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RadioButton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not a graphical component, just a logical group;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 themselves are added to the container, not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mageIc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you to put a picture on a button, label or other compon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ImageIcon implements 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String filena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mageIcon(URL addr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Radio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heck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ab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or that take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c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olloverIcon(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38928" t="28110" r="37825" b="8408"/>
          <a:stretch/>
        </p:blipFill>
        <p:spPr>
          <a:xfrm>
            <a:off x="6665760" y="1981080"/>
            <a:ext cx="2401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croll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special container that holds a component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ing scrollbars to allow that component to be s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crollPane(Component comp)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aps the given component with scrollbars. 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constructing the scroll pane, add the scroll pane to the container, not the original component.</a:t>
            </a:r>
            <a:br>
              <a:rPr sz="2400"/>
            </a:b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me.add(new JScrollPane(area), BorderLayout.CENTER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7162920" y="2209680"/>
            <a:ext cx="182880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4630680"/>
            <a:ext cx="3352680" cy="1465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029200" y="4632480"/>
            <a:ext cx="3352680" cy="1463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Message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display a mess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essageDialogExampl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"How's the weather?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OptionPane.showMessageDia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null, "Second messag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File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special dialog box that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llows the user to selec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ne or more files/fold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JFileChooser(String currentDi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Open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showSaveDialog(Component 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File getSelectedFil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APPROVE_OPTION, CANCEL_OP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sible result values from showXxxDialog(.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FileChooser chooser = new JFileChoos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result = chooser.showSaveDialog(thi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result == JFileChooser.APPROVE_OP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aveData(chooser.getSelectedFile().getName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019920" y="1143000"/>
            <a:ext cx="30286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JColorChoos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1920" y="1366560"/>
            <a:ext cx="8991720" cy="51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other special dialog that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ets the user pick from 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palette of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ColorChooser(Color initi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showDialog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 par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String title, Color initialColo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s null if user chose Cancel o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rcRect l="0" t="43714" r="0" b="0"/>
          <a:stretch/>
        </p:blipFill>
        <p:spPr>
          <a:xfrm>
            <a:off x="5867280" y="1143000"/>
            <a:ext cx="32004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top-level container that holds menus;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attached to a fr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Bar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(JMenu men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ge: i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JMenuBar(JMenuBar ba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105520" y="1905120"/>
            <a:ext cx="38750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enu to hold menu items; menus can contain other men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Menu(String tex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JMenuItem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Separato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423200" y="3048120"/>
            <a:ext cx="1328760" cy="28191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30840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 entry in a frame's Menu bar, which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n be clicked to perform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MenuItem(String text, 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Accelerator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Stroke k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Enabl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Mnemonic(int mnemon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791320" y="1295280"/>
            <a:ext cx="3200400" cy="658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Menu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adio button and checkbox-like menu i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boolean sel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 Icon ic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_____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(String tex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Icon icon, boolean select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ActionListener(ActionListener 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oolean isSelected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(boolean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all: i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ttonGrou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following method exist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AbstractButton button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two classes 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stractButt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CheckBoxMenuItem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JRadioButtonMenuItem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0" r="30506" b="0"/>
          <a:stretch/>
        </p:blipFill>
        <p:spPr>
          <a:xfrm>
            <a:off x="6934320" y="1219320"/>
            <a:ext cx="2120760" cy="10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nemonic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u hotkey assigned to a button or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sible as an underlined key, activated by press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trl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buttons) or Alt+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(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work when input focus is on the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ffects menu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age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Mnemonic(cha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enu items also have constructor that takes mnemoni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QuitButton.setMnemonic('Q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MenuItem myNewItem = new JMenuItem("New", 'N'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yNewItem.setMnemonic('N'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th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nemon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0" t="0" r="31112" b="0"/>
          <a:stretch/>
        </p:blipFill>
        <p:spPr>
          <a:xfrm>
            <a:off x="6629400" y="762120"/>
            <a:ext cx="236232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l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lobal hotkey combination that performs an action (ex: Alt-X to exit program) even on components that aren't in focus /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un at any time in the ap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optionally include modifiers like Shift, Al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d by calling the getKeyStroke method of the KeyStroke class, and passing this to setAccelerator method of various components (buttons, menu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nuItem.setAccelerato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Stroke.getKeyStroke('T', KeyEvent.ALT_MASK))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l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286000" y="6248520"/>
            <a:ext cx="457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Object[]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Vector ite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ComboBox(ComboBoxModel mode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combo box.  Can optionally pass a vector or model of items.  (Se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aultComboBoxMod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a model implementation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ActionListener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ActionListener al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 action event to be sent to listener al when the user selects or types a new item in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34361" r="0" b="42778"/>
          <a:stretch/>
        </p:blipFill>
        <p:spPr>
          <a:xfrm>
            <a:off x="5105520" y="1143000"/>
            <a:ext cx="3951000" cy="5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anaging I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Item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ItemAt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57160" y="5181480"/>
            <a:ext cx="2552760" cy="111456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4210200" y="5181480"/>
            <a:ext cx="4019040" cy="1195560"/>
            <a:chOff x="4210200" y="5181480"/>
            <a:chExt cx="4019040" cy="1195560"/>
          </a:xfrm>
        </p:grpSpPr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4210200" y="5181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5676840" y="5262480"/>
              <a:ext cx="2552400" cy="111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owConfirm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only be one of the provided choic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Confirm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 choic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Confirm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 "Erase your hard disk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choice =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YES_OPTIO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Disk erased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Cancelled.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ComboBox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Selected I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Object getSelectedItem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tem(Object i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nabled(boolean enabl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Editable(boolean editabl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ditable, the user can type new arbitrary values into the combo bo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many "tab"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containers, each with components in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abbedPane(int tabAlign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the tabs on top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abbedPane.BOTT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Tab(String title, Icon icon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Component comp, String toolti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as a tab in this tabbed pane.  Can optionally use an icon and/or tool ti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0" r="0" b="20397"/>
          <a:stretch/>
        </p:blipFill>
        <p:spPr>
          <a:xfrm>
            <a:off x="6835680" y="1066680"/>
            <a:ext cx="230832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abbed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insertTab(String tit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Icon icon, Component comp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tring tooltip, 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Component com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removeAll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Component(Component 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SplitPan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container that can hold two components,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ivided by a movable sepa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SplitPane(int orientatio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abbed pane.  Defaults to having a horizontal split; can be set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plitPane.HORIZONT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_SPL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Bottom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Lef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RightComponent(Component com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TopComponent(Component comp)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s the given component to occupy the desired region of the split pan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8224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movable container to hold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mmon buttons, commands, e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int orient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String titl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JToolBar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title, int orienta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s a new tool bar, optionally with a title and orientation; ca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ToolBar.HORIZON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ERTIC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defaults to horizo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void add(Component comp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he given component to this tool bar's flowing layo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rcRect l="0" t="15822" r="73515" b="52857"/>
          <a:stretch/>
        </p:blipFill>
        <p:spPr>
          <a:xfrm>
            <a:off x="6934320" y="1219320"/>
            <a:ext cx="205740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ToolB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items (usually buttons) to toolb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toolbar to edg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rderLayou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content pane (usuall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R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put anything in other edges (N/S/E/W)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list of selectable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-defined i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n empty JLis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ListModel mode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Object[]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List(Vector dat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JList that displays the given da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addListSelectionListener(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ListSelectionListener ls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ds the given listener to be informed when the selected index / indices change for this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629400" y="1219320"/>
            <a:ext cx="231300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clearSelection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SelectedIndex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[] getSelectedIndic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getSelectedValue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[] getSelectedValues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ex(int inde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SelectedIndices(int[] indice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 for getting / setting the selected item and index in the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even mor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ListModel getModel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Object[]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ListData(Vector dat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Model(ListModel mode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uses this list to now display the given collection of da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SelectionMode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setSelectionMode(int mod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 / set selection mode for the list.  For example, s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SelectionModel.SINGLE_SELECTIO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o only allow one item in the list to be chosen at o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INTERVAL_SELECTION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INGLE_SELECTION                             MULTIPLE_INTERVAL_SELE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85800" y="4724280"/>
            <a:ext cx="7696080" cy="1012680"/>
            <a:chOff x="685800" y="4724280"/>
            <a:chExt cx="7696080" cy="10126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68580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3962520" y="4800600"/>
              <a:ext cx="914400" cy="93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" descr=""/>
            <p:cNvPicPr/>
            <p:nvPr/>
          </p:nvPicPr>
          <p:blipFill>
            <a:blip r:embed="rId3"/>
            <a:stretch/>
          </p:blipFill>
          <p:spPr>
            <a:xfrm>
              <a:off x="7467480" y="4724280"/>
              <a:ext cx="914400" cy="93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 window that is a child of the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verall JFrame; used for popup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indows, option/config boxe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Dialog parent, boolean moda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JDialog(Frame parent, String tit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boolean modal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a new dialog with the given parent and title.  If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lag is set, this dialog is a child of the parent and the parent will be locked until the dialog is clos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how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this dialog on screen.  If the dialog is modal, calling show() will lock the parent frame/dialo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Dialo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has most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ContentPane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JMenuBar(JMenuBar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Resizable(boolea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Title(String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Dialo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172200" y="380880"/>
            <a:ext cx="2819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JOptionPan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s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InputDialo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analogous to 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that prints a question, then reading an input value from the user (can be any valu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class InputDialogExampl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ptionPane.showInputDialo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null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"What's yer name, pardner?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JOptionPane.showMessageDialog(null, "Yeehaw, " + name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23880" y="4314960"/>
            <a:ext cx="2828880" cy="1171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952880" y="4314960"/>
            <a:ext cx="2552760" cy="11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eye candy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Java Swing GUI look like the native operating syste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setLookAndFeel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IManager.getSystemLookAndFeelClass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Exception e)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ng borders to component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everComponent.setBorder(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rderFactory.createLineBorder(Color.BLUE, 3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Mouse and keyboard ev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use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of mouse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clicks and movement of mouse within a GUI component 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mouse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interactive programs that are driven by mouse activ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543800" y="4343400"/>
            <a:ext cx="14270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9188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istening to clicks: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Click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nte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xit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lements MouseListen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Click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nter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Exited(MouseEvent event) 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Released(MouseEvent event) {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My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Tedious to implement entire interface when only partial behavior is wanted/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Liste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bstract class with empty implementations of al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Liste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: exte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override the methods you want to do some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s need for you to type in empty methods for all the ones you don’t w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xample of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esig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User pressed mouse butto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MyMouseAdap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 panel = new My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y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1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UTTON2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BUTTON3_MASK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TRL_MASK, ALT_MASK, SHIFT_MAS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ClickCou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 getPo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Modifiers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the above button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ingUtil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Lef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RightMouseButton(MouseEvent ev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467480" y="1143000"/>
            <a:ext cx="15717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 usag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Adapt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Mouse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Po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source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ource == this.panel  &amp;&amp;  p.getX() &lt; 1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ptionPane.showMessageDialog(null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You clicked the left side of myPanel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nscreen GUI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4459320"/>
            <a:ext cx="8305920" cy="1484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GUIs are not composed of option panes; they are too limited.  Instead, complex GUIs contain the following ele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r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graphical window on the screen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pone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GUI widgets such as buttons or text field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ain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gical groups of compon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Dragg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useMov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MouseEvent eve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useMotion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lass provides empty implementations of both methods if you just want to override 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ouse movement: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ouseMotionListen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Motion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Motion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x = event.getX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y = event.getY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x is " + 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 is " + 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MyMouseMotionAdapt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Motion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ouseInputListen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x.swing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Input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Mouse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ouseMotion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importantly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useInputAdap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ncludes empty implementations for ALL methods from both mouse input interfaces, allowing same listener to listen to mouse clicks and mov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MouseInputAdapter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exte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useInputAdapte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Press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was pressed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ouseMoved(Mouse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 = event.get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ouse is at " + 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sing the liste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ouseInputAdapter adapter = new MyMouseInputAdapt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MouseMotion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dapter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MouseInputAdapt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: Example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board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age of keyboard ev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sten to keyboard activity within a GUI componen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ually a pane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spond to keyboard activity with appropriate ac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rol onscreen drawn characters and simulate text in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2179440" cy="14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ey Presses: 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KeyListene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ckage java.awt.even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Releas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eyEvent ev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Typ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KeyEvent even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tract clas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Adap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mplements 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ey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put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TRL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T_MAS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IFT_MASK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KeyEv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VK_A .. VK_Z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0 .. VK_9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F1 .. VK_F10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UP, VK_LEFT, ..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VK_TAB, VK_SPACE, VK_ENTER, ..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one for every ke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ha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Objec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Sourc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etModifi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use masks with th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Eve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ass PacManKeyListene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tends KeyAdapt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Press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KeyEvent eve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keyChar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h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keyCode  = eve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KeyCod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keyCode =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yEvent.VK_R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man.setX(pacman.getX()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.repa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keyChar == 'Q'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exit(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ssumes some custom panel class named PacPa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cPanel panel = new PacPanel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2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KeyListen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new PacKeyListener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Adap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kinds of ev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Listener/Adapt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events in a top-level window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. Useful to catc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ndowClos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vent and respond, e.g. prompt to save current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cusListener/Ev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ds to when the keyboard focus changes to a different component.  Useful to validate input format on a text 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Selection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yperlink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temListe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 listeners for specific Swing components (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EditorPa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Combo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spective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2D Graphic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Frame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ple program that creates and show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x.swing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impleFram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Frame frame = new JFram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rame.setVisible(tru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505320" y="4952880"/>
            <a:ext cx="1523880" cy="3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overrid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thod to use a panel as a drawing su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ordinate system: (0, 0) at top-left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-axis increases rightward, y-axis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downward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surface i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anspar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nless drawn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6629400" y="1905120"/>
            <a:ext cx="2362320" cy="228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drawing panel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detail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important things that we don't want to lose, so call the metho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per.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rst thing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rgument represents "graphical context" object that can be told to draw th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aranteed for ever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Pane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actual object passed in i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2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can cas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el has small preferred size, so it will be tiny when put into some layouts; 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PreferredSize(Dimension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make it bigg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reshing panel: can't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so cal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paint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sic panel painting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.paintComponent(g);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mportan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ut your painting code h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6095880" y="4038480"/>
            <a:ext cx="2819520" cy="23828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drawing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yPanel extends JPanel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yPanel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paintComponent(Graphics g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per.paintComponent(g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2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10, 10, 2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text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tring s, int x, int y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aws a string with its first letter's bottom-left corner at the given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ring is drawn using the Graphics' current color and font sett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fore drawing the string, you can set the font, color, and other attribu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rcRect l="0" t="14914" r="0" b="14817"/>
          <a:stretch/>
        </p:blipFill>
        <p:spPr>
          <a:xfrm>
            <a:off x="5791320" y="3657600"/>
            <a:ext cx="2971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Font f)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s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ontext to start writing text in the given font.  (Forgotten at end of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intCompone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ll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ext styles used when drawing Strings on the pa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, int style, int siz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predefined font name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SansSerif"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onospaced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nt styles (can be combined with + operato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L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TALI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nt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rcRect l="0" t="0" r="15354" b="0"/>
          <a:stretch/>
        </p:blipFill>
        <p:spPr>
          <a:xfrm>
            <a:off x="4419720" y="5156280"/>
            <a:ext cx="41907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ors and pai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lo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 simple single-colored pai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(int r, int g, int b, int alph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partially-transparent color (range 0-255, 0=transparen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right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Col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6019920" y="4648320"/>
            <a:ext cx="2857320" cy="171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Line(int x1, int y1, int x2, int y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Oval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Polygon(int[] xpoints, int[] ypoints, int le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Rect(int x, int y, int w, int 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draw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fillArc(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181480" y="4495680"/>
            <a:ext cx="3382920" cy="2111400"/>
            <a:chOff x="5181480" y="4495680"/>
            <a:chExt cx="3382920" cy="2111400"/>
          </a:xfrm>
        </p:grpSpPr>
        <p:pic>
          <p:nvPicPr>
            <p:cNvPr id="348" name="" descr=""/>
            <p:cNvPicPr/>
            <p:nvPr/>
          </p:nvPicPr>
          <p:blipFill>
            <a:blip r:embed="rId1"/>
            <a:stretch/>
          </p:blipFill>
          <p:spPr>
            <a:xfrm>
              <a:off x="7391160" y="4495680"/>
              <a:ext cx="811080" cy="58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" descr=""/>
            <p:cNvPicPr/>
            <p:nvPr/>
          </p:nvPicPr>
          <p:blipFill>
            <a:blip r:embed="rId2"/>
            <a:stretch/>
          </p:blipFill>
          <p:spPr>
            <a:xfrm>
              <a:off x="7010280" y="5257800"/>
              <a:ext cx="155412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" descr=""/>
            <p:cNvPicPr/>
            <p:nvPr/>
          </p:nvPicPr>
          <p:blipFill>
            <a:blip r:embed="rId3"/>
            <a:stretch/>
          </p:blipFill>
          <p:spPr>
            <a:xfrm>
              <a:off x="7010280" y="6019920"/>
              <a:ext cx="153180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" descr=""/>
            <p:cNvPicPr/>
            <p:nvPr/>
          </p:nvPicPr>
          <p:blipFill>
            <a:blip r:embed="rId4"/>
            <a:stretch/>
          </p:blipFill>
          <p:spPr>
            <a:xfrm>
              <a:off x="5181480" y="452268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" descr=""/>
            <p:cNvPicPr/>
            <p:nvPr/>
          </p:nvPicPr>
          <p:blipFill>
            <a:blip r:embed="rId5"/>
            <a:stretch/>
          </p:blipFill>
          <p:spPr>
            <a:xfrm>
              <a:off x="5181480" y="5284800"/>
              <a:ext cx="1218960" cy="5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" descr=""/>
            <p:cNvPicPr/>
            <p:nvPr/>
          </p:nvPicPr>
          <p:blipFill>
            <a:blip r:embed="rId6"/>
            <a:stretch/>
          </p:blipFill>
          <p:spPr>
            <a:xfrm>
              <a:off x="5181480" y="6046920"/>
              <a:ext cx="1226880" cy="5601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im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mageObserver io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Imag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mage i, int x, int y, int width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int height, ImageObserver io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s given image with thi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en with its top-left corner at given location (pass the panel as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ageObserve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5257800" y="3809880"/>
            <a:ext cx="3409920" cy="25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Toolkit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ets images from disk or 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Toolkit getDefaultToolkit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String filenam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mage getImage(URL addres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MediaTracker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Ensures that images are loaded ful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MediaTracker(Component com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ddImage(Image img, int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waitForAll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throws Interrupted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epresents a graphic image (BMP, GIF, 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Width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eight(ImageObserver ob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java.awt.image.BufferedImage</a:t>
            </a: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 blank graphic image surface onto which you can dra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ufferedImage(int w, int h, int typ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Graphics getGraphics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for imag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56:03Z</dcterms:modified>
  <cp:revision>127</cp:revision>
  <dc:subject/>
  <dc:title>CSE 142 Python Slides</dc:title>
</cp:coreProperties>
</file>