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99DD-D46D-4274-B879-7BFD2B78E38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ing a Collection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03760" indent="-2037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ng to the middle or front is hard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(see book ch 7.3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i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earby elements to make room for the new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50080" indent="-2455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: The order in which you traverse the array matter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648320" y="5791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; i &gt; index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-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ndex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19320" y="32338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464832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implement the following methods nex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an element from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ain, we need to shift elements in the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ime, it's a left-shif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what order should we process the element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ndexes should we proces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mov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index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i] = list[i + 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ptional (why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delete 9 from index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219320" y="50292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 flipH="1">
            <a:off x="41144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ning out of sp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should we do if the client adds more than 10 el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15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add an 11th ele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219320" y="23623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76320" y="4757760"/>
          <a:ext cx="8980200" cy="1185840"/>
        </p:xfrm>
        <a:graphic>
          <a:graphicData uri="http://schemas.openxmlformats.org/drawingml/2006/table">
            <a:tbl>
              <a:tblPr/>
              <a:tblGrid>
                <a:gridCol w="782280"/>
                <a:gridCol w="507960"/>
                <a:gridCol w="322560"/>
                <a:gridCol w="322200"/>
                <a:gridCol w="322200"/>
                <a:gridCol w="322200"/>
                <a:gridCol w="460440"/>
                <a:gridCol w="322200"/>
                <a:gridCol w="322200"/>
                <a:gridCol w="322200"/>
                <a:gridCol w="322560"/>
                <a:gridCol w="5079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venie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he first index an element is found, or -1 if no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list has no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returns true if the list contains the given int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do we ne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Emp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n we already ha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dex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methods provide convenience to the client of our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size() =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isEmpty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ourier New"/>
              </a:rPr>
              <a:t>if (myList.indexOf(42) &gt;= 0) {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myList.contains(42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some new features to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  A method that allows client programs to print a list'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  A constructor that accepts an initial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By writing these we will recall some features of objects in Java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ing lists: You may be tempted to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200" spc="-1" strike="noStrike">
                <a:solidFill>
                  <a:srgbClr val="008000"/>
                </a:solidFill>
                <a:latin typeface="Courier New"/>
              </a:rPr>
              <a:t>// ("list is " + list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(of unknown size) full of integers and prints the integers in the reverse order to how they occurred in the file.  Consider example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ta.t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run with this file, your program's output would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3205327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3208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 construct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new constructor that accepts a capacity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ArrayIntLis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lement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pacit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nstructors are very similar.  Can we avoid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reference to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(the object on which a method/constructor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24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all a constructo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4340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another construct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e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int capacity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ementData = new int[capacity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ze = 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ArrayIntList(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(1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calls (int) construc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ze vs. capacit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if the client tries to access an element that is past the size but within the capacity (bounds) of the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get(7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list of size 5  (capacity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swer: Currently the list allows this and returns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is good or bad?  What (if anything) should we do about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219320" y="312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ssumes is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ng a precondition doesn't really "solve" the problem, but it at least documents our decision and warns the client what not to d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we want to actually enforce the precondi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d precondition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wrong with the following way to handle viola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element at the given index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0 &lt;= index &lt; siz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remove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"Bad index! " + 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-1 is no better than returning 0  (could be a legal valu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 very strong deterrent to the client  (esp. GUI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rowing exceptions (4.5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ption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he program to immediately crash with an excep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exception typ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ithmeticException, ArrayIndexOutOfBoundsException, FileNotFoundException, IllegalArgumentException, IllegalStateException, IOException, NoSuchElementException, NullPointerException, RuntimeException, UnsupportedOperationExcep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would anyone ev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ant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gram to crash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ception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et(int inde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0 || index &gt;= siz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row 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elementData[index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res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state preconditions and throw exceptions as appropri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stcondi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t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omething your meth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ises will be tru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of its exec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documented as a comment on the method's header: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s sure that this list's internal array is la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ough to store the given number of elem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ostcondition: elementData.length &gt;=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ensureCapacity(int capacit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ouble in size until large enoug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capacity &gt; elementData.length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ementData = Arrays.copyOf(elementDat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 * elementData.length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r method states a postcondition, clients should be able to rely on that statement being true after they call the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using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nums = new int[100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ke a really big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size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input.nextInt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d each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           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to the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size - 1; i &gt;= 0; i--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s[i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 rever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testing progra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programs are written specifically to test oth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wrot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want to give it to others, we must make sure it works adequately well fir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ient program with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constructs several lists, adds elements to them, and calls the various other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ps for te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test every possible input, parameter valu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a sing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has 2^32 different possible valu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must think of a limited set of tests likely to expose bu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boundary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sitive, zero, negative numb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ight at the edge of an array or collection's 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about empty cases and error c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, -1, null;  an empty list or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array or collection that contains null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helping methods in your test program to shorte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testing ti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c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s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u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est shouldn't just call methods and print results; it shoul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e method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ir results to a known correct expected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are the same, report that the test "passed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y differ, report that the test "failed" along with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behavior in comb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ually works, but fails after you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happens if I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multiple calls;  mayb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ails the second time on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1 = {5, 2, 7, 8, 4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2 = {2, 7, 42, 8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3 = {7, 42, 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1, a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a2, a3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elper(new int[] {1, 2, 3, 4, 5}, new int[] {2, 3, 42, 4}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elper(int[] elements, int[] expecte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rrayIntList list = new ArrayIntList(element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lement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elements[i]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remove(list.size()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st.add(2, 42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xpected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ist.get(i) != expected[i]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fail; expect " + Arrays.toString(expected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+ ", actual " + 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ish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add the following feature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onstant for the default list capac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tter encapsulation and protection of implementation detai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better way to print list obje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consta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 const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lobal, unchangeable value in a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to store and give names to important values used in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cuments an important value;  easier to find and change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will often store constants related to tha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AX_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ger.MIN_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GR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default array length for new ArrayIntL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final int DEFAULT_CAPACITY = 10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Helper"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few useful "helper"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Re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eck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index, int min, int ma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rote them to help us implement other requir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don't want clients to call these methods; they are inter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top clients from calling th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ivate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vat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 its own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ed, similar to 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object can call the method on itself, but clients cannot call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"helper" methods that clients shouldn't directly tou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void checkIndex(int index, int min, int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ndex &lt; min || index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row new IndexOutOfBoundsException(inde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Int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our list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list.pr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is this a bad idea?  What would be bett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 list = new ArrayIntLis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list is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uitable 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is the class's name and a hex (base-16) numb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nfille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s = new int[10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ize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often need to store an unknown number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can be used for this, but we must count the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the values at indexes [0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1] are releva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using an array to store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other operations might we want to run on lists of valu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11360" y="4952880"/>
          <a:ext cx="7746840" cy="156204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1013040"/>
                <a:gridCol w="1380960"/>
                <a:gridCol w="59868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320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320532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turns a String representation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ize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[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result = "[" + elementData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 size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, " + elementData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 += "]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class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utterInt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constructor accepts an integ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time an integer is added, the list will actually ad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tret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 of copies of that integ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u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tterIntList list = new StutterIntLis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7);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-1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2, 5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remove(4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7, 7, 5, 5, 7, -1, -1, -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st.getStretch()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Forming new classes based on existing 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/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use co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arent clas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ild class that inherits behavior from super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4" descr="employee_manuals"/>
          <p:cNvPicPr/>
          <p:nvPr/>
        </p:nvPicPr>
        <p:blipFill>
          <a:blip r:embed="rId1"/>
          <a:stretch/>
        </p:blipFill>
        <p:spPr>
          <a:xfrm>
            <a:off x="2286000" y="3962520"/>
            <a:ext cx="464832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wyers, Secretaries, etc. have similar behavior to the abo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to implement those classes without redundanc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extends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awyer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copy of each method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utoma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replace a superclass's method by writing a new version of that method in a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is required to override a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verrides getSalary method in Employee clas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4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up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Lawyers a $5K raise (bet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version makes sure that Lawyers always make $5K more than Employees, even if the Employee's salary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sup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String nam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name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llows a subclass constructor to call a superclass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uctors are not inherited; If you extend a class, you must write all the constructors you want your subclass to 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tutterIntLis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tends ArrayIntLis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utterIntList(int stretchFactor, int capacity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(capacity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etch = stretchFactor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int index, int valu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stretc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per.add(index, valu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Stretch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tretch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58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bclasses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giveRaise(double amou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alary += amoun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rror; salary is priv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ed private fields/methods cannot be directly accessed by subclasses.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The subclass has the field, but it can't touch i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allow a subclass to access/modify these field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possible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ad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value, int inde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move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inde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find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int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list, int 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implement these operations as methods that accept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 and it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long with other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since the behavior and data are so closely related, it makes more sense to put them together into an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object can store an array of elements and a size, and can have methods for manipulating the list of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ote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hides details of how the list work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tected fields/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tho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tected fiel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seen/called only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itself,  and its sub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by other classes in the same "package"  (discussed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for allowing selective access to inner class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otec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ala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implemented the following two list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hould be able to treat both lists the same way in client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ADT interface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1.1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 data type (AD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pecification of a collection of data and the operations that can be performed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collection does,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t does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collection framework describes ADTs with interfa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rted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DT can be implemented in multiple ways by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De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tc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mp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54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reate an ADT interface for the two list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6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integ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erface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int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Array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LinkedIntLis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IntLi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lis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implemented the following two list collection cl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ked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store onl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lements, not any type of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282920" y="1952640"/>
          <a:ext cx="211788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23" name=""/>
          <p:cNvSpPr/>
          <p:nvPr/>
        </p:nvSpPr>
        <p:spPr>
          <a:xfrm>
            <a:off x="3290040" y="36036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282920" y="3205080"/>
          <a:ext cx="1346400" cy="790560"/>
        </p:xfrm>
        <a:graphic>
          <a:graphicData uri="http://schemas.openxmlformats.org/drawingml/2006/table">
            <a:tbl>
              <a:tblPr/>
              <a:tblGrid>
                <a:gridCol w="676440"/>
                <a:gridCol w="669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5486400" y="3814920"/>
            <a:ext cx="341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904000" y="321480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7" name=""/>
          <p:cNvSpPr/>
          <p:nvPr/>
        </p:nvSpPr>
        <p:spPr>
          <a:xfrm>
            <a:off x="7162920" y="38149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7543800" y="3233880"/>
          <a:ext cx="1346040" cy="795240"/>
        </p:xfrm>
        <a:graphic>
          <a:graphicData uri="http://schemas.openxmlformats.org/drawingml/2006/table">
            <a:tbl>
              <a:tblPr/>
              <a:tblGrid>
                <a:gridCol w="676440"/>
                <a:gridCol w="669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ex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4038480" y="3814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8229240" y="3657600"/>
            <a:ext cx="68580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: When 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specify the 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ccept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that it i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neri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gener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a parameterized (generic)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utting th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are demanding that any client that constructs your object must supply a type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can require multiple type parameters separated by comm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t of your class's code can refer to that type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onvert our list classes to use generic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 and arrays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4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myField = new T()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800000"/>
                </a:solidFill>
                <a:latin typeface="Courier New"/>
              </a:rPr>
              <a:t>T[] a = new T[10];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not create objects or arrays of a parameterized typ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s/arrays, fix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Foo&lt;T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T myField;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method1(T param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myField = param;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[] a2 = (T[]) (new Object[10]);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can create variables of that type, accept them as parameters, return them, or create arrays by cas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[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generic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ArrayList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// if (elementData[i] == value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ementData[i].equals(value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testing objects of type E for equality, must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write a class that implements a list us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[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call i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havi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move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dexOf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String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st'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be the number of elements added to it so f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list be used?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linked list nod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class ListNode&l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E dat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ListNode&lt;E&gt; nex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 generic linked list, the node class must also accept the typ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ic interface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5.3, 16.5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presents a list of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List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&lt;E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add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get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indexOf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isEmpty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remove(int index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(int index,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val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iz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Array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inkedInt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E&gt; implements IntList&lt;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end of a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 to end of list, just store element and increase siz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int value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[size] = val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ize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28954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219320" y="510552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d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do we add to the middle or end of the lis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.ad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2)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insert 42 at index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19320" y="251460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1219320" y="4834080"/>
          <a:ext cx="6553080" cy="1185840"/>
        </p:xfrm>
        <a:graphic>
          <a:graphicData uri="http://schemas.openxmlformats.org/drawingml/2006/table">
            <a:tbl>
              <a:tblPr/>
              <a:tblGrid>
                <a:gridCol w="893520"/>
                <a:gridCol w="565200"/>
                <a:gridCol w="563760"/>
                <a:gridCol w="566640"/>
                <a:gridCol w="563400"/>
                <a:gridCol w="568440"/>
                <a:gridCol w="566640"/>
                <a:gridCol w="567000"/>
                <a:gridCol w="566640"/>
                <a:gridCol w="565200"/>
                <a:gridCol w="566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29:05Z</dcterms:modified>
  <cp:revision>85</cp:revision>
  <dc:subject/>
  <dc:title>CSE 142 Python Slides</dc:title>
</cp:coreProperties>
</file>