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C5AC-69D1-4811-ACDF-FB57DF934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program never directly interacts with ListNode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aint can analogy: LinkedIntList is a painter, the ListNodes are buckets of paint.  I don't want the buckets, just do the painting for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ew the answer right away, it goes between the 5 and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see the 5, do you know to stop yet?  when do you know to sto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(current.data &lt; value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= current.nex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 it be &lt; or &lt;= ?  when would it matter?  what if the list had 500 10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is more effic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: we have gone too far.  we want to insert the 10 in *front* of the node we are at.  We want to stop 1 before the 12.  (James Bond on train 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idea: insert BETWEEN 5 and 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o change the link between the 5 and 12, we must be at the node with 5, so we can change its .next l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342E-C3EC-4501-9637-A142A85D9716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6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ed 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referen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e with the dot notation, such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you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an object variable, Java goes to the memory for that object and looks up the field/method reques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my.name = "Timmah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.toUpperCa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03400" y="51055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44640" y="53341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93680" y="55627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003400" y="571500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111400" y="487692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4865760" y="5029200"/>
          <a:ext cx="3848040" cy="395280"/>
        </p:xfrm>
        <a:graphic>
          <a:graphicData uri="http://schemas.openxmlformats.org/drawingml/2006/table">
            <a:tbl>
              <a:tblPr/>
              <a:tblGrid>
                <a:gridCol w="641160"/>
                <a:gridCol w="641520"/>
                <a:gridCol w="641160"/>
                <a:gridCol w="641520"/>
                <a:gridCol w="641160"/>
                <a:gridCol w="641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T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m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'h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2066040" y="4479840"/>
            <a:ext cx="11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7320" y="447984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99000" y="4876920"/>
            <a:ext cx="434340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05840" y="5584680"/>
            <a:ext cx="432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indexOf(String s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length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oUpperCas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 {...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76560" y="513396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56000" y="54100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it causes an exceptio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refer to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 = timmy.name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.toUpp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lang.NullPointer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59080" y="365760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1984320" y="38862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411480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159080" y="4267080"/>
          <a:ext cx="1860840" cy="495360"/>
        </p:xfrm>
        <a:graphic>
          <a:graphicData uri="http://schemas.openxmlformats.org/drawingml/2006/table">
            <a:tbl>
              <a:tblPr/>
              <a:tblGrid>
                <a:gridCol w="106704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4267080" y="3429000"/>
            <a:ext cx="198144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to same ty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happen if we had a class that declared one of its own type as a fiel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ang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private Strange other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this compi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so, what is the behavior o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eld?  What can it 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ot, why not?  What is the error and the reasoning behind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data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the collections we will use and implement in this course use one of the following two underlying data struct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t 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inked objec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storing one elemen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one or more reference(s) to other element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Ma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676520" y="3186000"/>
          <a:ext cx="2743200" cy="395280"/>
        </p:xfrm>
        <a:graphic>
          <a:graphicData uri="http://schemas.openxmlformats.org/drawingml/2006/table">
            <a:tbl>
              <a:tblPr/>
              <a:tblGrid>
                <a:gridCol w="725400"/>
                <a:gridCol w="646200"/>
                <a:gridCol w="68580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318240" y="56088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01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60684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511960" y="5610240"/>
          <a:ext cx="1346040" cy="39528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7416720" y="5610240"/>
          <a:ext cx="1346400" cy="39528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74320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38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5838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07696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58197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list nod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list node object sto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piece of integer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eference to another lis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 be "linked" into chains to store a list of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939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284472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47498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66549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8108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8620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nstructList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lis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data = 4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data = -3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 = new ListNod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data = 17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next.next.next 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st.data + " " + list.next.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 " " + list.next.next.data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2 -3 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84328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74804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653160" y="5257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8847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89520" y="5867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314840" y="56674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055960" y="5867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58920" y="5667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 node w/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Nod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ListNode(int data, ListNode nex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data = 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.next = 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previous client to use these constructo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2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0672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6720" y="478944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84472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74984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3886200" y="2486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40972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02760" y="20178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5120" y="22575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84472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749840" y="2867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"/>
          <p:cNvSpPr/>
          <p:nvPr/>
        </p:nvSpPr>
        <p:spPr>
          <a:xfrm>
            <a:off x="3886200" y="34765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409720" y="324792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2760" y="3008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5120" y="3247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4472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474984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"/>
          <p:cNvSpPr/>
          <p:nvPr/>
        </p:nvSpPr>
        <p:spPr>
          <a:xfrm>
            <a:off x="3886200" y="52578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2760" y="47894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905120" y="50292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844720" y="5638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 flipH="1">
            <a:off x="3504960" y="6019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202760" y="578016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5120" y="60199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654960" y="4648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>
            <a:off x="5791320" y="52578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314840" y="5029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problem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et of statements turns this pi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o thi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2120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5549760" y="18763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4686480" y="2486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6210000" y="22575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2760" y="201780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1160" y="2257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165920" y="227016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314880" y="2495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2082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511960" y="46958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"/>
          <p:cNvSpPr/>
          <p:nvPr/>
        </p:nvSpPr>
        <p:spPr>
          <a:xfrm>
            <a:off x="4648320" y="53053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4600" y="4836960"/>
            <a:ext cx="52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43000" y="50767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127760" y="5089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76720" y="53150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7416720" y="4705200"/>
          <a:ext cx="1406520" cy="790560"/>
        </p:xfrm>
        <a:graphic>
          <a:graphicData uri="http://schemas.openxmlformats.org/drawingml/2006/table">
            <a:tbl>
              <a:tblPr/>
              <a:tblGrid>
                <a:gridCol w="73656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"/>
          <p:cNvSpPr/>
          <p:nvPr/>
        </p:nvSpPr>
        <p:spPr>
          <a:xfrm>
            <a:off x="6553080" y="5315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vs.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ef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 is an arrow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the base of an arro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(right sid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 is an object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 box; what an arrow points a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list at righ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adjust where     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a.next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ns to mak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638680" y="38433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4345200" y="40132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99080" y="42242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32440" y="44625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32720" y="38527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 flipH="1">
            <a:off x="8305560" y="4257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00800" y="4419720"/>
            <a:ext cx="304920" cy="30456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467480" y="358128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809880" y="4619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5762520"/>
            <a:ext cx="304920" cy="304920"/>
          </a:xfrm>
          <a:prstGeom prst="ellipse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sign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you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 = b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say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Mak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riabl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sam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 "Ma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 to the same place 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.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429000" y="4267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0" name=""/>
          <p:cNvSpPr/>
          <p:nvPr/>
        </p:nvSpPr>
        <p:spPr>
          <a:xfrm>
            <a:off x="2135520" y="44370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89040" y="46483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22760" y="48862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423040" y="4276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342900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2135520" y="53848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9040" y="55958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2276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542304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49" name=""/>
          <p:cNvSpPr/>
          <p:nvPr/>
        </p:nvSpPr>
        <p:spPr>
          <a:xfrm flipH="1">
            <a:off x="6095520" y="4681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076440" y="56386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4876920"/>
            <a:ext cx="914400" cy="838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5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nod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long chain of list n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know exactly how long the chain 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we print the data values in all the nod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212076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7416720" y="20145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56" name=""/>
          <p:cNvSpPr/>
          <p:nvPr/>
        </p:nvSpPr>
        <p:spPr>
          <a:xfrm>
            <a:off x="6553080" y="26240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807696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6720" y="21844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1160" y="2395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08840" y="23893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14880" y="2633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114800" y="20239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308560" y="2643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at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(there are more nodes to print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current node'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walk through the nodes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s this a good idea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197080" y="521496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7493040" y="521496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68" name=""/>
          <p:cNvSpPr/>
          <p:nvPr/>
        </p:nvSpPr>
        <p:spPr>
          <a:xfrm>
            <a:off x="6629400" y="582444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152920" y="55958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82680" y="53848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57480" y="5595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85160" y="55897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90840" y="58341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4191120" y="522432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75" name=""/>
          <p:cNvSpPr/>
          <p:nvPr/>
        </p:nvSpPr>
        <p:spPr>
          <a:xfrm>
            <a:off x="5384880" y="5843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(bad)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lis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 = list.next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appro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t loses the linked list as it prints it!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197080" y="52912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7493040" y="5291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6629400" y="5900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8152920" y="567216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82680" y="546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257480" y="56721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85160" y="56656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390840" y="59101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4191120" y="5300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87" name=""/>
          <p:cNvSpPr/>
          <p:nvPr/>
        </p:nvSpPr>
        <p:spPr>
          <a:xfrm>
            <a:off x="5384880" y="591984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143000" y="4952880"/>
            <a:ext cx="2971800" cy="673200"/>
          </a:xfrm>
          <a:custGeom>
            <a:avLst/>
            <a:gdLst/>
            <a:ahLst/>
            <a:rect l="l" t="t" r="r" b="b"/>
            <a:pathLst>
              <a:path w="1872" h="568">
                <a:moveTo>
                  <a:pt x="0" y="568"/>
                </a:moveTo>
                <a:cubicBezTo>
                  <a:pt x="372" y="324"/>
                  <a:pt x="744" y="80"/>
                  <a:pt x="1056" y="40"/>
                </a:cubicBezTo>
                <a:cubicBezTo>
                  <a:pt x="1368" y="0"/>
                  <a:pt x="1696" y="288"/>
                  <a:pt x="1872" y="32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066680" y="4800600"/>
            <a:ext cx="6324840" cy="762120"/>
          </a:xfrm>
          <a:custGeom>
            <a:avLst/>
            <a:gdLst/>
            <a:ahLst/>
            <a:rect l="l" t="t" r="r" b="b"/>
            <a:pathLst>
              <a:path w="3984" h="752">
                <a:moveTo>
                  <a:pt x="0" y="752"/>
                </a:moveTo>
                <a:cubicBezTo>
                  <a:pt x="340" y="408"/>
                  <a:pt x="680" y="64"/>
                  <a:pt x="1344" y="32"/>
                </a:cubicBezTo>
                <a:cubicBezTo>
                  <a:pt x="2008" y="0"/>
                  <a:pt x="3552" y="472"/>
                  <a:pt x="3984" y="5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3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urr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't chan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Make another variable, and change tha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is NOT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to the picture above when we wri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227340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4" name=""/>
          <p:cNvGraphicFramePr/>
          <p:nvPr/>
        </p:nvGraphicFramePr>
        <p:xfrm>
          <a:off x="7569360" y="321804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>
            <a:off x="6705720" y="38275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8229240" y="35989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59000" y="3387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333440" y="359892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61480" y="359244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467160" y="38368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4267080" y="3227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02" name=""/>
          <p:cNvSpPr/>
          <p:nvPr/>
        </p:nvSpPr>
        <p:spPr>
          <a:xfrm>
            <a:off x="5460840" y="3846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64960" y="3794040"/>
            <a:ext cx="1868760" cy="779760"/>
            <a:chOff x="264960" y="3794040"/>
            <a:chExt cx="1868760" cy="779760"/>
          </a:xfrm>
        </p:grpSpPr>
        <p:sp>
          <p:nvSpPr>
            <p:cNvPr id="404" name=""/>
            <p:cNvSpPr/>
            <p:nvPr/>
          </p:nvSpPr>
          <p:spPr>
            <a:xfrm>
              <a:off x="264960" y="4174920"/>
              <a:ext cx="157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current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1523880" y="3794040"/>
              <a:ext cx="60984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versing a list correct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ct way to print every value in the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Node current = lis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ove to next n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 not damage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2197080" y="533412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7493040" y="53341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>
            <a:off x="6629400" y="59436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8152920" y="57150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2680" y="5504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257480" y="5715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85160" y="57085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90840" y="59529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191120" y="5343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17" name=""/>
          <p:cNvSpPr/>
          <p:nvPr/>
        </p:nvSpPr>
        <p:spPr>
          <a:xfrm>
            <a:off x="5384880" y="59626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8529480" y="2209680"/>
            <a:ext cx="5382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800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 to print list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front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current != nul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current.dat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28840" y="1295280"/>
            <a:ext cx="42670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array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 = ...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 &lt; a.length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ollection 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s the same methods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 is internally implemented as a chain of linked nod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keeps a reference to 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s a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end of the list; 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signifies an empty li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4495680"/>
            <a:ext cx="2286000" cy="213372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>
              <a:lnSpc>
                <a:spcPct val="14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(index, 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dexOf(val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(inde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0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String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371600" y="46483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600200" y="4800600"/>
            <a:ext cx="160020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6240" y="41292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7376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548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212240" y="446724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3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 to each other or passed as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primitiv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nked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ListNod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Linked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 go 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220968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763040" y="25909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734880" y="1814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edI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7772400" y="2590920"/>
            <a:ext cx="45720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add a new node to the end of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ad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2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4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56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an 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20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reate a new node and attach it to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175248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95680" y="20574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7704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568656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7238880" y="1981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69" name=""/>
          <p:cNvSpPr/>
          <p:nvPr/>
        </p:nvSpPr>
        <p:spPr>
          <a:xfrm flipH="1">
            <a:off x="790524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8208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, 1st t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to non-empty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adding value 20 to end of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79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5499000" y="19908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1" name=""/>
          <p:cNvSpPr/>
          <p:nvPr/>
        </p:nvSpPr>
        <p:spPr>
          <a:xfrm flipH="1">
            <a:off x="6200640" y="2419200"/>
            <a:ext cx="733680" cy="352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6" name=""/>
          <p:cNvSpPr/>
          <p:nvPr/>
        </p:nvSpPr>
        <p:spPr>
          <a:xfrm>
            <a:off x="4699080" y="533412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5499000" y="47340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6692760" y="5343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7493040" y="47530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490" name=""/>
          <p:cNvSpPr/>
          <p:nvPr/>
        </p:nvSpPr>
        <p:spPr>
          <a:xfrm flipH="1">
            <a:off x="8152920" y="51624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4852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55804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39480" y="56530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54852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58040" y="28954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n't fall off the edge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/remove from a list, you must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 of the nod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lace you want to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shou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pointing, to add 20 at the e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oop test will stop us at this place in the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7432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743120" y="31240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952640" y="30952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1" name=""/>
          <p:cNvGraphicFramePr/>
          <p:nvPr/>
        </p:nvGraphicFramePr>
        <p:xfrm>
          <a:off x="3505320" y="26668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2" name=""/>
          <p:cNvSpPr/>
          <p:nvPr/>
        </p:nvSpPr>
        <p:spPr>
          <a:xfrm>
            <a:off x="4699080" y="3286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5499000" y="2676600"/>
          <a:ext cx="143208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 flipH="1">
            <a:off x="6200280" y="3105000"/>
            <a:ext cx="723960" cy="36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9604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05920" y="35812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the given value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the end of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5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7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19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value in list at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curre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the two-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533520" y="495288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14520" y="533412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1724040" y="530496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3276720" y="48769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1" name=""/>
          <p:cNvSpPr/>
          <p:nvPr/>
        </p:nvSpPr>
        <p:spPr>
          <a:xfrm>
            <a:off x="4470480" y="54957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5270400" y="48862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3" name=""/>
          <p:cNvSpPr/>
          <p:nvPr/>
        </p:nvSpPr>
        <p:spPr>
          <a:xfrm>
            <a:off x="6464160" y="5505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264440" y="49053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 flipH="1">
            <a:off x="7924320" y="53150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31992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32944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310880" y="58053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reference variable is assigned to another, the object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, 5, 2, 12, 14, 14, 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2 = a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fers to same array as a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1[0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276720" y="5130720"/>
          <a:ext cx="475452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533520" y="5105520"/>
            <a:ext cx="2438280" cy="444240"/>
            <a:chOff x="533520" y="5105520"/>
            <a:chExt cx="2438280" cy="444240"/>
          </a:xfrm>
        </p:grpSpPr>
        <p:sp>
          <p:nvSpPr>
            <p:cNvPr id="97" name=""/>
            <p:cNvSpPr/>
            <p:nvPr/>
          </p:nvSpPr>
          <p:spPr>
            <a:xfrm>
              <a:off x="533520" y="5105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057400" y="5321160"/>
              <a:ext cx="914400" cy="165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1720" y="51292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520" y="5866920"/>
            <a:ext cx="2438280" cy="457560"/>
            <a:chOff x="533520" y="5866920"/>
            <a:chExt cx="2438280" cy="457560"/>
          </a:xfrm>
        </p:grpSpPr>
        <p:sp>
          <p:nvSpPr>
            <p:cNvPr id="101" name=""/>
            <p:cNvSpPr/>
            <p:nvPr/>
          </p:nvSpPr>
          <p:spPr>
            <a:xfrm>
              <a:off x="533520" y="58802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2057400" y="5866920"/>
              <a:ext cx="9144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701720" y="590400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s the given value at the given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=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ing to an empty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ing into an existing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new ListNode(valu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difference between an empty list an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you create each on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are the fields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ublic?  Is this bad sty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ffect does this code have o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5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ceptual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consists of 0 to many node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node holds a single data elemen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ull;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pty lis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IntList list = new LinkedIntLis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's okay that the node fields are public, because client code never directly interac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e doesn't change the list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ange a list only in one of the following two w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of a node in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list's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the front node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nt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front el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r" pos="839952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r" pos="839952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first removal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second rem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 flipH="1">
            <a:off x="4167000" y="512748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58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60" name=""/>
          <p:cNvSpPr/>
          <p:nvPr/>
        </p:nvSpPr>
        <p:spPr>
          <a:xfrm flipH="1">
            <a:off x="6171840" y="239544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81680" y="4800600"/>
            <a:ext cx="190512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6304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7772040" y="5189400"/>
            <a:ext cx="423720" cy="29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and returns the fir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NoSuchElementException on empty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remov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front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NoSuchEle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 = front.dat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remove any node in general from a li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it matter what the list's contents are before the remo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3505320" y="4724280"/>
          <a:ext cx="143172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755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7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79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4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6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588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from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 removing element at index 0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762120" y="48006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743120" y="51814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1952640" y="51526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3505320" y="47242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0" name=""/>
          <p:cNvSpPr/>
          <p:nvPr/>
        </p:nvSpPr>
        <p:spPr>
          <a:xfrm>
            <a:off x="4699080" y="5343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5499000" y="47340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2" name=""/>
          <p:cNvSpPr/>
          <p:nvPr/>
        </p:nvSpPr>
        <p:spPr>
          <a:xfrm flipH="1">
            <a:off x="6152760" y="514368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7" name=""/>
          <p:cNvSpPr/>
          <p:nvPr/>
        </p:nvSpPr>
        <p:spPr>
          <a:xfrm>
            <a:off x="4699080" y="26002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5499000" y="1990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6692760" y="2610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7493040" y="2009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11" name=""/>
          <p:cNvSpPr/>
          <p:nvPr/>
        </p:nvSpPr>
        <p:spPr>
          <a:xfrm flipH="1">
            <a:off x="8152920" y="24192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57712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55856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632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596200" y="56102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the only el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for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ange the front field to st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stead of a n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 we need a special case to handle thi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2057400"/>
            <a:ext cx="1905120" cy="1371600"/>
          </a:xfrm>
          <a:prstGeom prst="rect">
            <a:avLst/>
          </a:prstGeom>
          <a:solidFill>
            <a:srgbClr val="e6e6e6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15320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7162920" y="2438280"/>
            <a:ext cx="45720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62120" y="2057400"/>
            <a:ext cx="1904760" cy="137160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43120" y="24382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52640" y="2409480"/>
            <a:ext cx="1400040" cy="190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505320" y="19810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26" name=""/>
          <p:cNvSpPr/>
          <p:nvPr/>
        </p:nvSpPr>
        <p:spPr>
          <a:xfrm flipH="1">
            <a:off x="4171680" y="23814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67600" y="2847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objects and array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24280" y="45370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981080" y="4626000"/>
            <a:ext cx="2286000" cy="444600"/>
            <a:chOff x="1981080" y="4626000"/>
            <a:chExt cx="2286000" cy="444600"/>
          </a:xfrm>
        </p:grpSpPr>
        <p:sp>
          <p:nvSpPr>
            <p:cNvPr id="108" name=""/>
            <p:cNvSpPr/>
            <p:nvPr/>
          </p:nvSpPr>
          <p:spPr>
            <a:xfrm>
              <a:off x="1981080" y="462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484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9640" y="464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981080" y="5464080"/>
            <a:ext cx="2286000" cy="444240"/>
            <a:chOff x="1981080" y="5464080"/>
            <a:chExt cx="2286000" cy="444240"/>
          </a:xfrm>
        </p:grpSpPr>
        <p:sp>
          <p:nvSpPr>
            <p:cNvPr id="112" name=""/>
            <p:cNvSpPr/>
            <p:nvPr/>
          </p:nvSpPr>
          <p:spPr>
            <a:xfrm>
              <a:off x="1981080" y="5464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05320" y="552708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9640" y="548784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es value at given index from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0 &lt;= index &lt; siz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dex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pecial case: removing first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ont = fro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moving from elsewhere in the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index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urrent.next = current.nex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or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value as a parameter and adds that value to a sorted list in sorted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fo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152280" y="27432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133640" y="30193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371600" y="31719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5" name=""/>
          <p:cNvGraphicFramePr/>
          <p:nvPr/>
        </p:nvGraphicFramePr>
        <p:xfrm>
          <a:off x="2424240" y="27432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6" name=""/>
          <p:cNvSpPr/>
          <p:nvPr/>
        </p:nvSpPr>
        <p:spPr>
          <a:xfrm>
            <a:off x="361800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127400" y="27525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38" name=""/>
          <p:cNvGraphicFramePr/>
          <p:nvPr/>
        </p:nvGraphicFramePr>
        <p:xfrm>
          <a:off x="5878440" y="27716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39" name=""/>
          <p:cNvSpPr/>
          <p:nvPr/>
        </p:nvSpPr>
        <p:spPr>
          <a:xfrm flipH="1">
            <a:off x="6538680" y="3181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467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8644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24880" y="36720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33624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52280" y="510552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133640" y="538164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371600" y="5533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2424240" y="510552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8" name=""/>
          <p:cNvGraphicFramePr/>
          <p:nvPr/>
        </p:nvGraphicFramePr>
        <p:xfrm>
          <a:off x="581832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9" name=""/>
          <p:cNvGraphicFramePr/>
          <p:nvPr/>
        </p:nvGraphicFramePr>
        <p:xfrm>
          <a:off x="7569360" y="513396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0" name=""/>
          <p:cNvSpPr/>
          <p:nvPr/>
        </p:nvSpPr>
        <p:spPr>
          <a:xfrm flipH="1">
            <a:off x="8229240" y="554364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467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87736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61544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02468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63060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4140360" y="5114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57" name=""/>
          <p:cNvSpPr/>
          <p:nvPr/>
        </p:nvSpPr>
        <p:spPr>
          <a:xfrm>
            <a:off x="4199400" y="603396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308560" y="572436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ommon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17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references must be chang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ort of loop do we ne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should the loop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5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6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67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68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rst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correct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is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stops too late to affect the list in the right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7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8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6973200" y="2787480"/>
            <a:ext cx="1061640" cy="990360"/>
            <a:chOff x="6973200" y="2787480"/>
            <a:chExt cx="1061640" cy="990360"/>
          </a:xfrm>
        </p:grpSpPr>
        <p:sp>
          <p:nvSpPr>
            <p:cNvPr id="688" name=""/>
            <p:cNvSpPr/>
            <p:nvPr/>
          </p:nvSpPr>
          <p:spPr>
            <a:xfrm>
              <a:off x="6973200" y="278748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67480" y="324468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4"/>
          <p:cNvSpPr/>
          <p:nvPr/>
        </p:nvSpPr>
        <p:spPr>
          <a:xfrm>
            <a:off x="2971800" y="2209680"/>
            <a:ext cx="83988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idea: peeking ahea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ed version of the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.n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 the loop stops in the right pl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6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697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9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00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5223960" y="2743200"/>
            <a:ext cx="1061640" cy="990360"/>
            <a:chOff x="5223960" y="2743200"/>
            <a:chExt cx="1061640" cy="990360"/>
          </a:xfrm>
        </p:grpSpPr>
        <p:sp>
          <p:nvSpPr>
            <p:cNvPr id="706" name=""/>
            <p:cNvSpPr/>
            <p:nvPr/>
          </p:nvSpPr>
          <p:spPr>
            <a:xfrm>
              <a:off x="522396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824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end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xception in thread "main": java.lang.NullPointer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our code cras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17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1752480" y="2209680"/>
            <a:ext cx="393084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loop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rrection to our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must check for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fore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heck 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1081080" y="38098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062080" y="40863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300400" y="423864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3352680" y="38098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454644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0" name=""/>
          <p:cNvGraphicFramePr/>
          <p:nvPr/>
        </p:nvGraphicFramePr>
        <p:xfrm>
          <a:off x="5056200" y="38196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1" name=""/>
          <p:cNvGraphicFramePr/>
          <p:nvPr/>
        </p:nvGraphicFramePr>
        <p:xfrm>
          <a:off x="6807240" y="38386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32" name=""/>
          <p:cNvSpPr/>
          <p:nvPr/>
        </p:nvSpPr>
        <p:spPr>
          <a:xfrm flipH="1">
            <a:off x="7467120" y="424800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958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1524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3680" y="47386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262560" y="4429080"/>
            <a:ext cx="4971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976440" y="2743200"/>
            <a:ext cx="1061640" cy="990360"/>
            <a:chOff x="6976440" y="2743200"/>
            <a:chExt cx="1061640" cy="990360"/>
          </a:xfrm>
        </p:grpSpPr>
        <p:sp>
          <p:nvSpPr>
            <p:cNvPr id="738" name=""/>
            <p:cNvSpPr/>
            <p:nvPr/>
          </p:nvSpPr>
          <p:spPr>
            <a:xfrm>
              <a:off x="6976440" y="2743200"/>
              <a:ext cx="106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470720" y="3200400"/>
              <a:ext cx="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rd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front of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-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318960" y="251460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300320" y="279072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538280" y="294336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2590920" y="25146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378468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7" name=""/>
          <p:cNvGraphicFramePr/>
          <p:nvPr/>
        </p:nvGraphicFramePr>
        <p:xfrm>
          <a:off x="4294080" y="25239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48" name=""/>
          <p:cNvGraphicFramePr/>
          <p:nvPr/>
        </p:nvGraphicFramePr>
        <p:xfrm>
          <a:off x="6045120" y="25430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49" name=""/>
          <p:cNvSpPr/>
          <p:nvPr/>
        </p:nvSpPr>
        <p:spPr>
          <a:xfrm flipH="1">
            <a:off x="6705360" y="29527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634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435312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091560" y="344340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elem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500800" y="3133800"/>
            <a:ext cx="496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4"/>
          <p:cNvSpPr/>
          <p:nvPr/>
        </p:nvSpPr>
        <p:spPr>
          <a:xfrm>
            <a:off x="609480" y="5234040"/>
            <a:ext cx="15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"/>
          <p:cNvSpPr/>
          <p:nvPr/>
        </p:nvSpPr>
        <p:spPr>
          <a:xfrm>
            <a:off x="609480" y="2881440"/>
            <a:ext cx="1322640" cy="280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565200" y="1863720"/>
            <a:ext cx="440676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the fro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correction to our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f (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our code now handle every possibl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urth case to hand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(the front of) an empty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orted(4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will our code do in this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change to fix i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"/>
          <p:cNvSpPr/>
          <p:nvPr/>
        </p:nvSpPr>
        <p:spPr>
          <a:xfrm>
            <a:off x="1066680" y="2438280"/>
            <a:ext cx="1905120" cy="1038240"/>
          </a:xfrm>
          <a:prstGeom prst="rect">
            <a:avLst/>
          </a:prstGeom>
          <a:solidFill>
            <a:srgbClr val="e6e6e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ro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48040" y="2714760"/>
            <a:ext cx="457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2048040" y="2719440"/>
            <a:ext cx="45216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s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can store references to other objects a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Homework 3 (HTML Validato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Valid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reference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many references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stores a reference to its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24960" y="3581280"/>
            <a:ext cx="5850360" cy="505440"/>
            <a:chOff x="624960" y="3581280"/>
            <a:chExt cx="5850360" cy="505440"/>
          </a:xfrm>
        </p:grpSpPr>
        <p:sp>
          <p:nvSpPr>
            <p:cNvPr id="118" name=""/>
            <p:cNvSpPr/>
            <p:nvPr/>
          </p:nvSpPr>
          <p:spPr>
            <a:xfrm>
              <a:off x="2255760" y="3581280"/>
              <a:ext cx="421956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Queue&lt;HtmlTag&gt; tag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24960" y="3586320"/>
              <a:ext cx="167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Valid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256120" y="4419720"/>
            <a:ext cx="5289120" cy="446040"/>
            <a:chOff x="2256120" y="4419720"/>
            <a:chExt cx="5289120" cy="446040"/>
          </a:xfrm>
        </p:grpSpPr>
        <p:sp>
          <p:nvSpPr>
            <p:cNvPr id="121" name=""/>
            <p:cNvSpPr/>
            <p:nvPr/>
          </p:nvSpPr>
          <p:spPr>
            <a:xfrm>
              <a:off x="6843600" y="4419720"/>
              <a:ext cx="7016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341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2464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14800" y="4419720"/>
              <a:ext cx="60984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5320" y="4419720"/>
              <a:ext cx="60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46600" y="4419720"/>
              <a:ext cx="5587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24080" y="4419720"/>
              <a:ext cx="72252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o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441972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4865760"/>
              <a:ext cx="44211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46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053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148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62464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23412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3600" y="4419720"/>
              <a:ext cx="0" cy="44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545240" y="4419720"/>
              <a:ext cx="0" cy="446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6120" y="443376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6440" y="4871880"/>
            <a:ext cx="3458880" cy="886680"/>
            <a:chOff x="46440" y="4871880"/>
            <a:chExt cx="3458880" cy="886680"/>
          </a:xfrm>
        </p:grpSpPr>
        <p:sp>
          <p:nvSpPr>
            <p:cNvPr id="140" name=""/>
            <p:cNvSpPr/>
            <p:nvPr/>
          </p:nvSpPr>
          <p:spPr>
            <a:xfrm>
              <a:off x="152280" y="5253120"/>
              <a:ext cx="335304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440" y="487188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84920" y="5105520"/>
            <a:ext cx="3687480" cy="886320"/>
            <a:chOff x="4084920" y="5105520"/>
            <a:chExt cx="3687480" cy="886320"/>
          </a:xfrm>
        </p:grpSpPr>
        <p:sp>
          <p:nvSpPr>
            <p:cNvPr id="143" name=""/>
            <p:cNvSpPr/>
            <p:nvPr/>
          </p:nvSpPr>
          <p:spPr>
            <a:xfrm>
              <a:off x="4419720" y="5486400"/>
              <a:ext cx="3352680" cy="505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rivate String elemen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84920" y="5105520"/>
              <a:ext cx="109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HtmlT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95480" y="5562720"/>
            <a:ext cx="76320" cy="51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3886200"/>
            <a:ext cx="763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428640" y="4648320"/>
            <a:ext cx="6858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4648320"/>
            <a:ext cx="83844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62920" y="5791320"/>
            <a:ext cx="22860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486080" y="6157800"/>
            <a:ext cx="2247840" cy="395280"/>
            <a:chOff x="1486080" y="6157800"/>
            <a:chExt cx="2247840" cy="395280"/>
          </a:xfrm>
        </p:grpSpPr>
        <p:sp>
          <p:nvSpPr>
            <p:cNvPr id="151" name=""/>
            <p:cNvSpPr/>
            <p:nvPr/>
          </p:nvSpPr>
          <p:spPr>
            <a:xfrm>
              <a:off x="3389400" y="615780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48120" y="615780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05040" y="615780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362320" y="615780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2320" y="615780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655308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504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4812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89400" y="6157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33920" y="6157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86080" y="617220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24760" y="6310440"/>
            <a:ext cx="2233440" cy="395280"/>
            <a:chOff x="6224760" y="6310440"/>
            <a:chExt cx="2233440" cy="395280"/>
          </a:xfrm>
        </p:grpSpPr>
        <p:sp>
          <p:nvSpPr>
            <p:cNvPr id="164" name=""/>
            <p:cNvSpPr/>
            <p:nvPr/>
          </p:nvSpPr>
          <p:spPr>
            <a:xfrm>
              <a:off x="8113680" y="6310440"/>
              <a:ext cx="3445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72400" y="6310440"/>
              <a:ext cx="341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29680" y="6310440"/>
              <a:ext cx="3427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086600" y="6310440"/>
              <a:ext cx="3430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86600" y="631044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086600" y="6705720"/>
              <a:ext cx="13716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866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29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7240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13680" y="6310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58200" y="6310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4760" y="6324480"/>
              <a:ext cx="82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4"/>
          <p:cNvSpPr/>
          <p:nvPr/>
        </p:nvSpPr>
        <p:spPr>
          <a:xfrm>
            <a:off x="1954080" y="2314440"/>
            <a:ext cx="2686320" cy="281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version of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s given value to list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Precondition: Existing elements are sor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Sorted(int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front == null ||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 &lt;= front.dat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at front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ont = new ListNode(value, fron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in middle of 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Node current = fron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current.next != null &amp;&amp;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.next.data &lt; valu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ist fea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he following methods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e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to the list to return its size more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reconditions and exception tests to appropriat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"implements"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promises to contain each method in that interf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Otherwise it will fail to compile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haha, no methods! pw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ite a class that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benefi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 code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 the mo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allo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lymorphis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same code can work with different types of object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rc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vs. array 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wo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similar behavior, implemented in different way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1731960" y="2362320"/>
          <a:ext cx="26114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9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778" name=""/>
          <p:cNvSpPr/>
          <p:nvPr/>
        </p:nvSpPr>
        <p:spPr>
          <a:xfrm>
            <a:off x="126000" y="451332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731960" y="411480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0" name=""/>
          <p:cNvSpPr/>
          <p:nvPr/>
        </p:nvSpPr>
        <p:spPr>
          <a:xfrm>
            <a:off x="2925720" y="473400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3726000" y="412416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2" name=""/>
          <p:cNvSpPr/>
          <p:nvPr/>
        </p:nvSpPr>
        <p:spPr>
          <a:xfrm>
            <a:off x="4919760" y="474336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5719680" y="4143240"/>
          <a:ext cx="1346040" cy="79560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4" name=""/>
          <p:cNvSpPr/>
          <p:nvPr/>
        </p:nvSpPr>
        <p:spPr>
          <a:xfrm>
            <a:off x="893880" y="473400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684840" y="475776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"/>
          <p:cNvGraphicFramePr/>
          <p:nvPr/>
        </p:nvGraphicFramePr>
        <p:xfrm>
          <a:off x="7485120" y="415764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787" name=""/>
          <p:cNvSpPr/>
          <p:nvPr/>
        </p:nvSpPr>
        <p:spPr>
          <a:xfrm flipH="1">
            <a:off x="8145000" y="456732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1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2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w/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stCli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1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2 = new Linked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rocess(list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ocess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ntList 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1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2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add(9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list.remove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System.out.println(lis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Ts as interface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uses interfaces to describe AD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messed up on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; there's no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tack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terface, just a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7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the same as the empty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the str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null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does Java hav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it used f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043080" y="3352680"/>
          <a:ext cx="484344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793440"/>
                <a:gridCol w="793800"/>
                <a:gridCol w="793800"/>
                <a:gridCol w="79380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69920" y="373392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092320" y="39625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DT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sing Java's built-in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nsidered good practice to always declare collection variables using the corresponding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accept a collection as a parameter should also declare the parameter using the ADT interface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tutter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List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use ADT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we want more than one kind of list, queue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Each implementation is more efficient at certain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en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aster for adding/removing at the front/midd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search a huge data set for a value in short tim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lower but keeps the set of data in a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hoose the optimal implementation for your task, and if the rest of your code is written to use the ADT interfaces, it will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0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0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ntLis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1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1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at some of the methods are implemented the same way in both the array and linked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change our interface to a class?  Why /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capture this common behavio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9.6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ybrid between an interface and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s a superclass type that can contain method declarations (like an interface) and/or method bodies (like a clas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interfaces, abstract classes that cannot be instantiated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anno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create any objects of their typ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goes in an abstract clas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ation of common state and behavior that will be inherited by subclasses (parent class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lare generic behaviors that subclasses must implement (interface rol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claring an abstract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(any subclass must implement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ven if it has no abstract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reate variables (but not objects) of the abstrac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6280" indent="-20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Introduce an abstract class into the list hierarch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and 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classes that claim to implement an interface must implement all methods of that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t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Int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 classes can claim to implement an interface without writing its methods; subclasses must implement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Empty implements IntList {}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Chil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Emp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set reference fields of an object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 timmy = new Stude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49600" y="472428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1374840" y="5257800"/>
            <a:ext cx="101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im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438280" y="548640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549600" y="5334120"/>
          <a:ext cx="1860480" cy="495360"/>
        </p:xfrm>
        <a:graphic>
          <a:graphicData uri="http://schemas.openxmlformats.org/drawingml/2006/table">
            <a:tbl>
              <a:tblPr/>
              <a:tblGrid>
                <a:gridCol w="1066680"/>
                <a:gridCol w="7938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3657600" y="4495680"/>
            <a:ext cx="198108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abstract list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uperclass with common code for a list of integ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lass AbstractIntList implements IntLis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(size(), va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contains(int value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Of(value) &gt;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Empt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ize() =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xtends AbstractIntLis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 class vs.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both interfaces and abstract classes exist in Jav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bstract class can do everything an interface can do and m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why would someone ever use an interfa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 Java has single inherit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xtend only one super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implement many interf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interfaces allows a class to be part of a hierarchy (polymorphism) without using up its inheritance relationshi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8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8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41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3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4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5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47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ner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lass defined inside of anothe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reated a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non-sta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focus on standard non-static ("nested") inner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ne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es are hidden from other classes (encapsulat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objects can access/modify the fields of the outer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tretch/>
        </p:blipFill>
        <p:spPr>
          <a:xfrm>
            <a:off x="1523880" y="4952880"/>
            <a:ext cx="617220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ner class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uter (enclosing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ner (nested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is file can see the inner class or make objects of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nner object is associated with the outer object that created it, so it can access/modify that outer object's methods/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necessary, can refer to outer object a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uterClass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nvert the linked node into an inne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6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57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8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59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1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63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reate variables of that type, accept them as parameters, return them, or create arrays by casting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inn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&lt;T&gt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{}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n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class Inner {}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 outer class declares a type parameter, inner classes can also use that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ner class should NOT redeclare the type parameter.  (If you do, it will create a second type parameter with the same nam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timmy.name);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timmy.name == null) { ...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ethods don't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 and throw excep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We should be able to treat them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Some of their methods are implemented the same way (redundancy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Linked list carries around a clunky extra node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t is inefficient to get or remove each element of a linked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76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78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9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0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82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code is particularly slow on linked li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Integer&gt; list = new LinkedLis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siz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value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get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value % 2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remove(i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can we do to improve the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Iterator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 collection, regardless of its implement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 within a collection, and allows you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ossibly) remove or chang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nefit: A common way to examin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llection'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17000" y="5333760"/>
            <a:ext cx="3240360" cy="1295280"/>
            <a:chOff x="117000" y="5333760"/>
            <a:chExt cx="3240360" cy="1295280"/>
          </a:xfrm>
        </p:grpSpPr>
        <p:sp>
          <p:nvSpPr>
            <p:cNvPr id="889" name=""/>
            <p:cNvSpPr/>
            <p:nvPr/>
          </p:nvSpPr>
          <p:spPr>
            <a:xfrm>
              <a:off x="114768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21436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700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92" name=""/>
          <p:cNvGraphicFramePr/>
          <p:nvPr/>
        </p:nvGraphicFramePr>
        <p:xfrm>
          <a:off x="762120" y="4495680"/>
          <a:ext cx="2117520" cy="790560"/>
        </p:xfrm>
        <a:graphic>
          <a:graphicData uri="http://schemas.openxmlformats.org/drawingml/2006/table">
            <a:tbl>
              <a:tblPr/>
              <a:tblGrid>
                <a:gridCol w="78228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893" name=""/>
          <p:cNvSpPr/>
          <p:nvPr/>
        </p:nvSpPr>
        <p:spPr>
          <a:xfrm>
            <a:off x="3442320" y="48942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4" name=""/>
          <p:cNvGraphicFramePr/>
          <p:nvPr/>
        </p:nvGraphicFramePr>
        <p:xfrm>
          <a:off x="4435560" y="4495680"/>
          <a:ext cx="1346040" cy="790560"/>
        </p:xfrm>
        <a:graphic>
          <a:graphicData uri="http://schemas.openxmlformats.org/drawingml/2006/table">
            <a:tbl>
              <a:tblPr/>
              <a:tblGrid>
                <a:gridCol w="67608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5" name=""/>
          <p:cNvSpPr/>
          <p:nvPr/>
        </p:nvSpPr>
        <p:spPr>
          <a:xfrm>
            <a:off x="5638680" y="51055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6" name=""/>
          <p:cNvGraphicFramePr/>
          <p:nvPr/>
        </p:nvGraphicFramePr>
        <p:xfrm>
          <a:off x="6056280" y="45054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7" name=""/>
          <p:cNvSpPr/>
          <p:nvPr/>
        </p:nvSpPr>
        <p:spPr>
          <a:xfrm>
            <a:off x="7315200" y="5105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8" name=""/>
          <p:cNvGraphicFramePr/>
          <p:nvPr/>
        </p:nvGraphicFramePr>
        <p:xfrm>
          <a:off x="7696080" y="45244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899" name=""/>
          <p:cNvSpPr/>
          <p:nvPr/>
        </p:nvSpPr>
        <p:spPr>
          <a:xfrm>
            <a:off x="4191120" y="5105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8381520" y="49482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4613040" y="5333760"/>
            <a:ext cx="3240360" cy="1295280"/>
            <a:chOff x="4613040" y="5333760"/>
            <a:chExt cx="3240360" cy="1295280"/>
          </a:xfrm>
        </p:grpSpPr>
        <p:sp>
          <p:nvSpPr>
            <p:cNvPr id="902" name=""/>
            <p:cNvSpPr/>
            <p:nvPr/>
          </p:nvSpPr>
          <p:spPr>
            <a:xfrm>
              <a:off x="5643720" y="594360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710400" y="53337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13040" y="611028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vided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iterators for our array list and linked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need to suppor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123840" y="1371600"/>
          <a:ext cx="8915400" cy="214776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from the collection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throw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 no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Array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forbid multiple removes in a 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Array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ndex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Array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ndex &lt; siz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get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List.this.remove(index -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nked list itera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inkedList&lt;E&gt; extends AbstractIntList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perfect; doesn't support re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class LinkedIterator implements Iterator&lt;E&gt;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ListNode current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urrent position in 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nkedIterato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fro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has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urrent != null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 nex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 result = current.dat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urrent = current.nex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) {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t implemented for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 new UnsupportedOperationExcepti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-each loop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s can be iterated using a "for-each" loo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list = new Linked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String s : lis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collections do not work in this w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x this, your list mus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Iterable&lt;E&gt;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xtends Iterable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E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terator&lt;E&gt; 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E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9:32Z</dcterms:modified>
  <cp:revision>265</cp:revision>
  <dc:subject/>
  <dc:title>CSE 142 Python Slides</dc:title>
</cp:coreProperties>
</file>