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365F-1531-475B-B374-0F3E7F92543E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onus Slid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ain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in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solving collisions by storing a list at each ind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/search/remove must traverse lists, but the lists are sho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ossible to "run out" of indexes, unlike with prob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676520" y="3048120"/>
          <a:ext cx="566244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343400" y="493884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4572000" y="44956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343400" y="57769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4572000" y="53341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343400" y="41004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27" name=""/>
          <p:cNvSpPr/>
          <p:nvPr/>
        </p:nvSpPr>
        <p:spPr>
          <a:xfrm>
            <a:off x="4572000" y="3657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895480" y="41004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3124080" y="3657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867280" y="41004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6121440" y="3657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858000" y="410040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7112160" y="3657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514600" y="35053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429000" y="35053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886200" y="35053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876920" y="35053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409720" y="3505320"/>
            <a:ext cx="38124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400800" y="35053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 se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or List, Linked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ll methods assume value != null;  does not rehas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ashIntSet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static final int CAPACITY = 13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List&lt;Integer&gt;[] element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nstructs new empty 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HashSe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 = (List&lt;Integer&gt;[]) (new List[CAPACITY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dds the given value to this hash set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index = HF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elements[index]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index] = new LinkedList&lt;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index].add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hashing function to convert objects to index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HF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Math.abs(value) % elements.leng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al hash set cod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true if this set contains the given valu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contains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index = HF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elements[index] != null &amp;&a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index].contains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moves the given value from the set, if it exis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index = HF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elements[index]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ements[index].remove(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hash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has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Growing to a larger array when the table is too ful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not simply copy the old array to a new one.  (Why not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ad fac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atio of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# of element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/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ash table length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ny collections rehash when load factor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≅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7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use big prime numbers as hash table sizes to reduce collis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28600" y="4114800"/>
          <a:ext cx="8694720" cy="790560"/>
        </p:xfrm>
        <a:graphic>
          <a:graphicData uri="http://schemas.openxmlformats.org/drawingml/2006/table">
            <a:tbl>
              <a:tblPr/>
              <a:tblGrid>
                <a:gridCol w="385560"/>
                <a:gridCol w="385920"/>
                <a:gridCol w="385560"/>
                <a:gridCol w="414360"/>
                <a:gridCol w="425520"/>
                <a:gridCol w="426960"/>
                <a:gridCol w="425520"/>
                <a:gridCol w="412920"/>
                <a:gridCol w="414360"/>
                <a:gridCol w="41436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180120" y="516744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6408720" y="47242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180120" y="600552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6408720" y="5562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85960" y="516744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2014560" y="47242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757760" y="516744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4986360" y="47242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005280" y="516744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3259080" y="47242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843360" y="5167440"/>
          <a:ext cx="507960" cy="395280"/>
        </p:xfrm>
        <a:graphic>
          <a:graphicData uri="http://schemas.openxmlformats.org/drawingml/2006/table">
            <a:tbl>
              <a:tblPr/>
              <a:tblGrid>
                <a:gridCol w="50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4097160" y="478620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128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9986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4558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2293560" y="4572000"/>
            <a:ext cx="304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674440" y="4572000"/>
            <a:ext cx="304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5132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350960" y="4572000"/>
            <a:ext cx="304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265360" y="4572000"/>
            <a:ext cx="304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992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67136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71708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76280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80852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85424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649440" y="4572000"/>
            <a:ext cx="30456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easy to hash an integer I (use index 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I % length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hash other types of values (such as objects)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Java objects contain the following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public in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hashCod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an integer hash code for this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any object to find its preferred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mplement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pends on the type of object and its st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a String'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dds the ASCII values of its lett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write your ow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s in classes you wri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hash ma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hash map is just a set where the lists store key/value pai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      key   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.put("Marty", 1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.put("Jeff",  2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.put("Kasey", 2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.put("Stef",  35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 of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Integer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write an inn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de class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elds; the map store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Entry&g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676520" y="3505320"/>
          <a:ext cx="566244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5105520" y="4114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858000" y="4557600"/>
          <a:ext cx="1527120" cy="395280"/>
        </p:xfrm>
        <a:graphic>
          <a:graphicData uri="http://schemas.openxmlformats.org/drawingml/2006/table">
            <a:tbl>
              <a:tblPr/>
              <a:tblGrid>
                <a:gridCol w="1067040"/>
                <a:gridCol w="460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"Jeff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7112160" y="4114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514600" y="39625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2971800" y="39625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886200" y="39625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419720" y="39625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409720" y="3962520"/>
            <a:ext cx="38124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6400800" y="39625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875120" y="4572000"/>
          <a:ext cx="1528560" cy="395280"/>
        </p:xfrm>
        <a:graphic>
          <a:graphicData uri="http://schemas.openxmlformats.org/drawingml/2006/table">
            <a:tbl>
              <a:tblPr/>
              <a:tblGrid>
                <a:gridCol w="1020600"/>
                <a:gridCol w="507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"Mart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 flipH="1">
            <a:off x="5943600" y="3962520"/>
            <a:ext cx="380880" cy="30456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858000" y="5396040"/>
          <a:ext cx="1527120" cy="395280"/>
        </p:xfrm>
        <a:graphic>
          <a:graphicData uri="http://schemas.openxmlformats.org/drawingml/2006/table">
            <a:tbl>
              <a:tblPr/>
              <a:tblGrid>
                <a:gridCol w="1067040"/>
                <a:gridCol w="460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"Kasey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7112160" y="495288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83080" y="4114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276720" y="4572000"/>
          <a:ext cx="1336680" cy="395280"/>
        </p:xfrm>
        <a:graphic>
          <a:graphicData uri="http://schemas.openxmlformats.org/drawingml/2006/table">
            <a:tbl>
              <a:tblPr/>
              <a:tblGrid>
                <a:gridCol w="828720"/>
                <a:gridCol w="507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"Stef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ADT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1.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describes ADTs with interfa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rted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archTr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s a s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implemented a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store a BST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BST is essentially a set of integ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perations we suppor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there are other ways to implement a set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629400" y="2209680"/>
            <a:ext cx="1981080" cy="1752480"/>
            <a:chOff x="6629400" y="2209680"/>
            <a:chExt cx="1981080" cy="1752480"/>
          </a:xfrm>
        </p:grpSpPr>
        <p:sp>
          <p:nvSpPr>
            <p:cNvPr id="86" name=""/>
            <p:cNvSpPr/>
            <p:nvPr/>
          </p:nvSpPr>
          <p:spPr>
            <a:xfrm>
              <a:off x="8294040" y="3646080"/>
              <a:ext cx="3164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768080" y="3646080"/>
              <a:ext cx="31716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025480" y="3076200"/>
              <a:ext cx="31752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82840" y="3076200"/>
              <a:ext cx="3182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54520" y="2570040"/>
              <a:ext cx="3164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" name=""/>
            <p:cNvCxnSpPr>
              <a:stCxn id="90" idx="3"/>
              <a:endCxn id="89" idx="0"/>
            </p:cNvCxnSpPr>
            <p:nvPr/>
          </p:nvCxnSpPr>
          <p:spPr>
            <a:xfrm flipH="1">
              <a:off x="7041600" y="2856240"/>
              <a:ext cx="459360" cy="20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" name=""/>
            <p:cNvCxnSpPr>
              <a:stCxn id="90" idx="5"/>
              <a:endCxn id="88" idx="0"/>
            </p:cNvCxnSpPr>
            <p:nvPr/>
          </p:nvCxnSpPr>
          <p:spPr>
            <a:xfrm>
              <a:off x="7724880" y="2856240"/>
              <a:ext cx="459360" cy="204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3" name=""/>
            <p:cNvCxnSpPr>
              <a:stCxn id="88" idx="3"/>
              <a:endCxn id="87" idx="0"/>
            </p:cNvCxnSpPr>
            <p:nvPr/>
          </p:nvCxnSpPr>
          <p:spPr>
            <a:xfrm flipH="1">
              <a:off x="7926840" y="3358440"/>
              <a:ext cx="144720" cy="27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" name=""/>
            <p:cNvCxnSpPr>
              <a:stCxn id="88" idx="5"/>
              <a:endCxn id="86" idx="0"/>
            </p:cNvCxnSpPr>
            <p:nvPr/>
          </p:nvCxnSpPr>
          <p:spPr>
            <a:xfrm>
              <a:off x="8296560" y="3358440"/>
              <a:ext cx="155880" cy="27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5" name=""/>
            <p:cNvSpPr/>
            <p:nvPr/>
          </p:nvSpPr>
          <p:spPr>
            <a:xfrm>
              <a:off x="7152840" y="3646080"/>
              <a:ext cx="31824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29400" y="3646080"/>
              <a:ext cx="317160" cy="31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" name=""/>
            <p:cNvCxnSpPr>
              <a:stCxn id="89" idx="3"/>
              <a:endCxn id="96" idx="0"/>
            </p:cNvCxnSpPr>
            <p:nvPr/>
          </p:nvCxnSpPr>
          <p:spPr>
            <a:xfrm flipH="1">
              <a:off x="6787800" y="3361320"/>
              <a:ext cx="142200" cy="26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8" name=""/>
            <p:cNvCxnSpPr>
              <a:stCxn id="89" idx="5"/>
              <a:endCxn id="95" idx="0"/>
            </p:cNvCxnSpPr>
            <p:nvPr/>
          </p:nvCxnSpPr>
          <p:spPr>
            <a:xfrm>
              <a:off x="7153560" y="3358440"/>
              <a:ext cx="158760" cy="275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9" name=""/>
            <p:cNvSpPr/>
            <p:nvPr/>
          </p:nvSpPr>
          <p:spPr>
            <a:xfrm>
              <a:off x="6983640" y="22096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" name=""/>
            <p:cNvCxnSpPr>
              <a:stCxn id="99" idx="2"/>
              <a:endCxn id="90" idx="0"/>
            </p:cNvCxnSpPr>
            <p:nvPr/>
          </p:nvCxnSpPr>
          <p:spPr>
            <a:xfrm>
              <a:off x="7612200" y="2414520"/>
              <a:ext cx="1440" cy="14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ow to implement a se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s of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re in BST sorted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need this in order to add or search in O(lo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t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it doesn't really matter what order the elements appear in a set, so long as they can be added and searched quick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task of storing a set in an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would make a good ordering for the element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752480" y="5762520"/>
          <a:ext cx="56196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080"/>
                <a:gridCol w="460440"/>
                <a:gridCol w="460440"/>
                <a:gridCol w="493920"/>
                <a:gridCol w="493560"/>
                <a:gridCol w="493560"/>
                <a:gridCol w="493920"/>
                <a:gridCol w="493560"/>
                <a:gridCol w="493920"/>
                <a:gridCol w="49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752480" y="4800600"/>
          <a:ext cx="56196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080"/>
                <a:gridCol w="460440"/>
                <a:gridCol w="460440"/>
                <a:gridCol w="493920"/>
                <a:gridCol w="493560"/>
                <a:gridCol w="493560"/>
                <a:gridCol w="493920"/>
                <a:gridCol w="493560"/>
                <a:gridCol w="493920"/>
                <a:gridCol w="49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sh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map a value to an integer ind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ash t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n array that stores elements via hash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ash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algorithm that maps values to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possible hash function for integer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 algn="ctr"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F(I)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eng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11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11 % 10 ==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49 % 10 == 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24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24 % 10 == 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5948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7)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 7 % 10 ==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752480" y="5762520"/>
          <a:ext cx="56196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080"/>
                <a:gridCol w="460440"/>
                <a:gridCol w="460440"/>
                <a:gridCol w="493920"/>
                <a:gridCol w="493560"/>
                <a:gridCol w="493560"/>
                <a:gridCol w="493920"/>
                <a:gridCol w="493560"/>
                <a:gridCol w="493920"/>
                <a:gridCol w="49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fficiency of hash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HF(int i) {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hash fun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abs(i) % elementData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: simply 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ementData[HF(i)] = 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: check 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ementData[HF(i)] ==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: 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ementData[HF(i)] = 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runtime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1)!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OMGWTFBBQFA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there any problems with this approach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li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i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en a hash function maps two or mo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s to the same ind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1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2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et.add(54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ollides with 24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ision resolu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algorithm for fixing colli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52480" y="5029200"/>
          <a:ext cx="5619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440"/>
                <a:gridCol w="493560"/>
                <a:gridCol w="493920"/>
                <a:gridCol w="493560"/>
                <a:gridCol w="493560"/>
                <a:gridCol w="493920"/>
                <a:gridCol w="4935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b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solving a collision by moving to another inde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linear prob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Moves to the next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1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2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.add(54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ollides with 2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this a good approa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752480" y="5029200"/>
          <a:ext cx="56484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440"/>
                <a:gridCol w="493560"/>
                <a:gridCol w="493920"/>
                <a:gridCol w="507960"/>
                <a:gridCol w="507960"/>
                <a:gridCol w="493560"/>
                <a:gridCol w="493920"/>
                <a:gridCol w="49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uste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ust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lumps of elements at neighboring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lows down the hash table lookup; you must loop through th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1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49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2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.add(54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ollides with 2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.add(14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ollides with 24, then 5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.add(86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ollides with 14, then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w a lookup for 94 must look at 7 out of 10 total index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752480" y="5029200"/>
          <a:ext cx="56772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440"/>
                <a:gridCol w="493560"/>
                <a:gridCol w="507960"/>
                <a:gridCol w="507960"/>
                <a:gridCol w="508320"/>
                <a:gridCol w="493560"/>
                <a:gridCol w="507960"/>
                <a:gridCol w="493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19:33:43Z</dcterms:modified>
  <cp:revision>604</cp:revision>
  <dc:subject/>
  <dc:title>CSE 142 Python Slides</dc:title>
</cp:coreProperties>
</file>